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30.wmf" ContentType="image/x-wmf"/>
  <Override PartName="/ppt/media/image28.wmf" ContentType="image/x-wmf"/>
  <Override PartName="/ppt/media/image31.wmf" ContentType="image/x-wmf"/>
  <Override PartName="/ppt/media/image11.png" ContentType="image/png"/>
  <Override PartName="/ppt/media/image29.wmf" ContentType="image/x-wmf"/>
  <Override PartName="/ppt/media/image32.wmf" ContentType="image/x-wmf"/>
  <Override PartName="/ppt/media/image12.png" ContentType="image/png"/>
  <Override PartName="/ppt/media/image33.wmf" ContentType="image/x-wmf"/>
  <Override PartName="/ppt/media/image13.png" ContentType="image/png"/>
  <Override PartName="/ppt/media/image34.wmf" ContentType="image/x-wmf"/>
  <Override PartName="/ppt/media/image14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35.wmf" ContentType="image/x-wmf"/>
  <Override PartName="/ppt/media/image15.png" ContentType="image/png"/>
  <Override PartName="/ppt/media/image8.png" ContentType="image/png"/>
  <Override PartName="/ppt/media/image36.wmf" ContentType="image/x-wmf"/>
  <Override PartName="/ppt/media/image16.png" ContentType="image/png"/>
  <Override PartName="/ppt/media/image9.png" ContentType="image/png"/>
  <Override PartName="/ppt/media/image37.wmf" ContentType="image/x-wmf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5.png" ContentType="image/png"/>
  <Override PartName="/ppt/media/image17.png" ContentType="image/png"/>
  <Override PartName="/ppt/media/image20.wmf" ContentType="image/x-wmf"/>
  <Override PartName="/ppt/media/image21.wmf" ContentType="image/x-wmf"/>
  <Override PartName="/ppt/media/image1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D348-91C9-45F4-85F6-EFB92208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76D8-CABF-4679-AE8F-9113D916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C584-F996-4548-B8AB-DC721DD9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4C06-75E0-472A-9833-344C75D4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1294-CA55-4ADB-AFB1-B59D9968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7E3C-0C8A-4AD1-920C-2A01671D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A95C-6F3C-4061-8A3A-3C9530B0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FA5E-4976-454C-8DF7-105E36FD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893E-B497-4C7A-BEF8-A3FA4BDB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0E5A-71AC-4E82-B0FC-F2DD81B3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992E-12EA-4891-86C9-CDEEB457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5E6F-166A-4200-AA33-B5B22675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0E9A-8A4A-4B9B-820C-B4929F9F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CFB0-FF59-4F02-AC4D-842FC024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B3D5-2730-4F82-A66A-C663629A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2A0B-D9C7-4E52-990C-7CB7CA97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0512-A3E6-4769-913E-A8169365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1BDD1-D865-48F1-A400-EADC8A1E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4DD08-245E-4127-BCC6-B41E18E2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1FAD4-C587-4D6B-B5FB-0BC0C122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92FB9-1642-41D3-AB9C-B7E39EC2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A23E8-E2D2-4C97-BEE3-FA5182A5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72CB-0C8E-4F8B-BE0D-E9C0133F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D2AC1-05DB-43AC-8925-C131BF17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E5736-D050-4A94-9CFD-06F95C8B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FB69A-ECF3-41D7-AD8E-E1A5F777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41B5D-74AE-4E23-A398-B8E991DC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46448-29E3-48C3-91F8-58F581DE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4AD75-C0A0-407D-9FD4-BE1441CF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B1B61-9376-4EB6-B0AF-F984FA5F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01931-14A2-4B28-922C-E05987B6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2E95A-0D14-4172-8F53-B54107B7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2A37A-4817-4803-B58C-3E2F70E5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199C-3E96-4B6C-BD75-AEEADB89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714CC-3E6C-4FB4-9B9C-1D5FA2A9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F7754-5744-44BD-B77D-75D153C4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0A497-5BED-43E8-99D8-2095C154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F318E-BE3A-4E29-8663-9403A05E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91343-58BB-4939-B764-6B75C4A3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585BB-7030-433E-AE1C-896728B7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DD398-BE7C-4039-9F6F-63E33713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3FF4A-CBDA-410F-9BFD-020DF0EE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55658-7A5C-45EE-BD73-1CD3CA13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4C543-29D2-4F45-9688-F253DF4B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385D-6096-4956-A3F8-8CAF8E62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FB4C6-C93D-4CBE-9733-562B7B02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FF610-D82D-427D-8BC4-1AFF9E0F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96AE4-5F3A-47DD-9E12-D4BC052E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982D7-6538-488E-8FEF-2014FA42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CD7A7-66A5-4734-81DD-2F40E5A4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DFAE7-7CC4-49A4-8A11-9EB7882D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FDA5E-03BD-4508-8D7F-0C3B68E5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C30E2-C58D-4985-9CFC-25D29F14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B56F9-77BB-4AB7-82C2-038FEE1D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64F06-E0A0-46A7-B0E6-8FA22712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E096-58DE-4AD8-BBF8-A09B15C6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0526B-A766-48BA-B416-02A60D1C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B9D4C-24DC-4D02-A77B-8E5A673D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9BB96-03BE-4DCC-87ED-E6940A4B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B109D-FE20-48A2-9F76-38171EDF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15496-53AE-4CE9-BE73-B1DD16C5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7F896-48B9-4847-9318-78137585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A5B3D-B455-4862-8F13-F911188B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9509D-807A-4F6D-A750-A0033573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6C6A7-F0BD-43A9-96D9-ABAC9A3F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D770F-D3D8-4AA8-B551-F8674ED8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13A5-18AC-4378-81E4-1E5022F4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A8EB4-14AA-4047-8B10-AE375DE6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27333-D636-429D-B0C9-C6800AAE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506E6-C41C-48D7-934C-0B30577D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B6F9F-9C2F-4135-81EF-E474106A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937A8-0A00-437D-871E-EE376A3F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93F62-4B1B-4BAA-91EB-6A5DA7C5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06DD5-49B2-4C1F-A731-B74D419D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40355-9331-4A92-ABF2-20F1F52A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18617-19CB-4217-A4A1-F1D8899B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AFAEC-ED62-4B48-93BC-85186B63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299E-F68D-4F21-82F9-109AC72A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8FD6A-A2AA-4FCC-AA4D-72E6679A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86A7C-339D-4450-9DF0-9B5B428E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06A40-2DF6-4546-B48B-1EF32AC2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9A92F-D0BB-481D-9016-932727B5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CEDED-2398-4B50-886A-0CB1C531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E5A1-6888-4FF4-AB1A-2F0F224E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4964-F481-4065-A029-08D3A63CA7FA}" type="slidenum">
              <a:rPr b="0" lang="uk-UA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6FE5-280C-4726-A9F0-79B55CDA4489}" type="slidenum">
              <a:rPr b="0" lang="uk-UA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8059-D22F-4D12-B7D5-67FB91F20616}" type="slidenum">
              <a:rPr b="0" lang="uk-UA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BB7D-B184-4B12-80EC-C9355B2650CB}" type="slidenum">
              <a:rPr b="0" lang="uk-UA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9BFD-C5CD-4E7E-B2BC-8432E44CAA7F}" type="slidenum">
              <a:rPr b="0" lang="uk-UA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2C47-BD4D-458A-8663-6B317E7B8528}" type="slidenum">
              <a:rPr b="0" lang="uk-UA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6193-11A8-40DB-B6FE-2F2A730E5764}" type="slidenum">
              <a:rPr b="0" lang="uk-UA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0.wmf"/><Relationship Id="rId2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7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8920" y="357336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572314"/>
                </a:solidFill>
                <a:latin typeface="Corbel"/>
              </a:rPr>
              <a:t>Тема 1.2</a:t>
            </a:r>
            <a:br>
              <a:rPr sz="4800"/>
            </a:br>
            <a:r>
              <a:rPr b="1" lang="uk-UA" sz="4800" spc="-1" strike="noStrike">
                <a:solidFill>
                  <a:srgbClr val="572314"/>
                </a:solidFill>
                <a:latin typeface="Corbel"/>
              </a:rPr>
              <a:t>Похибка результату чисельного розв’язку задачі</a:t>
            </a:r>
            <a:br>
              <a:rPr sz="4800"/>
            </a:b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042560" y="18720"/>
            <a:ext cx="8101080" cy="16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Corbel"/>
              </a:rPr>
              <a:t>Значущими цифрами 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числа називаються всі цифри в його записі, починаючи з першої ненульової злів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TextBox 1"/>
          <p:cNvSpPr/>
          <p:nvPr/>
        </p:nvSpPr>
        <p:spPr>
          <a:xfrm>
            <a:off x="994320" y="1484280"/>
            <a:ext cx="21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Приклади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3" name="Рисунок 19" descr="Безымянный1.png"/>
          <p:cNvPicPr/>
          <p:nvPr/>
        </p:nvPicPr>
        <p:blipFill>
          <a:blip r:embed="rId1"/>
          <a:stretch/>
        </p:blipFill>
        <p:spPr>
          <a:xfrm>
            <a:off x="1360440" y="3986280"/>
            <a:ext cx="2144880" cy="47160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3"/>
          <p:cNvSpPr/>
          <p:nvPr/>
        </p:nvSpPr>
        <p:spPr>
          <a:xfrm>
            <a:off x="3633840" y="3887640"/>
            <a:ext cx="37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  <a:ea typeface="Arial"/>
              </a:rPr>
              <a:t>Значущі всі цифр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5" name="Рисунок 18" descr="Безымянный2.png"/>
          <p:cNvPicPr/>
          <p:nvPr/>
        </p:nvPicPr>
        <p:blipFill>
          <a:blip r:embed="rId2"/>
          <a:stretch/>
        </p:blipFill>
        <p:spPr>
          <a:xfrm>
            <a:off x="1301760" y="5157720"/>
            <a:ext cx="2058840" cy="50328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11"/>
          <p:cNvSpPr/>
          <p:nvPr/>
        </p:nvSpPr>
        <p:spPr>
          <a:xfrm>
            <a:off x="3633840" y="5138640"/>
            <a:ext cx="48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  <a:ea typeface="Arial"/>
              </a:rPr>
              <a:t>Значущі цифри 2, 6, 7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Прямоугольник 4"/>
          <p:cNvSpPr/>
          <p:nvPr/>
        </p:nvSpPr>
        <p:spPr>
          <a:xfrm>
            <a:off x="1143000" y="213372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Якщо дослід, проведений з точністю  до 0,0001  дав результат 0,0</a:t>
            </a:r>
            <a:r>
              <a:rPr b="0" lang="ru-RU" sz="2800" spc="-1" strike="noStrike">
                <a:solidFill>
                  <a:srgbClr val="00b050"/>
                </a:solidFill>
                <a:latin typeface="Corbel"/>
                <a:ea typeface="Arial"/>
              </a:rPr>
              <a:t>320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, то значущими цифрами будут 3, 2 и 0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971280" y="259920"/>
            <a:ext cx="8172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Якщо абсолютна похибка наближеного числа не перевищує половини одиниць розряду, що виражений </a:t>
            </a:r>
            <a:r>
              <a:rPr b="0" i="1" lang="en-US" sz="3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-ою значущою цифрою, то </a:t>
            </a:r>
            <a:r>
              <a:rPr b="0" i="1" lang="en-US" sz="3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 перших значущих цифр вважаються </a:t>
            </a:r>
            <a:r>
              <a:rPr b="0" lang="uk-UA" sz="3000" spc="-1" strike="noStrike">
                <a:solidFill>
                  <a:srgbClr val="00b050"/>
                </a:solidFill>
                <a:latin typeface="Corbel"/>
              </a:rPr>
              <a:t>вірними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. В математичних таблицях всі значущі цифри є вірним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81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orbel"/>
              </a:rPr>
              <a:t>Приклади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TextBox 1"/>
          <p:cNvSpPr/>
          <p:nvPr/>
        </p:nvSpPr>
        <p:spPr>
          <a:xfrm>
            <a:off x="1190880" y="3075120"/>
            <a:ext cx="13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Нехай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Рисунок 4" descr="Безымянный14.png"/>
          <p:cNvPicPr/>
          <p:nvPr/>
        </p:nvPicPr>
        <p:blipFill>
          <a:blip r:embed="rId1"/>
          <a:stretch/>
        </p:blipFill>
        <p:spPr>
          <a:xfrm>
            <a:off x="2475000" y="3013200"/>
            <a:ext cx="1931760" cy="600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"/>
          <p:cNvSpPr/>
          <p:nvPr/>
        </p:nvSpPr>
        <p:spPr>
          <a:xfrm>
            <a:off x="4708800" y="3013200"/>
            <a:ext cx="174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і відомо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2" name="Рисунок 5" descr="Безымянный15.png"/>
          <p:cNvPicPr/>
          <p:nvPr/>
        </p:nvPicPr>
        <p:blipFill>
          <a:blip r:embed="rId2"/>
          <a:stretch/>
        </p:blipFill>
        <p:spPr>
          <a:xfrm>
            <a:off x="6359400" y="3075120"/>
            <a:ext cx="1781280" cy="529920"/>
          </a:xfrm>
          <a:prstGeom prst="rect">
            <a:avLst/>
          </a:prstGeom>
          <a:ln w="0">
            <a:noFill/>
          </a:ln>
        </p:spPr>
      </p:pic>
      <p:sp>
        <p:nvSpPr>
          <p:cNvPr id="363" name="TextBox 6"/>
          <p:cNvSpPr/>
          <p:nvPr/>
        </p:nvSpPr>
        <p:spPr>
          <a:xfrm>
            <a:off x="545400" y="3535200"/>
            <a:ext cx="85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Визначити число вірних значущих цифр числа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4" name="Рисунок 6" descr="Безымянный8.png"/>
          <p:cNvPicPr/>
          <p:nvPr/>
        </p:nvPicPr>
        <p:blipFill>
          <a:blip r:embed="rId3"/>
          <a:stretch/>
        </p:blipFill>
        <p:spPr>
          <a:xfrm>
            <a:off x="8532720" y="3483000"/>
            <a:ext cx="432000" cy="45252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7" descr="Безымянный16.png"/>
          <p:cNvPicPr/>
          <p:nvPr/>
        </p:nvPicPr>
        <p:blipFill>
          <a:blip r:embed="rId4"/>
          <a:stretch/>
        </p:blipFill>
        <p:spPr>
          <a:xfrm>
            <a:off x="1347840" y="4098960"/>
            <a:ext cx="2093760" cy="100656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8" descr="Безымянный17.png"/>
          <p:cNvPicPr/>
          <p:nvPr/>
        </p:nvPicPr>
        <p:blipFill>
          <a:blip r:embed="rId5"/>
          <a:stretch/>
        </p:blipFill>
        <p:spPr>
          <a:xfrm>
            <a:off x="5576760" y="4059360"/>
            <a:ext cx="2400480" cy="100944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9" descr="Безымянный18.png"/>
          <p:cNvPicPr/>
          <p:nvPr/>
        </p:nvPicPr>
        <p:blipFill>
          <a:blip r:embed="rId6"/>
          <a:stretch/>
        </p:blipFill>
        <p:spPr>
          <a:xfrm>
            <a:off x="1347840" y="5589720"/>
            <a:ext cx="2146320" cy="1006200"/>
          </a:xfrm>
          <a:prstGeom prst="rect">
            <a:avLst/>
          </a:prstGeom>
          <a:ln w="0">
            <a:noFill/>
          </a:ln>
        </p:spPr>
      </p:pic>
      <p:sp>
        <p:nvSpPr>
          <p:cNvPr id="368" name="TextBox 11"/>
          <p:cNvSpPr/>
          <p:nvPr/>
        </p:nvSpPr>
        <p:spPr>
          <a:xfrm>
            <a:off x="3728520" y="5589720"/>
            <a:ext cx="57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Отже вірні значущі цифри 1,2,3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985680" y="0"/>
            <a:ext cx="79632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Число </a:t>
            </a:r>
            <a:r>
              <a:rPr b="0" i="1" lang="uk-UA" sz="2800" spc="-1" strike="noStrike">
                <a:solidFill>
                  <a:srgbClr val="000000"/>
                </a:solidFill>
                <a:latin typeface="Corbel"/>
              </a:rPr>
              <a:t>а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 є наближенням числа 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з 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значущими цифрами, якщо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 є найбільшим додатнім числом для яког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Объект 4"/>
              <p:cNvSpPr txBox="1"/>
              <p:nvPr/>
            </p:nvSpPr>
            <p:spPr>
              <a:xfrm>
                <a:off x="3387600" y="907920"/>
                <a:ext cx="236880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а</m:t>
                            </m:r>
                          </m:e>
                        </m:d>
                      </m:den>
                    </m:f>
                    <m:r>
                      <m:t xml:space="preserve">&lt;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Объект 25"/>
              <p:cNvSpPr txBox="1"/>
              <p:nvPr/>
            </p:nvSpPr>
            <p:spPr>
              <a:xfrm>
                <a:off x="3076560" y="2203560"/>
                <a:ext cx="595944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4159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59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592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же,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аближає число з 2 значущими цифрами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3" name="Rectangle 25"/>
          <p:cNvSpPr/>
          <p:nvPr/>
        </p:nvSpPr>
        <p:spPr>
          <a:xfrm>
            <a:off x="920520" y="1917360"/>
            <a:ext cx="1991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Приклади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Rectangle 26"/>
          <p:cNvSpPr/>
          <p:nvPr/>
        </p:nvSpPr>
        <p:spPr>
          <a:xfrm>
            <a:off x="4888440" y="50400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Объект 4"/>
              <p:cNvSpPr txBox="1"/>
              <p:nvPr/>
            </p:nvSpPr>
            <p:spPr>
              <a:xfrm>
                <a:off x="1206360" y="189000"/>
                <a:ext cx="5021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0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999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Объект 6"/>
              <p:cNvSpPr txBox="1"/>
              <p:nvPr/>
            </p:nvSpPr>
            <p:spPr>
              <a:xfrm>
                <a:off x="1082520" y="836640"/>
                <a:ext cx="8035920" cy="38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а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004</m:t>
                        </m:r>
                        <m:r>
                          <m:t xml:space="preserve">&lt;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5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05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005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000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971280" y="475920"/>
            <a:ext cx="796284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73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Точність наближеного обчислення залежить не від кількості значущих цифр, а від кількості вірних значущих цифр. Якщо число містить надлишкову кількість невірних значущих цифр, то його округлюють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3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3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Цифри </a:t>
            </a:r>
            <a:r>
              <a:rPr b="0" i="1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uk-UA" sz="3200" spc="-1" strike="noStrike" baseline="-25000">
                <a:solidFill>
                  <a:srgbClr val="000000"/>
                </a:solidFill>
                <a:latin typeface="Corbel"/>
              </a:rPr>
              <a:t>і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, і=1,2,3… наближеного числа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називаються </a:t>
            </a:r>
            <a:r>
              <a:rPr b="0" lang="uk-UA" sz="3200" spc="-1" strike="noStrike">
                <a:solidFill>
                  <a:srgbClr val="00b050"/>
                </a:solidFill>
                <a:latin typeface="Corbel"/>
              </a:rPr>
              <a:t>вірними у сенсі </a:t>
            </a:r>
            <a:r>
              <a:rPr b="0" lang="uk-UA" sz="3200" spc="-1" strike="noStrike">
                <a:solidFill>
                  <a:srgbClr val="00b050"/>
                </a:solidFill>
                <a:latin typeface="Symbol"/>
                <a:ea typeface="Symbol"/>
              </a:rPr>
              <a:t>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, якщо абсолютна похибка не перевищує </a:t>
            </a:r>
            <a:r>
              <a:rPr b="0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одиниць розряду останньої вірної цифри: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Объект 4"/>
              <p:cNvSpPr txBox="1"/>
              <p:nvPr/>
            </p:nvSpPr>
            <p:spPr>
              <a:xfrm>
                <a:off x="3276720" y="5732640"/>
                <a:ext cx="27716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  <m:r>
                      <m:t xml:space="preserve">≤</m:t>
                    </m:r>
                    <m:r>
                      <m:t xml:space="preserve">ω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3"/>
          <p:cNvSpPr/>
          <p:nvPr/>
        </p:nvSpPr>
        <p:spPr>
          <a:xfrm>
            <a:off x="1042920" y="171360"/>
            <a:ext cx="810108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  <a:ea typeface="Arial"/>
              </a:rPr>
              <a:t>При </a:t>
            </a:r>
            <a:r>
              <a:rPr b="0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  <a:ea typeface="Arial"/>
              </a:rPr>
              <a:t>=1 цифри </a:t>
            </a:r>
            <a:r>
              <a:rPr b="0" i="1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uk-UA" sz="3200" spc="-1" strike="noStrike" baseline="-25000">
                <a:solidFill>
                  <a:srgbClr val="000000"/>
                </a:solidFill>
                <a:latin typeface="Corbel"/>
                <a:ea typeface="Arial"/>
              </a:rPr>
              <a:t>і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  <a:ea typeface="Arial"/>
              </a:rPr>
              <a:t>, і=1,2,3… називаються вірними у </a:t>
            </a:r>
            <a:r>
              <a:rPr b="0" lang="uk-UA" sz="3200" spc="-1" strike="noStrike">
                <a:solidFill>
                  <a:srgbClr val="00b050"/>
                </a:solidFill>
                <a:latin typeface="Corbel"/>
                <a:ea typeface="Arial"/>
              </a:rPr>
              <a:t>широкому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  <a:ea typeface="Arial"/>
              </a:rPr>
              <a:t> сенсі, при </a:t>
            </a:r>
            <a:r>
              <a:rPr b="0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  <a:ea typeface="Arial"/>
              </a:rPr>
              <a:t>=0,5  – у </a:t>
            </a:r>
            <a:r>
              <a:rPr b="0" lang="uk-UA" sz="3200" spc="-1" strike="noStrike">
                <a:solidFill>
                  <a:srgbClr val="00b050"/>
                </a:solidFill>
                <a:latin typeface="Corbel"/>
                <a:ea typeface="Arial"/>
              </a:rPr>
              <a:t>вузькому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  <a:ea typeface="Arial"/>
              </a:rPr>
              <a:t> сенсі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Объект 4"/>
              <p:cNvSpPr txBox="1"/>
              <p:nvPr/>
            </p:nvSpPr>
            <p:spPr>
              <a:xfrm>
                <a:off x="2556000" y="1612800"/>
                <a:ext cx="374472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Прямоугольник 1"/>
          <p:cNvSpPr/>
          <p:nvPr/>
        </p:nvSpPr>
        <p:spPr>
          <a:xfrm>
            <a:off x="1204920" y="2781360"/>
            <a:ext cx="7777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ри виконанні арифметичних операцій над числами похибка результату  буде складатися з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охибки округлення вхідних даних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охибки арифметичної операції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охибки округлення результату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042560" y="0"/>
            <a:ext cx="799308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Формули для обчислення похибок при виконанні арифметичних операцій над числами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х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та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у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637f26"/>
                </a:solidFill>
                <a:latin typeface="Corbel"/>
              </a:rPr>
              <a:t>1. Похибка сум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Абсолютна похибка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Об'єкт 3"/>
              <p:cNvSpPr txBox="1"/>
              <p:nvPr/>
            </p:nvSpPr>
            <p:spPr>
              <a:xfrm>
                <a:off x="911160" y="2708280"/>
                <a:ext cx="63136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±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±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TextBox 4"/>
          <p:cNvSpPr/>
          <p:nvPr/>
        </p:nvSpPr>
        <p:spPr>
          <a:xfrm>
            <a:off x="999000" y="3421080"/>
            <a:ext cx="361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Відносна похибка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Об'єкт 5"/>
              <p:cNvSpPr txBox="1"/>
              <p:nvPr/>
            </p:nvSpPr>
            <p:spPr>
              <a:xfrm>
                <a:off x="1084320" y="4005360"/>
                <a:ext cx="62215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8" name="TextBox 6"/>
          <p:cNvSpPr/>
          <p:nvPr/>
        </p:nvSpPr>
        <p:spPr>
          <a:xfrm>
            <a:off x="555840" y="5513400"/>
            <a:ext cx="815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Аналогічно визначається похибка різниці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971280" y="115920"/>
            <a:ext cx="79628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orbel"/>
              </a:rPr>
              <a:t>Приклад. 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Задано три числа. Знайти наближення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 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для точного числа В, обчислити похибки. Результат округлити зі збереженням вірних цифр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Объект 10"/>
              <p:cNvSpPr txBox="1"/>
              <p:nvPr/>
            </p:nvSpPr>
            <p:spPr>
              <a:xfrm>
                <a:off x="1195560" y="3016080"/>
                <a:ext cx="666576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2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7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0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1" name="TextBox 11"/>
          <p:cNvSpPr/>
          <p:nvPr/>
        </p:nvSpPr>
        <p:spPr>
          <a:xfrm>
            <a:off x="1080360" y="24922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За умовою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Объект 13"/>
              <p:cNvSpPr txBox="1"/>
              <p:nvPr/>
            </p:nvSpPr>
            <p:spPr>
              <a:xfrm>
                <a:off x="1106640" y="1484280"/>
                <a:ext cx="8037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2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7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3" name="TextBox 14"/>
          <p:cNvSpPr/>
          <p:nvPr/>
        </p:nvSpPr>
        <p:spPr>
          <a:xfrm>
            <a:off x="843840" y="5094360"/>
            <a:ext cx="55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Гранична абсолютна похибка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Объект 15"/>
              <p:cNvSpPr txBox="1"/>
              <p:nvPr/>
            </p:nvSpPr>
            <p:spPr>
              <a:xfrm>
                <a:off x="1187280" y="5616720"/>
                <a:ext cx="543276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b</m:t>
                        </m:r>
                        <m:r>
                          <m:t xml:space="preserve">=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2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1042560" y="0"/>
            <a:ext cx="67690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7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Гранична відносна похибк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Объект 3"/>
              <p:cNvSpPr txBox="1"/>
              <p:nvPr/>
            </p:nvSpPr>
            <p:spPr>
              <a:xfrm>
                <a:off x="1258920" y="620640"/>
                <a:ext cx="58021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b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03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27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TextBox 4"/>
          <p:cNvSpPr/>
          <p:nvPr/>
        </p:nvSpPr>
        <p:spPr>
          <a:xfrm>
            <a:off x="1143000" y="163980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Отже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Объект 6"/>
              <p:cNvSpPr txBox="1"/>
              <p:nvPr/>
            </p:nvSpPr>
            <p:spPr>
              <a:xfrm>
                <a:off x="1236600" y="3308400"/>
                <a:ext cx="4743360" cy="30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b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Δb</m:t>
                        </m:r>
                        <m:r>
                          <m:t xml:space="preserve">≤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Δ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Δ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Δ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≤</m:t>
                        </m:r>
                        <m:r>
                          <m:t xml:space="preserve">0,1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Δ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Объект 7"/>
              <p:cNvSpPr txBox="1"/>
              <p:nvPr/>
            </p:nvSpPr>
            <p:spPr>
              <a:xfrm>
                <a:off x="2374920" y="1643040"/>
                <a:ext cx="44100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±</m:t>
                    </m:r>
                    <m:r>
                      <m:t xml:space="preserve">Δ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3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TextBox 8"/>
          <p:cNvSpPr/>
          <p:nvPr/>
        </p:nvSpPr>
        <p:spPr>
          <a:xfrm>
            <a:off x="673920" y="2178000"/>
            <a:ext cx="67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Знайдемо  вірні цифри  за формулою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Объект 9"/>
              <p:cNvSpPr txBox="1"/>
              <p:nvPr/>
            </p:nvSpPr>
            <p:spPr>
              <a:xfrm>
                <a:off x="1073160" y="2700360"/>
                <a:ext cx="6594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b</m:t>
                    </m:r>
                    <m:r>
                      <m:t xml:space="preserve">≤</m:t>
                    </m:r>
                    <m:r>
                      <m:t xml:space="preserve">ω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2" name="TextBox 11"/>
          <p:cNvSpPr/>
          <p:nvPr/>
        </p:nvSpPr>
        <p:spPr>
          <a:xfrm>
            <a:off x="900000" y="616572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Отже, в широкому сенсі вірними є 4 цифри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Объект 12"/>
              <p:cNvSpPr txBox="1"/>
              <p:nvPr/>
            </p:nvSpPr>
            <p:spPr>
              <a:xfrm>
                <a:off x="7596360" y="6110280"/>
                <a:ext cx="15159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1042920" y="188640"/>
            <a:ext cx="74995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охибка результату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Объект 3"/>
              <p:cNvSpPr txBox="1"/>
              <p:nvPr/>
            </p:nvSpPr>
            <p:spPr>
              <a:xfrm>
                <a:off x="1187280" y="836640"/>
                <a:ext cx="70599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Δb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кругл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Δb</m:t>
                        </m:r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  <m:r>
                              <m:t xml:space="preserve">,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6" name="TextBox 4"/>
          <p:cNvSpPr/>
          <p:nvPr/>
        </p:nvSpPr>
        <p:spPr>
          <a:xfrm>
            <a:off x="1215000" y="2496960"/>
            <a:ext cx="195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Відповідь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Объект 5"/>
              <p:cNvSpPr txBox="1"/>
              <p:nvPr/>
            </p:nvSpPr>
            <p:spPr>
              <a:xfrm>
                <a:off x="1322280" y="3051000"/>
                <a:ext cx="3970440" cy="180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03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δ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7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00080" y="-684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§1 </a:t>
            </a:r>
            <a:r>
              <a:rPr b="1" lang="uk-UA" sz="3900" spc="-1" strike="noStrike">
                <a:solidFill>
                  <a:srgbClr val="572314"/>
                </a:solidFill>
                <a:latin typeface="Corbel"/>
              </a:rPr>
              <a:t>Джерела та класифікація похибок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TextBox 5"/>
          <p:cNvSpPr/>
          <p:nvPr/>
        </p:nvSpPr>
        <p:spPr>
          <a:xfrm>
            <a:off x="3166920" y="1353960"/>
            <a:ext cx="352908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  <a:ea typeface="Arial"/>
              </a:rPr>
              <a:t>Похибка розв'язку  задачі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TextBox 12"/>
          <p:cNvSpPr/>
          <p:nvPr/>
        </p:nvSpPr>
        <p:spPr>
          <a:xfrm>
            <a:off x="2556000" y="4610160"/>
            <a:ext cx="2520720" cy="146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  <a:ea typeface="Arial"/>
              </a:rPr>
              <a:t>Похибка математичної моделі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Прямая соединительная линия 14"/>
          <p:cNvSpPr/>
          <p:nvPr/>
        </p:nvSpPr>
        <p:spPr>
          <a:xfrm>
            <a:off x="4932360" y="2368440"/>
            <a:ext cx="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Прямая соединительная линия 16"/>
          <p:cNvSpPr/>
          <p:nvPr/>
        </p:nvSpPr>
        <p:spPr>
          <a:xfrm>
            <a:off x="2303640" y="2708280"/>
            <a:ext cx="52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TextBox 20"/>
          <p:cNvSpPr/>
          <p:nvPr/>
        </p:nvSpPr>
        <p:spPr>
          <a:xfrm>
            <a:off x="1042920" y="3068640"/>
            <a:ext cx="252108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  <a:ea typeface="Arial"/>
              </a:rPr>
              <a:t>Неусувна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  <a:ea typeface="Arial"/>
              </a:rPr>
              <a:t>похибка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TextBox 21"/>
          <p:cNvSpPr/>
          <p:nvPr/>
        </p:nvSpPr>
        <p:spPr>
          <a:xfrm>
            <a:off x="6300720" y="3068640"/>
            <a:ext cx="251928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  <a:ea typeface="Arial"/>
              </a:rPr>
              <a:t>Похибка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  <a:ea typeface="Arial"/>
              </a:rPr>
              <a:t>методу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TextBox 22"/>
          <p:cNvSpPr/>
          <p:nvPr/>
        </p:nvSpPr>
        <p:spPr>
          <a:xfrm>
            <a:off x="5292720" y="4608360"/>
            <a:ext cx="327492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  <a:ea typeface="Arial"/>
              </a:rPr>
              <a:t>Обчислювальна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  <a:ea typeface="Arial"/>
              </a:rPr>
              <a:t>похибка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Прямая соединительная линия 24"/>
          <p:cNvSpPr/>
          <p:nvPr/>
        </p:nvSpPr>
        <p:spPr>
          <a:xfrm flipV="1">
            <a:off x="2303640" y="2707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Прямая соединительная линия 27"/>
          <p:cNvSpPr/>
          <p:nvPr/>
        </p:nvSpPr>
        <p:spPr>
          <a:xfrm flipV="1">
            <a:off x="7559640" y="2707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Прямая соединительная линия 29"/>
          <p:cNvSpPr/>
          <p:nvPr/>
        </p:nvSpPr>
        <p:spPr>
          <a:xfrm flipV="1">
            <a:off x="3816360" y="2711520"/>
            <a:ext cx="0" cy="189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Прямая соединительная линия 30"/>
          <p:cNvSpPr/>
          <p:nvPr/>
        </p:nvSpPr>
        <p:spPr>
          <a:xfrm flipV="1">
            <a:off x="6084720" y="2711520"/>
            <a:ext cx="0" cy="189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042560" y="-360"/>
            <a:ext cx="789156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37f26"/>
                </a:solidFill>
                <a:latin typeface="Corbel"/>
              </a:rPr>
              <a:t>2. Похибка добутк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Абсолютна похибка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Об'єкт 3"/>
              <p:cNvSpPr txBox="1"/>
              <p:nvPr/>
            </p:nvSpPr>
            <p:spPr>
              <a:xfrm>
                <a:off x="927000" y="1125360"/>
                <a:ext cx="63993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±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±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±</m:t>
                    </m:r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TextBox 4"/>
          <p:cNvSpPr/>
          <p:nvPr/>
        </p:nvSpPr>
        <p:spPr>
          <a:xfrm>
            <a:off x="945000" y="1700280"/>
            <a:ext cx="38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Відносна похибка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Об'єкт 5"/>
              <p:cNvSpPr txBox="1"/>
              <p:nvPr/>
            </p:nvSpPr>
            <p:spPr>
              <a:xfrm>
                <a:off x="1049400" y="2209680"/>
                <a:ext cx="4908600" cy="131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y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2" name="Місце для вмісту 2"/>
          <p:cNvSpPr/>
          <p:nvPr/>
        </p:nvSpPr>
        <p:spPr>
          <a:xfrm>
            <a:off x="1042920" y="3500280"/>
            <a:ext cx="789156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37f26"/>
                </a:solidFill>
                <a:latin typeface="Corbel"/>
                <a:ea typeface="Arial"/>
              </a:rPr>
              <a:t>3. Похибка ділення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  <a:ea typeface="Arial"/>
              </a:rPr>
              <a:t>Абсолютна похибка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Об'єкт 7"/>
              <p:cNvSpPr txBox="1"/>
              <p:nvPr/>
            </p:nvSpPr>
            <p:spPr>
              <a:xfrm>
                <a:off x="1022400" y="4508640"/>
                <a:ext cx="456732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y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4" name="TextBox 8"/>
          <p:cNvSpPr/>
          <p:nvPr/>
        </p:nvSpPr>
        <p:spPr>
          <a:xfrm>
            <a:off x="854640" y="6021360"/>
            <a:ext cx="361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Відносна похибка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Об'єкт 9"/>
              <p:cNvSpPr txBox="1"/>
              <p:nvPr/>
            </p:nvSpPr>
            <p:spPr>
              <a:xfrm>
                <a:off x="4594320" y="5985000"/>
                <a:ext cx="20397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979200" y="2421000"/>
            <a:ext cx="817236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58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37f26"/>
                </a:solidFill>
                <a:latin typeface="Corbel"/>
              </a:rPr>
              <a:t>5. Похибка функції, яка залежить від однієї змінної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8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Абсолютна похибка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8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Об'єкт 4"/>
              <p:cNvSpPr txBox="1"/>
              <p:nvPr/>
            </p:nvSpPr>
            <p:spPr>
              <a:xfrm>
                <a:off x="1185840" y="4076640"/>
                <a:ext cx="42498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r>
                          <m:t xml:space="preserve">Δf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8" name="TextBox 5"/>
          <p:cNvSpPr/>
          <p:nvPr/>
        </p:nvSpPr>
        <p:spPr>
          <a:xfrm>
            <a:off x="999000" y="1550880"/>
            <a:ext cx="361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Відносна похибка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Об'єкт 6"/>
              <p:cNvSpPr txBox="1"/>
              <p:nvPr/>
            </p:nvSpPr>
            <p:spPr>
              <a:xfrm>
                <a:off x="4572000" y="5283360"/>
                <a:ext cx="270360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Δf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0" name="Місце для вмісту 2"/>
          <p:cNvSpPr/>
          <p:nvPr/>
        </p:nvSpPr>
        <p:spPr>
          <a:xfrm>
            <a:off x="1009800" y="31680"/>
            <a:ext cx="81723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37f26"/>
                </a:solidFill>
                <a:latin typeface="Corbel"/>
                <a:ea typeface="Arial"/>
              </a:rPr>
              <a:t>4. Похибка степеневої функції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  <a:ea typeface="Arial"/>
              </a:rPr>
              <a:t>Абсолютна похибка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Об'єкт 8"/>
              <p:cNvSpPr txBox="1"/>
              <p:nvPr/>
            </p:nvSpPr>
            <p:spPr>
              <a:xfrm>
                <a:off x="4734000" y="577800"/>
                <a:ext cx="3352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2" name="TextBox 9"/>
          <p:cNvSpPr/>
          <p:nvPr/>
        </p:nvSpPr>
        <p:spPr>
          <a:xfrm>
            <a:off x="969480" y="5649840"/>
            <a:ext cx="361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Відносна похибка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Об'єкт 10"/>
              <p:cNvSpPr txBox="1"/>
              <p:nvPr/>
            </p:nvSpPr>
            <p:spPr>
              <a:xfrm>
                <a:off x="4572000" y="1471680"/>
                <a:ext cx="25909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1042560" y="11160"/>
            <a:ext cx="8101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615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Corbel"/>
              </a:rPr>
              <a:t>Приклад.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Обчислити  значення функції та оцінити абсолютну похибку, взявши значення аргументів з чотирма вірними числами. Будемо вважати похибки аргументів однаковими: 0,0005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Об'єкт 3"/>
              <p:cNvSpPr txBox="1"/>
              <p:nvPr/>
            </p:nvSpPr>
            <p:spPr>
              <a:xfrm>
                <a:off x="5219640" y="1652760"/>
                <a:ext cx="31464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6" name="TextBox 4"/>
          <p:cNvSpPr/>
          <p:nvPr/>
        </p:nvSpPr>
        <p:spPr>
          <a:xfrm>
            <a:off x="934920" y="2395440"/>
            <a:ext cx="41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Визначимо аргументи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Об'єкт 5"/>
              <p:cNvSpPr txBox="1"/>
              <p:nvPr/>
            </p:nvSpPr>
            <p:spPr>
              <a:xfrm>
                <a:off x="1054080" y="2922480"/>
                <a:ext cx="755820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36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4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8" name="TextBox 7"/>
          <p:cNvSpPr/>
          <p:nvPr/>
        </p:nvSpPr>
        <p:spPr>
          <a:xfrm>
            <a:off x="610920" y="4064040"/>
            <a:ext cx="74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Обчислимо наближене значення функції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Об'єкт 8"/>
              <p:cNvSpPr txBox="1"/>
              <p:nvPr/>
            </p:nvSpPr>
            <p:spPr>
              <a:xfrm>
                <a:off x="1054080" y="4383000"/>
                <a:ext cx="7910640" cy="24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r>
                                  <m:t xml:space="preserve">π</m:t>
                                </m:r>
                              </m:e>
                            </m:rad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36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2</m:t>
                                </m:r>
                              </m:e>
                            </m:rad>
                          </m:den>
                        </m:f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1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947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8275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8099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132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1166400" y="115920"/>
            <a:ext cx="796284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6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Абсолютна похибка </a:t>
            </a:r>
            <a:r>
              <a:rPr b="0" lang="uk-UA" sz="2800" spc="-1" strike="noStrike">
                <a:solidFill>
                  <a:srgbClr val="ff0000"/>
                </a:solidFill>
                <a:latin typeface="Corbel"/>
              </a:rPr>
              <a:t>функції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Объект 2"/>
              <p:cNvSpPr txBox="1"/>
              <p:nvPr/>
            </p:nvSpPr>
            <p:spPr>
              <a:xfrm>
                <a:off x="1258920" y="692280"/>
                <a:ext cx="7132680" cy="43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f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d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d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d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36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25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9423</m:t>
                        </m:r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ad>
                                  <m:deg>
                                    <m:r>
                                      <m:t xml:space="preserve">3</m:t>
                                    </m:r>
                                  </m:deg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4</m:t>
                                        </m:r>
                                      </m:sup>
                                    </m:sSubSup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2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243</m:t>
                        </m:r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8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729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3" name="Rectangle 7"/>
          <p:cNvSpPr/>
          <p:nvPr/>
        </p:nvSpPr>
        <p:spPr>
          <a:xfrm>
            <a:off x="732240" y="5035320"/>
            <a:ext cx="681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  <a:ea typeface="TimesNewRoman"/>
              </a:rPr>
              <a:t>Отже абсолютна похибка результату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Объект 4"/>
              <p:cNvSpPr txBox="1"/>
              <p:nvPr/>
            </p:nvSpPr>
            <p:spPr>
              <a:xfrm>
                <a:off x="1116000" y="5799240"/>
                <a:ext cx="777708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,19423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0,07243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2,47295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0,0005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,0013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1042560" y="34560"/>
            <a:ext cx="8209080" cy="10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8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Приклад.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Обчислити значення Х та визначити його похибк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37" name="Объект 4"/>
          <p:cNvGraphicFramePr/>
          <p:nvPr/>
        </p:nvGraphicFramePr>
        <p:xfrm>
          <a:off x="1258920" y="1052640"/>
          <a:ext cx="1800360" cy="12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052640"/>
                    <a:ext cx="180036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40" name="Объект 6"/>
          <p:cNvGraphicFramePr/>
          <p:nvPr/>
        </p:nvGraphicFramePr>
        <p:xfrm>
          <a:off x="3564000" y="1268280"/>
          <a:ext cx="201600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1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1268280"/>
                    <a:ext cx="20160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43" name="Объект 8"/>
          <p:cNvGraphicFramePr/>
          <p:nvPr/>
        </p:nvGraphicFramePr>
        <p:xfrm>
          <a:off x="3564000" y="1773360"/>
          <a:ext cx="194472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4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1773360"/>
                    <a:ext cx="19447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46" name="Объект 10"/>
          <p:cNvGraphicFramePr/>
          <p:nvPr/>
        </p:nvGraphicFramePr>
        <p:xfrm>
          <a:off x="5940360" y="1413000"/>
          <a:ext cx="2482920" cy="40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7" name="Объект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0360" y="1413000"/>
                    <a:ext cx="2482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49" name="Объект 12"/>
          <p:cNvGraphicFramePr/>
          <p:nvPr/>
        </p:nvGraphicFramePr>
        <p:xfrm>
          <a:off x="1171440" y="2349360"/>
          <a:ext cx="1857600" cy="57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0" name="Объект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71440" y="2349360"/>
                    <a:ext cx="185760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52" name="Объект 14"/>
          <p:cNvGraphicFramePr/>
          <p:nvPr/>
        </p:nvGraphicFramePr>
        <p:xfrm>
          <a:off x="3276720" y="2276640"/>
          <a:ext cx="1800000" cy="599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3" name="Объект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2276640"/>
                    <a:ext cx="180000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55" name="Объект 16"/>
          <p:cNvGraphicFramePr/>
          <p:nvPr/>
        </p:nvGraphicFramePr>
        <p:xfrm>
          <a:off x="5219640" y="2276640"/>
          <a:ext cx="2205000" cy="576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6" name="Объект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19640" y="2276640"/>
                    <a:ext cx="22050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58" name="Объект 18"/>
          <p:cNvGraphicFramePr/>
          <p:nvPr/>
        </p:nvGraphicFramePr>
        <p:xfrm>
          <a:off x="1332000" y="3068640"/>
          <a:ext cx="5599080" cy="936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9" name="Объект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32000" y="3068640"/>
                    <a:ext cx="55990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61" name="Объект 20"/>
          <p:cNvGraphicFramePr/>
          <p:nvPr/>
        </p:nvGraphicFramePr>
        <p:xfrm>
          <a:off x="1042920" y="4149720"/>
          <a:ext cx="7904160" cy="503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2" name="Объект 2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42920" y="4149720"/>
                    <a:ext cx="79041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64" name="Объект 22"/>
          <p:cNvGraphicFramePr/>
          <p:nvPr/>
        </p:nvGraphicFramePr>
        <p:xfrm>
          <a:off x="1116000" y="4797360"/>
          <a:ext cx="4194360" cy="503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65" name="Объект 2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116000" y="4797360"/>
                    <a:ext cx="41943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67" name="Объект 24"/>
          <p:cNvGraphicFramePr/>
          <p:nvPr/>
        </p:nvGraphicFramePr>
        <p:xfrm>
          <a:off x="1042920" y="5445000"/>
          <a:ext cx="8239320" cy="1008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68" name="Объект 2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042920" y="5445000"/>
                    <a:ext cx="823932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971280" y="0"/>
            <a:ext cx="796284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0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Приклад.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Обчислити значення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та визначити його похибк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0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Объект 4"/>
              <p:cNvSpPr txBox="1"/>
              <p:nvPr/>
            </p:nvSpPr>
            <p:spPr>
              <a:xfrm>
                <a:off x="1258920" y="1125360"/>
                <a:ext cx="23479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74" name="Объект 8"/>
          <p:cNvGraphicFramePr/>
          <p:nvPr/>
        </p:nvGraphicFramePr>
        <p:xfrm>
          <a:off x="3924360" y="1484280"/>
          <a:ext cx="243684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Объект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484280"/>
                    <a:ext cx="24368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77" name="Объект 10"/>
          <p:cNvGraphicFramePr/>
          <p:nvPr/>
        </p:nvGraphicFramePr>
        <p:xfrm>
          <a:off x="1116000" y="2060640"/>
          <a:ext cx="376380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8" name="Объект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2060640"/>
                    <a:ext cx="37638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80" name="Объект 12"/>
          <p:cNvGraphicFramePr/>
          <p:nvPr/>
        </p:nvGraphicFramePr>
        <p:xfrm>
          <a:off x="1057320" y="2637000"/>
          <a:ext cx="8086680" cy="43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1" name="Объект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57320" y="2637000"/>
                    <a:ext cx="808668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83" name="Объект 14"/>
          <p:cNvGraphicFramePr/>
          <p:nvPr/>
        </p:nvGraphicFramePr>
        <p:xfrm>
          <a:off x="1058760" y="3213000"/>
          <a:ext cx="824400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4" name="Объект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58760" y="3213000"/>
                    <a:ext cx="82440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86" name="Объект 16"/>
          <p:cNvGraphicFramePr/>
          <p:nvPr/>
        </p:nvGraphicFramePr>
        <p:xfrm>
          <a:off x="1116000" y="3716280"/>
          <a:ext cx="7434360" cy="10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7" name="Объект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16000" y="3716280"/>
                    <a:ext cx="74343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89" name="Объект 18"/>
          <p:cNvGraphicFramePr/>
          <p:nvPr/>
        </p:nvGraphicFramePr>
        <p:xfrm>
          <a:off x="1116000" y="4653000"/>
          <a:ext cx="7913880" cy="1152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0" name="Объект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16000" y="4653000"/>
                    <a:ext cx="79138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92" name="Объект 20"/>
          <p:cNvGraphicFramePr/>
          <p:nvPr/>
        </p:nvGraphicFramePr>
        <p:xfrm>
          <a:off x="1187280" y="6093000"/>
          <a:ext cx="4554720" cy="50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93" name="Объект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87280" y="6093000"/>
                    <a:ext cx="45547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4" name="Объект 21"/>
              <p:cNvSpPr txBox="1"/>
              <p:nvPr/>
            </p:nvSpPr>
            <p:spPr>
              <a:xfrm>
                <a:off x="3860640" y="981000"/>
                <a:ext cx="31831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67</m:t>
                    </m:r>
                    <m:r>
                      <m:t xml:space="preserve">(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95" name="Прямая со стрелкой 23"/>
          <p:cNvCxnSpPr/>
          <p:nvPr/>
        </p:nvCxnSpPr>
        <p:spPr>
          <a:xfrm flipH="1">
            <a:off x="3850920" y="2133720"/>
            <a:ext cx="2234160" cy="504000"/>
          </a:xfrm>
          <a:prstGeom prst="straightConnector1">
            <a:avLst/>
          </a:prstGeom>
          <a:ln w="1908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96" name="TextBox 25"/>
          <p:cNvSpPr/>
          <p:nvPr/>
        </p:nvSpPr>
        <p:spPr>
          <a:xfrm>
            <a:off x="6084720" y="1900080"/>
            <a:ext cx="2664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Абсолютна похибка + похибка округленн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71280" y="115920"/>
            <a:ext cx="796284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75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охибка </a:t>
            </a:r>
            <a:r>
              <a:rPr b="0" lang="uk-UA" sz="3200" spc="-1" strike="noStrike">
                <a:solidFill>
                  <a:srgbClr val="ff0000"/>
                </a:solidFill>
                <a:latin typeface="Corbel"/>
              </a:rPr>
              <a:t>математичної моделі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ов'язана з тим, модель описує явище наближено, з припущеннями і спрощенням. Тому треба мати уявлення про точність кінцевого результату, щоб спростити побудову математичної моделі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5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5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Corbel"/>
              </a:rPr>
              <a:t>Неусувна похибка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зумовлена похибками у вхідних даних задачі. Вона залежить від методу розв'язування задачі. Щоб правильно обрати метод і визначити точність обчислень, важливо знати межі неусувної похибк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042560" y="259920"/>
            <a:ext cx="789156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77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0000"/>
                </a:solidFill>
                <a:latin typeface="Corbel"/>
              </a:rPr>
              <a:t>Похибка методу 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пов'язана з необхідністю заміни неперервної моделі дискретною або з обривом нескінченого ітераційного процесу після скінченої кількості операцій. Наприклад, заміна інтегрування підрахунком сум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777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777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0000"/>
                </a:solidFill>
                <a:latin typeface="Corbel"/>
              </a:rPr>
              <a:t>Обчислювальні похибки 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пов'язані з похибками округлення чисел. Обчислення, як ручні, так і на ЕОМ, виконують з певною кількістю значущих цифр. Похибки округлення можуть по-різному впливати на кінцевий результат. Обчислювальний алгоритм треба будувати так, щоб похибка округлень була значно меншою від усіх інших похибок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31640" y="34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§2 </a:t>
            </a:r>
            <a:r>
              <a:rPr b="1" lang="uk-UA" sz="3900" spc="-1" strike="noStrike">
                <a:solidFill>
                  <a:srgbClr val="572314"/>
                </a:solidFill>
                <a:latin typeface="Corbel"/>
              </a:rPr>
              <a:t>Похибка арифметичних операцій та функці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042560" y="1267920"/>
            <a:ext cx="7993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Corbel"/>
              </a:rPr>
              <a:t>Абсолютною похибкою 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наближеного числа називається різниця  між цим числом і його точним значенням взята за модулем</a:t>
            </a: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1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Объект 3"/>
              <p:cNvSpPr txBox="1"/>
              <p:nvPr/>
            </p:nvSpPr>
            <p:spPr>
              <a:xfrm>
                <a:off x="1908000" y="2924280"/>
                <a:ext cx="619308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a</m:t>
                        </m:r>
                        <m:r>
                          <m:t xml:space="preserve">≥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же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Δa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Δ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бо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±</m:t>
                        </m:r>
                        <m:r>
                          <m:t xml:space="preserve">Δ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36" name="Прямоугольник 3" descr=""/>
          <p:cNvPicPr/>
          <p:nvPr/>
        </p:nvPicPr>
        <p:blipFill>
          <a:blip r:embed="rId1"/>
          <a:stretch/>
        </p:blipFill>
        <p:spPr>
          <a:xfrm>
            <a:off x="1042920" y="4218120"/>
            <a:ext cx="81010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3"/>
          <p:cNvSpPr/>
          <p:nvPr/>
        </p:nvSpPr>
        <p:spPr>
          <a:xfrm>
            <a:off x="1116000" y="18900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Corbel"/>
                <a:ea typeface="Arial"/>
              </a:rPr>
              <a:t>Відносною похибкою 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  <a:ea typeface="Arial"/>
              </a:rPr>
              <a:t>наближеного числа називається відношення абсолютної похибки наближеного числа до самого (точного) числа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Объект 4"/>
              <p:cNvSpPr txBox="1"/>
              <p:nvPr/>
            </p:nvSpPr>
            <p:spPr>
              <a:xfrm>
                <a:off x="2700360" y="1628640"/>
                <a:ext cx="491652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або</m:t>
                    </m:r>
                    <m:r>
                      <m:t xml:space="preserve"> </m:t>
                    </m:r>
                    <m:r>
                      <m:t xml:space="preserve">δ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a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9" name="Прямоугольник 1" descr=""/>
          <p:cNvPicPr/>
          <p:nvPr/>
        </p:nvPicPr>
        <p:blipFill>
          <a:blip r:embed="rId1"/>
          <a:stretch/>
        </p:blipFill>
        <p:spPr>
          <a:xfrm>
            <a:off x="1262160" y="3498840"/>
            <a:ext cx="7705800" cy="1397160"/>
          </a:xfrm>
          <a:prstGeom prst="rect">
            <a:avLst/>
          </a:prstGeom>
          <a:ln w="0">
            <a:noFill/>
          </a:ln>
        </p:spPr>
      </p:pic>
      <p:pic>
        <p:nvPicPr>
          <p:cNvPr id="340" name="TextBox 2" descr=""/>
          <p:cNvPicPr/>
          <p:nvPr/>
        </p:nvPicPr>
        <p:blipFill>
          <a:blip r:embed="rId2"/>
          <a:stretch/>
        </p:blipFill>
        <p:spPr>
          <a:xfrm>
            <a:off x="3730680" y="5022720"/>
            <a:ext cx="27622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042560" y="20160"/>
            <a:ext cx="8101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Приклад.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Розглянемо число </a:t>
            </a:r>
            <a:r>
              <a:rPr b="0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. Число 3,14 – наближене значення числа </a:t>
            </a:r>
            <a:r>
              <a:rPr b="0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=3,14159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Объект 3"/>
              <p:cNvSpPr txBox="1"/>
              <p:nvPr/>
            </p:nvSpPr>
            <p:spPr>
              <a:xfrm>
                <a:off x="1187280" y="1844640"/>
                <a:ext cx="7748640" cy="424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415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бсолютн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охибка:</m:t>
                        </m:r>
                      </m:e>
                      <m:e>
                        <m:r>
                          <m:t xml:space="preserve">Δa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159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5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ідносн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охибка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δ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a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159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506369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δ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51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971280" y="188640"/>
            <a:ext cx="79628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Приклад.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1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овжина листа паперу А4 дорівнює (29,7 ± 0,1) см. А відстань між містом А і містом В дорівнює  (650± 1) км. Абсолютна похибка в першому випадку не перевищує 1 мм, а в другому – 1 к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1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рівняти точність цих вимірюван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1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1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ля листа паперу відносна похибка у відсотковому співвідношенні становить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1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0,1/29,7 ·100% = 0,33%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1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ля відстані між містами відносна похибка становить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1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/650 · 100% = 0,15%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1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1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тже відстань між містами виміряно точніше, ніж довжину папер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"/>
          <p:cNvSpPr/>
          <p:nvPr/>
        </p:nvSpPr>
        <p:spPr>
          <a:xfrm>
            <a:off x="1133640" y="1722240"/>
            <a:ext cx="8028000" cy="191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  <a:ea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  <a:ea typeface="Arial"/>
              </a:rPr>
              <a:t>де 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ill Sans MT"/>
                <a:ea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,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ill Sans MT"/>
                <a:ea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,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ill Sans MT"/>
                <a:ea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,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ill Sans MT"/>
                <a:ea typeface="Arial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ill Sans MT"/>
                <a:ea typeface="Arial"/>
              </a:rPr>
              <a:t>k-1 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  <a:ea typeface="Arial"/>
              </a:rPr>
              <a:t>   можуть набувати значення 0, 1, 2, 3, 4, 5, 6, 7, 8, 9, а число 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ill Sans MT"/>
                <a:ea typeface="Arial"/>
              </a:rPr>
              <a:t>k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  <a:ea typeface="Arial"/>
              </a:rPr>
              <a:t> ― значення 1, 2, 3, 4, 5, 6, 7, 8, 9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  <a:ea typeface="Arial"/>
              </a:rPr>
              <a:t>Позиційний запис цього числа має вигляд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" name="Picture 2" descr="http://zno.academia.in.ua/pluginfile.php/4719/mod_book/chapter/622/algebr_001.png"/>
          <p:cNvPicPr/>
          <p:nvPr/>
        </p:nvPicPr>
        <p:blipFill>
          <a:blip r:embed="rId1"/>
          <a:stretch/>
        </p:blipFill>
        <p:spPr>
          <a:xfrm>
            <a:off x="971640" y="1193760"/>
            <a:ext cx="8231040" cy="385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http://zno.academia.in.ua/pluginfile.php/4719/mod_book/chapter/622/algebr_004.png"/>
          <p:cNvPicPr/>
          <p:nvPr/>
        </p:nvPicPr>
        <p:blipFill>
          <a:blip r:embed="rId2"/>
          <a:stretch/>
        </p:blipFill>
        <p:spPr>
          <a:xfrm>
            <a:off x="3035160" y="3790800"/>
            <a:ext cx="3611880" cy="2890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http://zno.academia.in.ua/pluginfile.php/4719/mod_book/chapter/622/algebr_005.png"/>
          <p:cNvPicPr/>
          <p:nvPr/>
        </p:nvPicPr>
        <p:blipFill>
          <a:blip r:embed="rId3"/>
          <a:stretch/>
        </p:blipFill>
        <p:spPr>
          <a:xfrm>
            <a:off x="1538280" y="4703760"/>
            <a:ext cx="3916440" cy="360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http://zno.academia.in.ua/pluginfile.php/4719/mod_book/chapter/622/algebr_006.png"/>
          <p:cNvPicPr/>
          <p:nvPr/>
        </p:nvPicPr>
        <p:blipFill>
          <a:blip r:embed="rId4"/>
          <a:stretch/>
        </p:blipFill>
        <p:spPr>
          <a:xfrm>
            <a:off x="1571760" y="5316480"/>
            <a:ext cx="6823080" cy="34452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4"/>
          <p:cNvSpPr/>
          <p:nvPr/>
        </p:nvSpPr>
        <p:spPr>
          <a:xfrm>
            <a:off x="1120680" y="41400"/>
            <a:ext cx="784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Будь-яке натуральне число </a:t>
            </a:r>
            <a:r>
              <a:rPr b="0" i="1" lang="uk-UA" sz="28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 у десятковій системі числення можна подати у вигляді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6T07:51:00Z</dcterms:created>
  <dc:creator>Admin</dc:creator>
  <dc:description/>
  <dc:language>en-US</dc:language>
  <cp:lastModifiedBy>BAO</cp:lastModifiedBy>
  <dcterms:modified xsi:type="dcterms:W3CDTF">2018-09-05T17:49:17Z</dcterms:modified>
  <cp:revision>75</cp:revision>
  <dc:subject/>
  <dc:title>Тема 1. Вступ до чисельних методів.  Загальні поняття</dc:title>
</cp:coreProperties>
</file>