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30.wmf" ContentType="image/x-wmf"/>
  <Override PartName="/ppt/media/image28.wmf" ContentType="image/x-wmf"/>
  <Override PartName="/ppt/media/image31.wmf" ContentType="image/x-wmf"/>
  <Override PartName="/ppt/media/image11.png" ContentType="image/png"/>
  <Override PartName="/ppt/media/image29.wmf" ContentType="image/x-wmf"/>
  <Override PartName="/ppt/media/image32.wmf" ContentType="image/x-wmf"/>
  <Override PartName="/ppt/media/image12.png" ContentType="image/png"/>
  <Override PartName="/ppt/media/image33.wmf" ContentType="image/x-wmf"/>
  <Override PartName="/ppt/media/image13.png" ContentType="image/png"/>
  <Override PartName="/ppt/media/image34.wmf" ContentType="image/x-wmf"/>
  <Override PartName="/ppt/media/image14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35.wmf" ContentType="image/x-wmf"/>
  <Override PartName="/ppt/media/image15.png" ContentType="image/png"/>
  <Override PartName="/ppt/media/image8.png" ContentType="image/png"/>
  <Override PartName="/ppt/media/image36.wmf" ContentType="image/x-wmf"/>
  <Override PartName="/ppt/media/image16.png" ContentType="image/png"/>
  <Override PartName="/ppt/media/image9.png" ContentType="image/png"/>
  <Override PartName="/ppt/media/image37.wmf" ContentType="image/x-wmf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5.png" ContentType="image/png"/>
  <Override PartName="/ppt/media/image17.png" ContentType="image/png"/>
  <Override PartName="/ppt/media/image20.wmf" ContentType="image/x-wmf"/>
  <Override PartName="/ppt/media/image21.wmf" ContentType="image/x-wmf"/>
  <Override PartName="/ppt/media/image1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DA84-8083-427F-AF4A-97F5045A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057C-4123-4EB0-9180-0FA05357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61CE-34DD-49D3-89BB-B65107C5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E5DD-6435-48CC-A0B7-B9AA3763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C57B-1487-4265-B3DD-ECF354EB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77EE-C41B-40D4-AFC3-CEFC8A2F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55DB-2A7B-49A6-B531-AD40562F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C47E-95B8-43B6-B32D-EC0DDDB1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E76D-AEBB-44E5-AFB0-A9676486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B092-A2E3-49AC-8409-9939DD56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8D47-E05F-4B72-84C0-015538AF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579-5F61-4DD4-95BF-9B61F9DE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135E-797E-491A-B4D0-1B8D7E18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50E7-7DD1-44A4-ADF7-62A187DB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2EAF-0DFF-4B9A-9899-BED1FC71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BA36-EDD8-4ABF-93A6-3031A41D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DDBC-8CE9-4B2A-94C0-EF38B2A4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F95F1-2436-410F-80A5-1233362A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8D489-68AB-4F9F-91E7-92DA2CD2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DE825-91B3-409F-96A5-9B72C0E9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88B3F-1BCE-41E3-868E-C97C0861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9A92C-F7E1-4AA8-90AA-FEE599B2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D635-44E6-42C8-BD9E-F9395DFA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26ADB-7265-47CD-8668-DF6B3502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54910-E788-4DF6-A2FF-437A03A3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004A1-6E98-4355-956C-274EFDEB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C32D4-6D9E-43F1-BFFF-8F2664F0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5E516-293E-4E7E-B449-924D9AF0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DF5FB-BE6F-405D-BFAF-BB6F90E4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86F5F-F1EE-42B4-AC06-9EAAB1CA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09235-B461-4D4C-B873-6CCCFDDC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679D1-E530-491B-9BF4-07918C5F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3C903-C658-4B93-89D9-A9E53333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FE98-5777-44F2-8DEA-367A11FE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571B0-05BD-45DF-BD49-3F569CC7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7B2AD-0745-41E3-8D1B-ED1E297D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42B80-C05D-4855-9DBC-164A5B0C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48448-3C81-458A-8C17-A2D8713A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27D7C-5159-4169-9760-66F5A888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6F511-711F-4C5D-9BF6-677705BD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A1B19-FA38-4764-AB64-99756E21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190F8-24DF-4D8D-A5CD-9445BFA3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3EEA7-A7D3-47F2-80D4-FAA14C31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DE5F2-8419-4523-B641-6987D7EC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28A3-7E5F-4056-9010-97185BA3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E3DA5-2184-4B59-98AC-EBC175AC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D6B3B-F53A-4A0A-9429-FD35A35E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6D31D-10D8-4269-B7B6-237D5FD2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6485B-4264-4761-B3BF-5C60A37B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FD87A-FEE5-48BD-A7BC-EB10C9B7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8DFAC-34DB-4637-9390-176EF299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3F00D-6C62-4F96-9B6F-F2623D58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070E7-440D-411C-9235-82B7E757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3A18E-E58C-491C-898E-F532D59B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43EAC-BA3B-480C-88EC-C7016C7A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855B-93D5-4A7B-B11C-2757BA72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47031-3C65-46E2-BECD-5F1C1F44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EC0ED-39CB-4A19-966C-9B45FD50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0F502-FF7C-4304-9EDC-7839DE96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6E43B-0671-44B5-A596-E8DE32C7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F2A99-9A87-41AD-ABEE-5B3194D7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98AB0-5362-49B7-AC17-CFB52BFA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7C953-7753-448D-96E3-BAA50E2C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437B4-1192-4A07-9794-42F8C046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D4AF5-54AC-4095-A0F3-F413C95C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E68B5-D579-4B6A-AA56-DAD71415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CD69-3CB8-4497-A5FD-4F344B35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2725A-17B7-48A0-8E83-2CCA534D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7D46E-E11B-45F4-87F8-5D961E92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14BD2-EA29-4E84-BED4-B8EAAB29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D88DD-5FEF-448B-BC64-EDF98752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718E1-9B48-4421-B1E9-2FD23C46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9EA82-84C8-4EF7-84C3-A18478A2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CA30A-B264-4054-9C6E-A8A1C667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85585-FEE6-4C88-97BF-908FE06A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061FD-EE72-47AF-82D6-D83A09AB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B7F33-59A7-4954-BE5C-EFDC4042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D043-B8EA-4F4C-83B1-73447FE7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E0DD8-E674-42D6-81DE-F0AA0E5B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46B2C-7F59-4878-BA35-BBFACABF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9E23F-D643-4DFE-B30A-B3180015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00807-856C-4822-A1B3-45FB201A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219BE-85C5-4B23-879F-F2C6D6D5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2594-6BF2-4E91-A06B-A30DB884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0795-D6A2-48F1-9A22-61B218616267}" type="slidenum">
              <a:rPr b="0" lang="uk-UA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DFB3-2B2E-4592-AD83-3E5AE3CF0102}" type="slidenum">
              <a:rPr b="0" lang="uk-UA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A6BF-3DA0-4958-8E14-CE659F4E128C}" type="slidenum">
              <a:rPr b="0" lang="uk-UA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8F45-7C49-4277-B98C-6AB231A0608C}" type="slidenum">
              <a:rPr b="0" lang="uk-UA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99B5-0C78-40F9-9502-A2166973EE7A}" type="slidenum">
              <a:rPr b="0" lang="uk-UA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7CE1-BA94-4998-AAA8-80C8C4E1F2E1}" type="slidenum">
              <a:rPr b="0" lang="uk-UA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1560-251C-45BF-ADB7-03E26B0A8B5C}" type="slidenum">
              <a:rPr b="0" lang="uk-UA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0.wmf"/><Relationship Id="rId2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7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8920" y="357336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572314"/>
                </a:solidFill>
                <a:latin typeface="Corbel"/>
              </a:rPr>
              <a:t>Тема 1.2</a:t>
            </a:r>
            <a:br>
              <a:rPr sz="4800"/>
            </a:br>
            <a:r>
              <a:rPr b="1" lang="uk-UA" sz="4800" spc="-1" strike="noStrike">
                <a:solidFill>
                  <a:srgbClr val="572314"/>
                </a:solidFill>
                <a:latin typeface="Corbel"/>
              </a:rPr>
              <a:t>Похибка результату чисельного розв’язку задачі</a:t>
            </a:r>
            <a:br>
              <a:rPr sz="4800"/>
            </a:b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042560" y="18720"/>
            <a:ext cx="8101080" cy="16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Corbel"/>
              </a:rPr>
              <a:t>Значущими цифрами 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числа називаються всі цифри в його записі, починаючи з першої ненульової злів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TextBox 1"/>
          <p:cNvSpPr/>
          <p:nvPr/>
        </p:nvSpPr>
        <p:spPr>
          <a:xfrm>
            <a:off x="994320" y="1484280"/>
            <a:ext cx="21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Приклади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3" name="Рисунок 19" descr="Безымянный1.png"/>
          <p:cNvPicPr/>
          <p:nvPr/>
        </p:nvPicPr>
        <p:blipFill>
          <a:blip r:embed="rId1"/>
          <a:stretch/>
        </p:blipFill>
        <p:spPr>
          <a:xfrm>
            <a:off x="1360440" y="3986280"/>
            <a:ext cx="2144880" cy="47160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3"/>
          <p:cNvSpPr/>
          <p:nvPr/>
        </p:nvSpPr>
        <p:spPr>
          <a:xfrm>
            <a:off x="3633840" y="3887640"/>
            <a:ext cx="37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  <a:ea typeface="Arial"/>
              </a:rPr>
              <a:t>Значущі всі цифр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5" name="Рисунок 18" descr="Безымянный2.png"/>
          <p:cNvPicPr/>
          <p:nvPr/>
        </p:nvPicPr>
        <p:blipFill>
          <a:blip r:embed="rId2"/>
          <a:stretch/>
        </p:blipFill>
        <p:spPr>
          <a:xfrm>
            <a:off x="1301760" y="5157720"/>
            <a:ext cx="2058840" cy="50328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11"/>
          <p:cNvSpPr/>
          <p:nvPr/>
        </p:nvSpPr>
        <p:spPr>
          <a:xfrm>
            <a:off x="3633840" y="5138640"/>
            <a:ext cx="48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  <a:ea typeface="Arial"/>
              </a:rPr>
              <a:t>Значущі цифри 2, 6, 7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Прямоугольник 4"/>
          <p:cNvSpPr/>
          <p:nvPr/>
        </p:nvSpPr>
        <p:spPr>
          <a:xfrm>
            <a:off x="1143000" y="213372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Якщо дослід, проведений з точністю  до 0,0001  дав результат 0,0</a:t>
            </a:r>
            <a:r>
              <a:rPr b="0" lang="ru-RU" sz="2800" spc="-1" strike="noStrike">
                <a:solidFill>
                  <a:srgbClr val="00b050"/>
                </a:solidFill>
                <a:latin typeface="Corbel"/>
                <a:ea typeface="Arial"/>
              </a:rPr>
              <a:t>320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, то значущими цифрами будут 3, 2 и 0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971280" y="259920"/>
            <a:ext cx="8172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Якщо абсолютна похибка наближеного числа не перевищує половини одиниць розряду, що виражений </a:t>
            </a:r>
            <a:r>
              <a:rPr b="0" i="1" lang="en-US" sz="3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-ою значущою цифрою, то </a:t>
            </a:r>
            <a:r>
              <a:rPr b="0" i="1" lang="en-US" sz="3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 перших значущих цифр вважаються </a:t>
            </a:r>
            <a:r>
              <a:rPr b="0" lang="uk-UA" sz="3000" spc="-1" strike="noStrike">
                <a:solidFill>
                  <a:srgbClr val="00b050"/>
                </a:solidFill>
                <a:latin typeface="Corbel"/>
              </a:rPr>
              <a:t>вірними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. В математичних таблицях всі значущі цифри є вірним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81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orbel"/>
              </a:rPr>
              <a:t>Приклади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TextBox 1"/>
          <p:cNvSpPr/>
          <p:nvPr/>
        </p:nvSpPr>
        <p:spPr>
          <a:xfrm>
            <a:off x="1190880" y="3075120"/>
            <a:ext cx="13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Нехай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Рисунок 4" descr="Безымянный14.png"/>
          <p:cNvPicPr/>
          <p:nvPr/>
        </p:nvPicPr>
        <p:blipFill>
          <a:blip r:embed="rId1"/>
          <a:stretch/>
        </p:blipFill>
        <p:spPr>
          <a:xfrm>
            <a:off x="2475000" y="3013200"/>
            <a:ext cx="1931760" cy="600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"/>
          <p:cNvSpPr/>
          <p:nvPr/>
        </p:nvSpPr>
        <p:spPr>
          <a:xfrm>
            <a:off x="4708800" y="3013200"/>
            <a:ext cx="174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і відомо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2" name="Рисунок 5" descr="Безымянный15.png"/>
          <p:cNvPicPr/>
          <p:nvPr/>
        </p:nvPicPr>
        <p:blipFill>
          <a:blip r:embed="rId2"/>
          <a:stretch/>
        </p:blipFill>
        <p:spPr>
          <a:xfrm>
            <a:off x="6359400" y="3075120"/>
            <a:ext cx="1781280" cy="529920"/>
          </a:xfrm>
          <a:prstGeom prst="rect">
            <a:avLst/>
          </a:prstGeom>
          <a:ln w="0">
            <a:noFill/>
          </a:ln>
        </p:spPr>
      </p:pic>
      <p:sp>
        <p:nvSpPr>
          <p:cNvPr id="363" name="TextBox 6"/>
          <p:cNvSpPr/>
          <p:nvPr/>
        </p:nvSpPr>
        <p:spPr>
          <a:xfrm>
            <a:off x="545400" y="3535200"/>
            <a:ext cx="85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Визначити число вірних значущих цифр числа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4" name="Рисунок 6" descr="Безымянный8.png"/>
          <p:cNvPicPr/>
          <p:nvPr/>
        </p:nvPicPr>
        <p:blipFill>
          <a:blip r:embed="rId3"/>
          <a:stretch/>
        </p:blipFill>
        <p:spPr>
          <a:xfrm>
            <a:off x="8532720" y="3483000"/>
            <a:ext cx="432000" cy="45252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7" descr="Безымянный16.png"/>
          <p:cNvPicPr/>
          <p:nvPr/>
        </p:nvPicPr>
        <p:blipFill>
          <a:blip r:embed="rId4"/>
          <a:stretch/>
        </p:blipFill>
        <p:spPr>
          <a:xfrm>
            <a:off x="1347840" y="4098960"/>
            <a:ext cx="2093760" cy="100656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8" descr="Безымянный17.png"/>
          <p:cNvPicPr/>
          <p:nvPr/>
        </p:nvPicPr>
        <p:blipFill>
          <a:blip r:embed="rId5"/>
          <a:stretch/>
        </p:blipFill>
        <p:spPr>
          <a:xfrm>
            <a:off x="5576760" y="4059360"/>
            <a:ext cx="2400480" cy="100944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9" descr="Безымянный18.png"/>
          <p:cNvPicPr/>
          <p:nvPr/>
        </p:nvPicPr>
        <p:blipFill>
          <a:blip r:embed="rId6"/>
          <a:stretch/>
        </p:blipFill>
        <p:spPr>
          <a:xfrm>
            <a:off x="1347840" y="5589720"/>
            <a:ext cx="2146320" cy="1006200"/>
          </a:xfrm>
          <a:prstGeom prst="rect">
            <a:avLst/>
          </a:prstGeom>
          <a:ln w="0">
            <a:noFill/>
          </a:ln>
        </p:spPr>
      </p:pic>
      <p:sp>
        <p:nvSpPr>
          <p:cNvPr id="368" name="TextBox 11"/>
          <p:cNvSpPr/>
          <p:nvPr/>
        </p:nvSpPr>
        <p:spPr>
          <a:xfrm>
            <a:off x="3728520" y="5589720"/>
            <a:ext cx="57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Отже вірні значущі цифри 1,2,3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985680" y="0"/>
            <a:ext cx="79632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Число </a:t>
            </a:r>
            <a:r>
              <a:rPr b="0" i="1" lang="uk-UA" sz="2800" spc="-1" strike="noStrike">
                <a:solidFill>
                  <a:srgbClr val="000000"/>
                </a:solidFill>
                <a:latin typeface="Corbel"/>
              </a:rPr>
              <a:t>а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 є наближенням числа 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з 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значущими цифрами, якщо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 є найбільшим додатнім числом для яког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Объект 4"/>
              <p:cNvSpPr txBox="1"/>
              <p:nvPr/>
            </p:nvSpPr>
            <p:spPr>
              <a:xfrm>
                <a:off x="3387600" y="907920"/>
                <a:ext cx="236880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а</m:t>
                            </m:r>
                          </m:e>
                        </m:d>
                      </m:den>
                    </m:f>
                    <m:r>
                      <m:t xml:space="preserve">&lt;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Объект 25"/>
              <p:cNvSpPr txBox="1"/>
              <p:nvPr/>
            </p:nvSpPr>
            <p:spPr>
              <a:xfrm>
                <a:off x="3076560" y="2203560"/>
                <a:ext cx="595944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4159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59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592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же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аближає число з 2 значущими цифрами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3" name="Rectangle 25"/>
          <p:cNvSpPr/>
          <p:nvPr/>
        </p:nvSpPr>
        <p:spPr>
          <a:xfrm>
            <a:off x="920520" y="1917360"/>
            <a:ext cx="1991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Приклади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Rectangle 26"/>
          <p:cNvSpPr/>
          <p:nvPr/>
        </p:nvSpPr>
        <p:spPr>
          <a:xfrm>
            <a:off x="4888440" y="50400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Объект 4"/>
              <p:cNvSpPr txBox="1"/>
              <p:nvPr/>
            </p:nvSpPr>
            <p:spPr>
              <a:xfrm>
                <a:off x="1206360" y="189000"/>
                <a:ext cx="5021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0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999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Объект 6"/>
              <p:cNvSpPr txBox="1"/>
              <p:nvPr/>
            </p:nvSpPr>
            <p:spPr>
              <a:xfrm>
                <a:off x="1082520" y="836640"/>
                <a:ext cx="8035920" cy="38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а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004</m:t>
                        </m:r>
                        <m:r>
                          <m:t xml:space="preserve">&lt;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5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05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005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000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971280" y="475920"/>
            <a:ext cx="796284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73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Точність наближеного обчислення залежить не від кількості значущих цифр, а від кількості вірних значущих цифр. Якщо число містить надлишкову кількість невірних значущих цифр, то його округлюють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3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3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Цифри </a:t>
            </a:r>
            <a:r>
              <a:rPr b="0" i="1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uk-UA" sz="3200" spc="-1" strike="noStrike" baseline="-25000">
                <a:solidFill>
                  <a:srgbClr val="000000"/>
                </a:solidFill>
                <a:latin typeface="Corbel"/>
              </a:rPr>
              <a:t>і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, і=1,2,3… наближеного числа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називаються </a:t>
            </a:r>
            <a:r>
              <a:rPr b="0" lang="uk-UA" sz="3200" spc="-1" strike="noStrike">
                <a:solidFill>
                  <a:srgbClr val="00b050"/>
                </a:solidFill>
                <a:latin typeface="Corbel"/>
              </a:rPr>
              <a:t>вірними у сенсі </a:t>
            </a:r>
            <a:r>
              <a:rPr b="0" lang="uk-UA" sz="3200" spc="-1" strike="noStrike">
                <a:solidFill>
                  <a:srgbClr val="00b050"/>
                </a:solidFill>
                <a:latin typeface="Symbol"/>
                <a:ea typeface="Symbol"/>
              </a:rPr>
              <a:t>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, якщо абсолютна похибка не перевищує </a:t>
            </a:r>
            <a:r>
              <a:rPr b="0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одиниць розряду останньої вірної цифри: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Объект 4"/>
              <p:cNvSpPr txBox="1"/>
              <p:nvPr/>
            </p:nvSpPr>
            <p:spPr>
              <a:xfrm>
                <a:off x="3276720" y="5732640"/>
                <a:ext cx="27716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≤</m:t>
                    </m:r>
                    <m:r>
                      <m:t xml:space="preserve">ω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3"/>
          <p:cNvSpPr/>
          <p:nvPr/>
        </p:nvSpPr>
        <p:spPr>
          <a:xfrm>
            <a:off x="1042920" y="171360"/>
            <a:ext cx="810108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  <a:ea typeface="Arial"/>
              </a:rPr>
              <a:t>При </a:t>
            </a:r>
            <a:r>
              <a:rPr b="0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  <a:ea typeface="Arial"/>
              </a:rPr>
              <a:t>=1 цифри </a:t>
            </a:r>
            <a:r>
              <a:rPr b="0" i="1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uk-UA" sz="3200" spc="-1" strike="noStrike" baseline="-25000">
                <a:solidFill>
                  <a:srgbClr val="000000"/>
                </a:solidFill>
                <a:latin typeface="Corbel"/>
                <a:ea typeface="Arial"/>
              </a:rPr>
              <a:t>і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  <a:ea typeface="Arial"/>
              </a:rPr>
              <a:t>, і=1,2,3… називаються вірними у </a:t>
            </a:r>
            <a:r>
              <a:rPr b="0" lang="uk-UA" sz="3200" spc="-1" strike="noStrike">
                <a:solidFill>
                  <a:srgbClr val="00b050"/>
                </a:solidFill>
                <a:latin typeface="Corbel"/>
                <a:ea typeface="Arial"/>
              </a:rPr>
              <a:t>широкому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  <a:ea typeface="Arial"/>
              </a:rPr>
              <a:t> сенсі, при </a:t>
            </a:r>
            <a:r>
              <a:rPr b="0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  <a:ea typeface="Arial"/>
              </a:rPr>
              <a:t>=0,5  – у </a:t>
            </a:r>
            <a:r>
              <a:rPr b="0" lang="uk-UA" sz="3200" spc="-1" strike="noStrike">
                <a:solidFill>
                  <a:srgbClr val="00b050"/>
                </a:solidFill>
                <a:latin typeface="Corbel"/>
                <a:ea typeface="Arial"/>
              </a:rPr>
              <a:t>вузькому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  <a:ea typeface="Arial"/>
              </a:rPr>
              <a:t> сенсі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Объект 4"/>
              <p:cNvSpPr txBox="1"/>
              <p:nvPr/>
            </p:nvSpPr>
            <p:spPr>
              <a:xfrm>
                <a:off x="2556000" y="1612800"/>
                <a:ext cx="374472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Прямоугольник 1"/>
          <p:cNvSpPr/>
          <p:nvPr/>
        </p:nvSpPr>
        <p:spPr>
          <a:xfrm>
            <a:off x="1204920" y="2781360"/>
            <a:ext cx="7777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ри виконанні арифметичних операцій над числами похибка результату  буде складатися з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охибки округлення вхідних даних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охибки арифметичної операції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охибки округлення результату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042560" y="0"/>
            <a:ext cx="799308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Формули для обчислення похибок при виконанні арифметичних операцій над числами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х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та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637f26"/>
                </a:solidFill>
                <a:latin typeface="Corbel"/>
              </a:rPr>
              <a:t>1. Похибка сум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Абсолютна похибка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Об'єкт 3"/>
              <p:cNvSpPr txBox="1"/>
              <p:nvPr/>
            </p:nvSpPr>
            <p:spPr>
              <a:xfrm>
                <a:off x="911160" y="2708280"/>
                <a:ext cx="63136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TextBox 4"/>
          <p:cNvSpPr/>
          <p:nvPr/>
        </p:nvSpPr>
        <p:spPr>
          <a:xfrm>
            <a:off x="999000" y="3421080"/>
            <a:ext cx="361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Відносна похибка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Об'єкт 5"/>
              <p:cNvSpPr txBox="1"/>
              <p:nvPr/>
            </p:nvSpPr>
            <p:spPr>
              <a:xfrm>
                <a:off x="1084320" y="4005360"/>
                <a:ext cx="62215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8" name="TextBox 6"/>
          <p:cNvSpPr/>
          <p:nvPr/>
        </p:nvSpPr>
        <p:spPr>
          <a:xfrm>
            <a:off x="555840" y="5513400"/>
            <a:ext cx="815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Аналогічно визначається похибка різниці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971280" y="115920"/>
            <a:ext cx="79628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orbel"/>
              </a:rPr>
              <a:t>Приклад. 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Задано три числа. Знайти наближення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 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для точного числа В, обчислити похибки. Результат округлити зі збереженням вірних цифр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Объект 10"/>
              <p:cNvSpPr txBox="1"/>
              <p:nvPr/>
            </p:nvSpPr>
            <p:spPr>
              <a:xfrm>
                <a:off x="1195560" y="3016080"/>
                <a:ext cx="666576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2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7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0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1" name="TextBox 11"/>
          <p:cNvSpPr/>
          <p:nvPr/>
        </p:nvSpPr>
        <p:spPr>
          <a:xfrm>
            <a:off x="1080360" y="24922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За умовою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Объект 13"/>
              <p:cNvSpPr txBox="1"/>
              <p:nvPr/>
            </p:nvSpPr>
            <p:spPr>
              <a:xfrm>
                <a:off x="1106640" y="1484280"/>
                <a:ext cx="8037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2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7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3" name="TextBox 14"/>
          <p:cNvSpPr/>
          <p:nvPr/>
        </p:nvSpPr>
        <p:spPr>
          <a:xfrm>
            <a:off x="843840" y="5094360"/>
            <a:ext cx="55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Гранична абсолютна похибка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Объект 15"/>
              <p:cNvSpPr txBox="1"/>
              <p:nvPr/>
            </p:nvSpPr>
            <p:spPr>
              <a:xfrm>
                <a:off x="1187280" y="5616720"/>
                <a:ext cx="543276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b</m:t>
                        </m:r>
                        <m:r>
                          <m:t xml:space="preserve">=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2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1042560" y="0"/>
            <a:ext cx="67690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7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Гранична відносна похибк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Объект 3"/>
              <p:cNvSpPr txBox="1"/>
              <p:nvPr/>
            </p:nvSpPr>
            <p:spPr>
              <a:xfrm>
                <a:off x="1258920" y="620640"/>
                <a:ext cx="58021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b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03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27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TextBox 4"/>
          <p:cNvSpPr/>
          <p:nvPr/>
        </p:nvSpPr>
        <p:spPr>
          <a:xfrm>
            <a:off x="1143000" y="163980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Отже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Объект 6"/>
              <p:cNvSpPr txBox="1"/>
              <p:nvPr/>
            </p:nvSpPr>
            <p:spPr>
              <a:xfrm>
                <a:off x="1236600" y="3308400"/>
                <a:ext cx="4743360" cy="30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b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Δb</m:t>
                        </m:r>
                        <m:r>
                          <m:t xml:space="preserve">≤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Δ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Δ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Δ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≤</m:t>
                        </m:r>
                        <m:r>
                          <m:t xml:space="preserve">0,1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Δ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Объект 7"/>
              <p:cNvSpPr txBox="1"/>
              <p:nvPr/>
            </p:nvSpPr>
            <p:spPr>
              <a:xfrm>
                <a:off x="2374920" y="1643040"/>
                <a:ext cx="44100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±</m:t>
                    </m:r>
                    <m:r>
                      <m:t xml:space="preserve">Δ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3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TextBox 8"/>
          <p:cNvSpPr/>
          <p:nvPr/>
        </p:nvSpPr>
        <p:spPr>
          <a:xfrm>
            <a:off x="673920" y="2178000"/>
            <a:ext cx="67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Знайдемо  вірні цифри  за формулою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Объект 9"/>
              <p:cNvSpPr txBox="1"/>
              <p:nvPr/>
            </p:nvSpPr>
            <p:spPr>
              <a:xfrm>
                <a:off x="1073160" y="2700360"/>
                <a:ext cx="6594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b</m:t>
                    </m:r>
                    <m:r>
                      <m:t xml:space="preserve">≤</m:t>
                    </m:r>
                    <m:r>
                      <m:t xml:space="preserve">ω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2" name="TextBox 11"/>
          <p:cNvSpPr/>
          <p:nvPr/>
        </p:nvSpPr>
        <p:spPr>
          <a:xfrm>
            <a:off x="900000" y="616572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Отже, в широкому сенсі вірними є 4 цифри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Объект 12"/>
              <p:cNvSpPr txBox="1"/>
              <p:nvPr/>
            </p:nvSpPr>
            <p:spPr>
              <a:xfrm>
                <a:off x="7596360" y="6110280"/>
                <a:ext cx="15159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042920" y="188640"/>
            <a:ext cx="74995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охибка результату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Объект 3"/>
              <p:cNvSpPr txBox="1"/>
              <p:nvPr/>
            </p:nvSpPr>
            <p:spPr>
              <a:xfrm>
                <a:off x="1187280" y="836640"/>
                <a:ext cx="70599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Δb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кругл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Δb</m:t>
                        </m:r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  <m:r>
                              <m:t xml:space="preserve">,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6" name="TextBox 4"/>
          <p:cNvSpPr/>
          <p:nvPr/>
        </p:nvSpPr>
        <p:spPr>
          <a:xfrm>
            <a:off x="1215000" y="2496960"/>
            <a:ext cx="19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Відповідь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Объект 5"/>
              <p:cNvSpPr txBox="1"/>
              <p:nvPr/>
            </p:nvSpPr>
            <p:spPr>
              <a:xfrm>
                <a:off x="1322280" y="3051000"/>
                <a:ext cx="3970440" cy="180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03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δ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7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00080" y="-684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§1 </a:t>
            </a:r>
            <a:r>
              <a:rPr b="1" lang="uk-UA" sz="3900" spc="-1" strike="noStrike">
                <a:solidFill>
                  <a:srgbClr val="572314"/>
                </a:solidFill>
                <a:latin typeface="Corbel"/>
              </a:rPr>
              <a:t>Джерела та класифікація похибок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TextBox 5"/>
          <p:cNvSpPr/>
          <p:nvPr/>
        </p:nvSpPr>
        <p:spPr>
          <a:xfrm>
            <a:off x="3166920" y="1353960"/>
            <a:ext cx="352908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  <a:ea typeface="Arial"/>
              </a:rPr>
              <a:t>Похибка розв'язку  задачі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TextBox 12"/>
          <p:cNvSpPr/>
          <p:nvPr/>
        </p:nvSpPr>
        <p:spPr>
          <a:xfrm>
            <a:off x="2556000" y="4610160"/>
            <a:ext cx="2520720" cy="146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  <a:ea typeface="Arial"/>
              </a:rPr>
              <a:t>Похибка математичної моделі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Прямая соединительная линия 14"/>
          <p:cNvSpPr/>
          <p:nvPr/>
        </p:nvSpPr>
        <p:spPr>
          <a:xfrm>
            <a:off x="4932360" y="2368440"/>
            <a:ext cx="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Прямая соединительная линия 16"/>
          <p:cNvSpPr/>
          <p:nvPr/>
        </p:nvSpPr>
        <p:spPr>
          <a:xfrm>
            <a:off x="2303640" y="2708280"/>
            <a:ext cx="52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TextBox 20"/>
          <p:cNvSpPr/>
          <p:nvPr/>
        </p:nvSpPr>
        <p:spPr>
          <a:xfrm>
            <a:off x="1042920" y="3068640"/>
            <a:ext cx="252108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  <a:ea typeface="Arial"/>
              </a:rPr>
              <a:t>Неусувна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  <a:ea typeface="Arial"/>
              </a:rPr>
              <a:t>похибка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TextBox 21"/>
          <p:cNvSpPr/>
          <p:nvPr/>
        </p:nvSpPr>
        <p:spPr>
          <a:xfrm>
            <a:off x="6300720" y="3068640"/>
            <a:ext cx="251928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  <a:ea typeface="Arial"/>
              </a:rPr>
              <a:t>Похибка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  <a:ea typeface="Arial"/>
              </a:rPr>
              <a:t>методу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TextBox 22"/>
          <p:cNvSpPr/>
          <p:nvPr/>
        </p:nvSpPr>
        <p:spPr>
          <a:xfrm>
            <a:off x="5292720" y="4608360"/>
            <a:ext cx="327492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  <a:ea typeface="Arial"/>
              </a:rPr>
              <a:t>Обчислювальна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  <a:ea typeface="Arial"/>
              </a:rPr>
              <a:t>похибка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Прямая соединительная линия 24"/>
          <p:cNvSpPr/>
          <p:nvPr/>
        </p:nvSpPr>
        <p:spPr>
          <a:xfrm flipV="1">
            <a:off x="2303640" y="2707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Прямая соединительная линия 27"/>
          <p:cNvSpPr/>
          <p:nvPr/>
        </p:nvSpPr>
        <p:spPr>
          <a:xfrm flipV="1">
            <a:off x="7559640" y="2707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Прямая соединительная линия 29"/>
          <p:cNvSpPr/>
          <p:nvPr/>
        </p:nvSpPr>
        <p:spPr>
          <a:xfrm flipV="1">
            <a:off x="3816360" y="2711520"/>
            <a:ext cx="0" cy="189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Прямая соединительная линия 30"/>
          <p:cNvSpPr/>
          <p:nvPr/>
        </p:nvSpPr>
        <p:spPr>
          <a:xfrm flipV="1">
            <a:off x="6084720" y="2711520"/>
            <a:ext cx="0" cy="189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042560" y="-360"/>
            <a:ext cx="789156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37f26"/>
                </a:solidFill>
                <a:latin typeface="Corbel"/>
              </a:rPr>
              <a:t>2. Похибка добутк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Абсолютна похибка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Об'єкт 3"/>
              <p:cNvSpPr txBox="1"/>
              <p:nvPr/>
            </p:nvSpPr>
            <p:spPr>
              <a:xfrm>
                <a:off x="927000" y="1125360"/>
                <a:ext cx="63993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±</m:t>
                    </m:r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TextBox 4"/>
          <p:cNvSpPr/>
          <p:nvPr/>
        </p:nvSpPr>
        <p:spPr>
          <a:xfrm>
            <a:off x="945000" y="1700280"/>
            <a:ext cx="38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Відносна похибка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Об'єкт 5"/>
              <p:cNvSpPr txBox="1"/>
              <p:nvPr/>
            </p:nvSpPr>
            <p:spPr>
              <a:xfrm>
                <a:off x="1049400" y="2209680"/>
                <a:ext cx="4908600" cy="131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y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2" name="Місце для вмісту 2"/>
          <p:cNvSpPr/>
          <p:nvPr/>
        </p:nvSpPr>
        <p:spPr>
          <a:xfrm>
            <a:off x="1042920" y="3500280"/>
            <a:ext cx="789156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37f26"/>
                </a:solidFill>
                <a:latin typeface="Corbel"/>
                <a:ea typeface="Arial"/>
              </a:rPr>
              <a:t>3. Похибка ділення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  <a:ea typeface="Arial"/>
              </a:rPr>
              <a:t>Абсолютна похибка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Об'єкт 7"/>
              <p:cNvSpPr txBox="1"/>
              <p:nvPr/>
            </p:nvSpPr>
            <p:spPr>
              <a:xfrm>
                <a:off x="1022400" y="4508640"/>
                <a:ext cx="456732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y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4" name="TextBox 8"/>
          <p:cNvSpPr/>
          <p:nvPr/>
        </p:nvSpPr>
        <p:spPr>
          <a:xfrm>
            <a:off x="854640" y="6021360"/>
            <a:ext cx="361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Відносна похибка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Об'єкт 9"/>
              <p:cNvSpPr txBox="1"/>
              <p:nvPr/>
            </p:nvSpPr>
            <p:spPr>
              <a:xfrm>
                <a:off x="4594320" y="5985000"/>
                <a:ext cx="20397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979200" y="2421000"/>
            <a:ext cx="817236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58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37f26"/>
                </a:solidFill>
                <a:latin typeface="Corbel"/>
              </a:rPr>
              <a:t>5. Похибка функції, яка залежить від однієї змінної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8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Абсолютна похибка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8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Об'єкт 4"/>
              <p:cNvSpPr txBox="1"/>
              <p:nvPr/>
            </p:nvSpPr>
            <p:spPr>
              <a:xfrm>
                <a:off x="1185840" y="4076640"/>
                <a:ext cx="42498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r>
                          <m:t xml:space="preserve">Δf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8" name="TextBox 5"/>
          <p:cNvSpPr/>
          <p:nvPr/>
        </p:nvSpPr>
        <p:spPr>
          <a:xfrm>
            <a:off x="999000" y="1550880"/>
            <a:ext cx="361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Відносна похибка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Об'єкт 6"/>
              <p:cNvSpPr txBox="1"/>
              <p:nvPr/>
            </p:nvSpPr>
            <p:spPr>
              <a:xfrm>
                <a:off x="4572000" y="5283360"/>
                <a:ext cx="270360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Δf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0" name="Місце для вмісту 2"/>
          <p:cNvSpPr/>
          <p:nvPr/>
        </p:nvSpPr>
        <p:spPr>
          <a:xfrm>
            <a:off x="1009800" y="31680"/>
            <a:ext cx="81723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37f26"/>
                </a:solidFill>
                <a:latin typeface="Corbel"/>
                <a:ea typeface="Arial"/>
              </a:rPr>
              <a:t>4. Похибка степеневої функції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  <a:ea typeface="Arial"/>
              </a:rPr>
              <a:t>Абсолютна похибка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Об'єкт 8"/>
              <p:cNvSpPr txBox="1"/>
              <p:nvPr/>
            </p:nvSpPr>
            <p:spPr>
              <a:xfrm>
                <a:off x="4734000" y="577800"/>
                <a:ext cx="3352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2" name="TextBox 9"/>
          <p:cNvSpPr/>
          <p:nvPr/>
        </p:nvSpPr>
        <p:spPr>
          <a:xfrm>
            <a:off x="969480" y="5649840"/>
            <a:ext cx="361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Відносна похибка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Об'єкт 10"/>
              <p:cNvSpPr txBox="1"/>
              <p:nvPr/>
            </p:nvSpPr>
            <p:spPr>
              <a:xfrm>
                <a:off x="4572000" y="1471680"/>
                <a:ext cx="25909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1042560" y="11160"/>
            <a:ext cx="8101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615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Corbel"/>
              </a:rPr>
              <a:t>Приклад.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Обчислити  значення функції та оцінити абсолютну похибку, взявши значення аргументів з чотирма вірними числами. Будемо вважати похибки аргументів однаковими: 0,0005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Об'єкт 3"/>
              <p:cNvSpPr txBox="1"/>
              <p:nvPr/>
            </p:nvSpPr>
            <p:spPr>
              <a:xfrm>
                <a:off x="5219640" y="1652760"/>
                <a:ext cx="31464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6" name="TextBox 4"/>
          <p:cNvSpPr/>
          <p:nvPr/>
        </p:nvSpPr>
        <p:spPr>
          <a:xfrm>
            <a:off x="934920" y="2395440"/>
            <a:ext cx="41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Визначимо аргументи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Об'єкт 5"/>
              <p:cNvSpPr txBox="1"/>
              <p:nvPr/>
            </p:nvSpPr>
            <p:spPr>
              <a:xfrm>
                <a:off x="1054080" y="2922480"/>
                <a:ext cx="755820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36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4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8" name="TextBox 7"/>
          <p:cNvSpPr/>
          <p:nvPr/>
        </p:nvSpPr>
        <p:spPr>
          <a:xfrm>
            <a:off x="610920" y="4064040"/>
            <a:ext cx="74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Обчислимо наближене значення функції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Об'єкт 8"/>
              <p:cNvSpPr txBox="1"/>
              <p:nvPr/>
            </p:nvSpPr>
            <p:spPr>
              <a:xfrm>
                <a:off x="1054080" y="4383000"/>
                <a:ext cx="7910640" cy="24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r>
                                  <m:t xml:space="preserve">π</m:t>
                                </m:r>
                              </m:e>
                            </m:rad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36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2</m:t>
                                </m:r>
                              </m:e>
                            </m:rad>
                          </m:den>
                        </m:f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1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947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8275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8099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132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1166400" y="115920"/>
            <a:ext cx="796284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6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Абсолютна похибка </a:t>
            </a:r>
            <a:r>
              <a:rPr b="0" lang="uk-UA" sz="2800" spc="-1" strike="noStrike">
                <a:solidFill>
                  <a:srgbClr val="ff0000"/>
                </a:solidFill>
                <a:latin typeface="Corbel"/>
              </a:rPr>
              <a:t>функції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Объект 2"/>
              <p:cNvSpPr txBox="1"/>
              <p:nvPr/>
            </p:nvSpPr>
            <p:spPr>
              <a:xfrm>
                <a:off x="1258920" y="692280"/>
                <a:ext cx="7132680" cy="43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f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d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d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d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6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25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9423</m:t>
                        </m:r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4</m:t>
                                        </m:r>
                                      </m:sup>
                                    </m:sSubSup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2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243</m:t>
                        </m:r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8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729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3" name="Rectangle 7"/>
          <p:cNvSpPr/>
          <p:nvPr/>
        </p:nvSpPr>
        <p:spPr>
          <a:xfrm>
            <a:off x="732240" y="5035320"/>
            <a:ext cx="681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  <a:ea typeface="TimesNewRoman"/>
              </a:rPr>
              <a:t>Отже абсолютна похибка результату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Объект 4"/>
              <p:cNvSpPr txBox="1"/>
              <p:nvPr/>
            </p:nvSpPr>
            <p:spPr>
              <a:xfrm>
                <a:off x="1116000" y="5799240"/>
                <a:ext cx="777708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,19423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0,07243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2,47295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0,0005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,0013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1042560" y="34560"/>
            <a:ext cx="8209080" cy="10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8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Приклад.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Обчислити значення Х та визначити його похибк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37" name="Объект 4"/>
          <p:cNvGraphicFramePr/>
          <p:nvPr/>
        </p:nvGraphicFramePr>
        <p:xfrm>
          <a:off x="1258920" y="1052640"/>
          <a:ext cx="1800360" cy="12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052640"/>
                    <a:ext cx="180036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40" name="Объект 6"/>
          <p:cNvGraphicFramePr/>
          <p:nvPr/>
        </p:nvGraphicFramePr>
        <p:xfrm>
          <a:off x="3564000" y="1268280"/>
          <a:ext cx="201600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1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1268280"/>
                    <a:ext cx="20160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43" name="Объект 8"/>
          <p:cNvGraphicFramePr/>
          <p:nvPr/>
        </p:nvGraphicFramePr>
        <p:xfrm>
          <a:off x="3564000" y="1773360"/>
          <a:ext cx="194472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4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1773360"/>
                    <a:ext cx="19447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46" name="Объект 10"/>
          <p:cNvGraphicFramePr/>
          <p:nvPr/>
        </p:nvGraphicFramePr>
        <p:xfrm>
          <a:off x="5940360" y="1413000"/>
          <a:ext cx="2482920" cy="40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7" name="Объект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0360" y="1413000"/>
                    <a:ext cx="2482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49" name="Объект 12"/>
          <p:cNvGraphicFramePr/>
          <p:nvPr/>
        </p:nvGraphicFramePr>
        <p:xfrm>
          <a:off x="1171440" y="2349360"/>
          <a:ext cx="1857600" cy="57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0" name="Объект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71440" y="2349360"/>
                    <a:ext cx="185760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52" name="Объект 14"/>
          <p:cNvGraphicFramePr/>
          <p:nvPr/>
        </p:nvGraphicFramePr>
        <p:xfrm>
          <a:off x="3276720" y="2276640"/>
          <a:ext cx="1800000" cy="599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3" name="Объект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2276640"/>
                    <a:ext cx="180000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55" name="Объект 16"/>
          <p:cNvGraphicFramePr/>
          <p:nvPr/>
        </p:nvGraphicFramePr>
        <p:xfrm>
          <a:off x="5219640" y="2276640"/>
          <a:ext cx="2205000" cy="576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6" name="Объект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19640" y="2276640"/>
                    <a:ext cx="22050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58" name="Объект 18"/>
          <p:cNvGraphicFramePr/>
          <p:nvPr/>
        </p:nvGraphicFramePr>
        <p:xfrm>
          <a:off x="1332000" y="3068640"/>
          <a:ext cx="5599080" cy="936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9" name="Объект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32000" y="3068640"/>
                    <a:ext cx="55990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61" name="Объект 20"/>
          <p:cNvGraphicFramePr/>
          <p:nvPr/>
        </p:nvGraphicFramePr>
        <p:xfrm>
          <a:off x="1042920" y="4149720"/>
          <a:ext cx="7904160" cy="503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2" name="Объект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42920" y="4149720"/>
                    <a:ext cx="79041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64" name="Объект 22"/>
          <p:cNvGraphicFramePr/>
          <p:nvPr/>
        </p:nvGraphicFramePr>
        <p:xfrm>
          <a:off x="1116000" y="4797360"/>
          <a:ext cx="4194360" cy="503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65" name="Объект 2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116000" y="4797360"/>
                    <a:ext cx="41943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67" name="Объект 24"/>
          <p:cNvGraphicFramePr/>
          <p:nvPr/>
        </p:nvGraphicFramePr>
        <p:xfrm>
          <a:off x="1042920" y="5445000"/>
          <a:ext cx="8239320" cy="1008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68" name="Объект 2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042920" y="5445000"/>
                    <a:ext cx="823932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971280" y="0"/>
            <a:ext cx="796284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0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Приклад.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Обчислити значення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та визначити його похибк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0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Объект 4"/>
              <p:cNvSpPr txBox="1"/>
              <p:nvPr/>
            </p:nvSpPr>
            <p:spPr>
              <a:xfrm>
                <a:off x="1258920" y="1125360"/>
                <a:ext cx="23479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74" name="Объект 8"/>
          <p:cNvGraphicFramePr/>
          <p:nvPr/>
        </p:nvGraphicFramePr>
        <p:xfrm>
          <a:off x="3924360" y="1484280"/>
          <a:ext cx="243684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Объект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484280"/>
                    <a:ext cx="24368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77" name="Объект 10"/>
          <p:cNvGraphicFramePr/>
          <p:nvPr/>
        </p:nvGraphicFramePr>
        <p:xfrm>
          <a:off x="1116000" y="2060640"/>
          <a:ext cx="376380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8" name="Объект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2060640"/>
                    <a:ext cx="37638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80" name="Объект 12"/>
          <p:cNvGraphicFramePr/>
          <p:nvPr/>
        </p:nvGraphicFramePr>
        <p:xfrm>
          <a:off x="1057320" y="2637000"/>
          <a:ext cx="8086680" cy="43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1" name="Объект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57320" y="2637000"/>
                    <a:ext cx="808668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83" name="Объект 14"/>
          <p:cNvGraphicFramePr/>
          <p:nvPr/>
        </p:nvGraphicFramePr>
        <p:xfrm>
          <a:off x="1058760" y="3213000"/>
          <a:ext cx="824400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4" name="Объект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58760" y="3213000"/>
                    <a:ext cx="82440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86" name="Объект 16"/>
          <p:cNvGraphicFramePr/>
          <p:nvPr/>
        </p:nvGraphicFramePr>
        <p:xfrm>
          <a:off x="1116000" y="3716280"/>
          <a:ext cx="7434360" cy="10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7" name="Объект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16000" y="3716280"/>
                    <a:ext cx="74343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89" name="Объект 18"/>
          <p:cNvGraphicFramePr/>
          <p:nvPr/>
        </p:nvGraphicFramePr>
        <p:xfrm>
          <a:off x="1116000" y="4653000"/>
          <a:ext cx="7913880" cy="1152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0" name="Объект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16000" y="4653000"/>
                    <a:ext cx="79138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92" name="Объект 20"/>
          <p:cNvGraphicFramePr/>
          <p:nvPr/>
        </p:nvGraphicFramePr>
        <p:xfrm>
          <a:off x="1187280" y="6093000"/>
          <a:ext cx="4554720" cy="50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93" name="Объект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87280" y="6093000"/>
                    <a:ext cx="45547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4" name="Объект 21"/>
              <p:cNvSpPr txBox="1"/>
              <p:nvPr/>
            </p:nvSpPr>
            <p:spPr>
              <a:xfrm>
                <a:off x="3860640" y="981000"/>
                <a:ext cx="31831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67</m:t>
                    </m:r>
                    <m:r>
                      <m:t xml:space="preserve">(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95" name="Прямая со стрелкой 23"/>
          <p:cNvCxnSpPr/>
          <p:nvPr/>
        </p:nvCxnSpPr>
        <p:spPr>
          <a:xfrm flipH="1">
            <a:off x="3850920" y="2133720"/>
            <a:ext cx="2234160" cy="504000"/>
          </a:xfrm>
          <a:prstGeom prst="straightConnector1">
            <a:avLst/>
          </a:prstGeom>
          <a:ln w="1908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96" name="TextBox 25"/>
          <p:cNvSpPr/>
          <p:nvPr/>
        </p:nvSpPr>
        <p:spPr>
          <a:xfrm>
            <a:off x="6084720" y="1900080"/>
            <a:ext cx="2664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Абсолютна похибка + похибка округленн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71280" y="115920"/>
            <a:ext cx="796284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75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охибка </a:t>
            </a:r>
            <a:r>
              <a:rPr b="0" lang="uk-UA" sz="3200" spc="-1" strike="noStrike">
                <a:solidFill>
                  <a:srgbClr val="ff0000"/>
                </a:solidFill>
                <a:latin typeface="Corbel"/>
              </a:rPr>
              <a:t>математичної моделі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ов'язана з тим, модель описує явище наближено, з припущеннями і спрощенням. Тому треба мати уявлення про точність кінцевого результату, щоб спростити побудову математичної моделі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Corbel"/>
              </a:rPr>
              <a:t>Неусувна похибка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зумовлена похибками у вхідних даних задачі. Вона залежить від методу розв'язування задачі. Щоб правильно обрати метод і визначити точність обчислень, важливо знати межі неусувної похибк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042560" y="259920"/>
            <a:ext cx="789156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77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0000"/>
                </a:solidFill>
                <a:latin typeface="Corbel"/>
              </a:rPr>
              <a:t>Похибка методу 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пов'язана з необхідністю заміни неперервної моделі дискретною або з обривом нескінченого ітераційного процесу після скінченої кількості операцій. Наприклад, заміна інтегрування підрахунком сум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777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777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0000"/>
                </a:solidFill>
                <a:latin typeface="Corbel"/>
              </a:rPr>
              <a:t>Обчислювальні похибки 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пов'язані з похибками округлення чисел. Обчислення, як ручні, так і на ЕОМ, виконують з певною кількістю значущих цифр. Похибки округлення можуть по-різному впливати на кінцевий результат. Обчислювальний алгоритм треба будувати так, щоб похибка округлень була значно меншою від усіх інших похибок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31640" y="34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§2 </a:t>
            </a:r>
            <a:r>
              <a:rPr b="1" lang="uk-UA" sz="3900" spc="-1" strike="noStrike">
                <a:solidFill>
                  <a:srgbClr val="572314"/>
                </a:solidFill>
                <a:latin typeface="Corbel"/>
              </a:rPr>
              <a:t>Похибка арифметичних операцій та функці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042560" y="1267920"/>
            <a:ext cx="7993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Corbel"/>
              </a:rPr>
              <a:t>Абсолютною похибкою 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наближеного числа називається різниця  між цим числом і його точним значенням взята за модулем</a:t>
            </a: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1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Объект 3"/>
              <p:cNvSpPr txBox="1"/>
              <p:nvPr/>
            </p:nvSpPr>
            <p:spPr>
              <a:xfrm>
                <a:off x="1908000" y="2924280"/>
                <a:ext cx="619308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a</m:t>
                        </m:r>
                        <m:r>
                          <m:t xml:space="preserve">≥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же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Δa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Δ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бо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±</m:t>
                        </m:r>
                        <m:r>
                          <m:t xml:space="preserve">Δ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36" name="Прямоугольник 3" descr=""/>
          <p:cNvPicPr/>
          <p:nvPr/>
        </p:nvPicPr>
        <p:blipFill>
          <a:blip r:embed="rId1"/>
          <a:stretch/>
        </p:blipFill>
        <p:spPr>
          <a:xfrm>
            <a:off x="1042920" y="4218120"/>
            <a:ext cx="81010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3"/>
          <p:cNvSpPr/>
          <p:nvPr/>
        </p:nvSpPr>
        <p:spPr>
          <a:xfrm>
            <a:off x="1116000" y="18900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Corbel"/>
                <a:ea typeface="Arial"/>
              </a:rPr>
              <a:t>Відносною похибкою 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  <a:ea typeface="Arial"/>
              </a:rPr>
              <a:t>наближеного числа називається відношення абсолютної похибки наближеного числа до самого (точного) числа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Объект 4"/>
              <p:cNvSpPr txBox="1"/>
              <p:nvPr/>
            </p:nvSpPr>
            <p:spPr>
              <a:xfrm>
                <a:off x="2700360" y="1628640"/>
                <a:ext cx="491652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або</m:t>
                    </m:r>
                    <m:r>
                      <m:t xml:space="preserve"> </m:t>
                    </m:r>
                    <m:r>
                      <m:t xml:space="preserve">δ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a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9" name="Прямоугольник 1" descr=""/>
          <p:cNvPicPr/>
          <p:nvPr/>
        </p:nvPicPr>
        <p:blipFill>
          <a:blip r:embed="rId1"/>
          <a:stretch/>
        </p:blipFill>
        <p:spPr>
          <a:xfrm>
            <a:off x="1262160" y="3498840"/>
            <a:ext cx="7705800" cy="1397160"/>
          </a:xfrm>
          <a:prstGeom prst="rect">
            <a:avLst/>
          </a:prstGeom>
          <a:ln w="0">
            <a:noFill/>
          </a:ln>
        </p:spPr>
      </p:pic>
      <p:pic>
        <p:nvPicPr>
          <p:cNvPr id="340" name="TextBox 2" descr=""/>
          <p:cNvPicPr/>
          <p:nvPr/>
        </p:nvPicPr>
        <p:blipFill>
          <a:blip r:embed="rId2"/>
          <a:stretch/>
        </p:blipFill>
        <p:spPr>
          <a:xfrm>
            <a:off x="3730680" y="5022720"/>
            <a:ext cx="27622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042560" y="20160"/>
            <a:ext cx="8101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Приклад.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Розглянемо число </a:t>
            </a:r>
            <a:r>
              <a:rPr b="0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. Число 3,14 – наближене значення числа </a:t>
            </a:r>
            <a:r>
              <a:rPr b="0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=3,14159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Объект 3"/>
              <p:cNvSpPr txBox="1"/>
              <p:nvPr/>
            </p:nvSpPr>
            <p:spPr>
              <a:xfrm>
                <a:off x="1187280" y="1844640"/>
                <a:ext cx="7748640" cy="424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415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бсолютн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охибка:</m:t>
                        </m:r>
                      </m:e>
                      <m:e>
                        <m:r>
                          <m:t xml:space="preserve">Δa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159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5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ідносн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охибка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δ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a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159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506369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δ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51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971280" y="188640"/>
            <a:ext cx="79628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Приклад.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1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овжина листа паперу А4 дорівнює (29,7 ± 0,1) см. А відстань між містом А і містом В дорівнює  (650± 1) км. Абсолютна похибка в першому випадку не перевищує 1 мм, а в другому – 1 к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1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рівняти точність цих вимірюван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1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1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ля листа паперу відносна похибка у відсотковому співвідношенні становить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1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0,1/29,7 ·100% = 0,33%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1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ля відстані між містами відносна похибка становить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1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/650 · 100% = 0,15%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1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1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тже відстань між містами виміряно точніше, ніж довжину папер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"/>
          <p:cNvSpPr/>
          <p:nvPr/>
        </p:nvSpPr>
        <p:spPr>
          <a:xfrm>
            <a:off x="1133640" y="1722240"/>
            <a:ext cx="8028000" cy="191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  <a:ea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  <a:ea typeface="Arial"/>
              </a:rPr>
              <a:t>де 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ill Sans MT"/>
                <a:ea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,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ill Sans MT"/>
                <a:ea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,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ill Sans MT"/>
                <a:ea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,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ill Sans MT"/>
                <a:ea typeface="Arial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ill Sans MT"/>
                <a:ea typeface="Arial"/>
              </a:rPr>
              <a:t>k-1 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  <a:ea typeface="Arial"/>
              </a:rPr>
              <a:t>   можуть набувати значення 0, 1, 2, 3, 4, 5, 6, 7, 8, 9, а число 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ill Sans MT"/>
                <a:ea typeface="Arial"/>
              </a:rPr>
              <a:t>k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  <a:ea typeface="Arial"/>
              </a:rPr>
              <a:t> ― значення 1, 2, 3, 4, 5, 6, 7, 8, 9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  <a:ea typeface="Arial"/>
              </a:rPr>
              <a:t>Позиційний запис цього числа має вигляд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" name="Picture 2" descr="http://zno.academia.in.ua/pluginfile.php/4719/mod_book/chapter/622/algebr_001.png"/>
          <p:cNvPicPr/>
          <p:nvPr/>
        </p:nvPicPr>
        <p:blipFill>
          <a:blip r:embed="rId1"/>
          <a:stretch/>
        </p:blipFill>
        <p:spPr>
          <a:xfrm>
            <a:off x="971640" y="1193760"/>
            <a:ext cx="8231040" cy="385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http://zno.academia.in.ua/pluginfile.php/4719/mod_book/chapter/622/algebr_004.png"/>
          <p:cNvPicPr/>
          <p:nvPr/>
        </p:nvPicPr>
        <p:blipFill>
          <a:blip r:embed="rId2"/>
          <a:stretch/>
        </p:blipFill>
        <p:spPr>
          <a:xfrm>
            <a:off x="3035160" y="3790800"/>
            <a:ext cx="3611880" cy="2890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http://zno.academia.in.ua/pluginfile.php/4719/mod_book/chapter/622/algebr_005.png"/>
          <p:cNvPicPr/>
          <p:nvPr/>
        </p:nvPicPr>
        <p:blipFill>
          <a:blip r:embed="rId3"/>
          <a:stretch/>
        </p:blipFill>
        <p:spPr>
          <a:xfrm>
            <a:off x="1538280" y="4703760"/>
            <a:ext cx="3916440" cy="360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http://zno.academia.in.ua/pluginfile.php/4719/mod_book/chapter/622/algebr_006.png"/>
          <p:cNvPicPr/>
          <p:nvPr/>
        </p:nvPicPr>
        <p:blipFill>
          <a:blip r:embed="rId4"/>
          <a:stretch/>
        </p:blipFill>
        <p:spPr>
          <a:xfrm>
            <a:off x="1571760" y="5316480"/>
            <a:ext cx="6823080" cy="34452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4"/>
          <p:cNvSpPr/>
          <p:nvPr/>
        </p:nvSpPr>
        <p:spPr>
          <a:xfrm>
            <a:off x="1120680" y="41400"/>
            <a:ext cx="784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Будь-яке натуральне число </a:t>
            </a:r>
            <a:r>
              <a:rPr b="0" i="1" lang="uk-UA" sz="28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 у десятковій системі числення можна подати у вигляді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6T07:51:00Z</dcterms:created>
  <dc:creator>Admin</dc:creator>
  <dc:description/>
  <dc:language>en-US</dc:language>
  <cp:lastModifiedBy>BAO</cp:lastModifiedBy>
  <dcterms:modified xsi:type="dcterms:W3CDTF">2018-09-05T17:49:17Z</dcterms:modified>
  <cp:revision>75</cp:revision>
  <dc:subject/>
  <dc:title>Тема 1. Вступ до чисельних методів.  Загальні поняття</dc:title>
</cp:coreProperties>
</file>