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3.png" ContentType="image/png"/>
  <Override PartName="/ppt/media/image11.jpeg" ContentType="image/jpeg"/>
  <Override PartName="/ppt/media/image9.png" ContentType="image/png"/>
  <Override PartName="/ppt/media/image7.jpeg" ContentType="image/jpeg"/>
  <Override PartName="/ppt/media/image15.gif" ContentType="image/gif"/>
  <Override PartName="/ppt/media/image18.png" ContentType="image/png"/>
  <Override PartName="/ppt/media/image21.jpeg" ContentType="image/jpeg"/>
  <Override PartName="/ppt/media/image16.jpeg" ContentType="image/jpeg"/>
  <Override PartName="/ppt/media/image19.jpeg" ContentType="image/jpeg"/>
  <Override PartName="/ppt/media/image1.jpeg" ContentType="image/jpeg"/>
  <Override PartName="/ppt/media/image14.jpeg" ContentType="image/jpeg"/>
  <Override PartName="/ppt/media/image2.png" ContentType="image/png"/>
  <Override PartName="/ppt/media/image17.jpeg" ContentType="image/jpe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move the slide</a:t>
            </a:r>
            <a:endParaRPr b="0" lang="en-US" sz="4400" spc="-1" strike="noStrike">
              <a:solidFill>
                <a:srgbClr val="0070c0"/>
              </a:solidFill>
              <a:latin typeface="Calibri"/>
            </a:endParaRPr>
          </a:p>
        </p:txBody>
      </p:sp>
      <p:sp>
        <p:nvSpPr>
          <p:cNvPr id="5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meHub Kick off Meeting, Bilbao, 23-24 Nov.2015</a:t>
            </a:r>
            <a:endParaRPr b="0" lang="en-US" sz="1200" spc="-1" strike="noStrike">
              <a:solidFill>
                <a:srgbClr val="000000"/>
              </a:solidFill>
              <a:latin typeface="Times New Roman"/>
            </a:endParaRPr>
          </a:p>
        </p:txBody>
      </p:sp>
      <p:sp>
        <p:nvSpPr>
          <p:cNvPr id="52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F4575-EF61-44EA-BA16-0EC297025BB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s://habrahabr.ru/post/110535/" TargetMode="External"/><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Сама технологія </a:t>
            </a:r>
            <a:r>
              <a:rPr b="0" lang="en-US" sz="700" spc="-1" strike="noStrike">
                <a:solidFill>
                  <a:srgbClr val="000000"/>
                </a:solidFill>
                <a:latin typeface="Calibri"/>
              </a:rPr>
              <a:t>Motion Capture </a:t>
            </a:r>
            <a:r>
              <a:rPr b="0" lang="ru-RU" sz="700" spc="-1" strike="noStrike">
                <a:solidFill>
                  <a:srgbClr val="000000"/>
                </a:solidFill>
                <a:latin typeface="Calibri"/>
              </a:rPr>
              <a:t>з'явилася на світ разом з </a:t>
            </a:r>
            <a:r>
              <a:rPr b="0" lang="en-US" sz="700" spc="-1" strike="noStrike">
                <a:solidFill>
                  <a:srgbClr val="000000"/>
                </a:solidFill>
                <a:latin typeface="Calibri"/>
              </a:rPr>
              <a:t>Mortal Komba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На початку 80-х медики в американських університетах стали застосовувати комп'ютери для дослідження людського тіла. Том Калверт, професор кінезіології і комп'ютерних наук запропонував використовувати потенціометри, прикріплюючи їх до різних суглобам на людському тілі. Комп'ютер вимірював дані приладів і показував на екрані рухається скелет людини. Калверт використовував свій винахід для наочної вивчення кінематики людського організму, дефектів мускулатурной системи, а також для. демонстрації па-де-де в хореографічних класах [4].</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Які ігри використовують захоплення руху?</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 </a:t>
            </a:r>
            <a:r>
              <a:rPr b="0" lang="en-US" sz="700" spc="-1" strike="noStrike">
                <a:solidFill>
                  <a:srgbClr val="000000"/>
                </a:solidFill>
                <a:latin typeface="Calibri"/>
              </a:rPr>
              <a:t>NBA live</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PGA tou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NHL hockey</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egends of Wrestling 2</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ords of Everques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ord of the Ring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Tony Hawk Pro Skate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Batman: Dark Tomorrow</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Grand Theft Auto</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Soul Calibe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iger Woods PGA Tour 07</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игрові ліси використовують спеціально розроблену техніку захоплення руху обличчя,</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називається Universal Capture, Digital Air [24]. Процес починається з сканування голов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за допомогою камер високої чіткості, щоб отримати 3D-модель голови актора.</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оді велика кількість маркерів (від 80 до 90) розміщується в ключових регіонах</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голова актора та рухи маркерів фіксуються як анімації в тривимірному режим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простір камер. Цей рух був проти ФІФА, який бу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захоплений у просторому приміщенні, записується в обмежений стенд з обмеженим рухом.</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Це виправдано тим фактом, що в цьому процесі ми тільки хочемо анімацію обличчя, а не</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анімація повного тіла, де гравці практично не показують анімацію обличчя. Близько 18 рок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камери mocap, 3 відеокамери, 2 мікрофони та величезна кількість прожектор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точувати стенд. Три відеокамери використовуються для захоплення особи актора</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ри різних кутів, і записане відео потім використовується для обертання навколо модел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бличчя від фази 1 процесу захоплення і таким чином створити остаточну анімовану 3D-модель</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голова актора, яка анімована за записаними даними камерами Mocap 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маркери, в кабіні. Можуть демонструвати відеоролики та покрокові інструкції систем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можна побачити в [2].</a:t>
            </a:r>
            <a:endParaRPr b="0" lang="en-US" sz="7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пасивні.</a:t>
            </a:r>
            <a:r>
              <a:rPr b="0" lang="uk-UA" sz="1200" spc="-1" strike="noStrike">
                <a:solidFill>
                  <a:srgbClr val="000000"/>
                </a:solidFill>
                <a:latin typeface="Calibri"/>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інус оптичних пасивних систем полягає в тривалості розміщення маркерів на актора. Так само іноді при швидкому русі або близькому розташуванні маркерів один до одного система може їх плутати (оскільки ця технологія не передбачає ідентифікації кожного маркера окрем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пасивні.</a:t>
            </a:r>
            <a:r>
              <a:rPr b="0" lang="uk-UA" sz="1200" spc="-1" strike="noStrike">
                <a:solidFill>
                  <a:srgbClr val="000000"/>
                </a:solidFill>
                <a:latin typeface="Calibri"/>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активні </a:t>
            </a:r>
            <a:r>
              <a:rPr b="0" lang="uk-UA" sz="1200" spc="-1" strike="noStrike">
                <a:solidFill>
                  <a:srgbClr val="000000"/>
                </a:solidFill>
                <a:latin typeface="Calibri"/>
              </a:rPr>
              <a:t>названі так тому, що замість світловідбивних маркерів, які кріпляться до костюму актора, в них використовуються світлодіоди з інтегрованими процесорами і радіо-синхронізацією. Кожному світлодіоду призначається ID (ідентифікатор), що дозволяє системі не плутати маркери один з одним, а також дізнаватися їх, після того як вони були перекриті і знову з'явилися в поле зору камер. У всьому іншому принцип роботи таких систем схожий з пасивними систем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інуси активних сист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Відсутність можливості захоплення рухів і міміки обличч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Додатковий контролер, що кріпиться до актора і підключений до маркерів-светодиодів, сковує його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Крихкість і відносно висока вартість маркерів-світлодіоді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Магнітні системи, </a:t>
            </a:r>
            <a:r>
              <a:rPr b="0" lang="uk-UA" sz="600" spc="-1" strike="noStrike">
                <a:solidFill>
                  <a:srgbClr val="000000"/>
                </a:solidFill>
                <a:latin typeface="Calibri"/>
              </a:rPr>
              <a:t>в яких маркерами є магніти, а камерами - ресивери, система вираховує їх позиції по спотворень магнітного потоку.</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Мінуси магніт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агнітні системи схильні до магнітним і електричним перешкод від металевих предметів і оточення (електропроводки приміщення, оргтехніки, арматури в плитах будови)</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інливий чутливість сенсорів в залежності від їх положення в робочій зоні</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енша в порівнянні з оптичними системами робоча зон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ідсутність можливості захоплення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одатковий контролер, прикріплений до актора і підключений до магнітних маркерами, або навіть зв'язка проводів, що тягнеться від актора до комп'юте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a:t>
            </a:r>
            <a:r>
              <a:rPr b="0" lang="uk-UA" sz="600" spc="-1" strike="noStrike">
                <a:solidFill>
                  <a:srgbClr val="000000"/>
                </a:solidFill>
                <a:latin typeface="Calibri"/>
              </a:rPr>
              <a:t>Висока вартість магнітних маркер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Механічні системи </a:t>
            </a:r>
            <a:r>
              <a:rPr b="0" lang="uk-UA" sz="600" spc="-1" strike="noStrike">
                <a:solidFill>
                  <a:srgbClr val="000000"/>
                </a:solidFill>
                <a:latin typeface="Calibri"/>
              </a:rPr>
              <a:t>безпосередньо стежать за згинами суглобів, для цього на актора надаватися спеціальний механічний mocap-скелет, який повторює слідом за ним всі рухи. У комп'ютер при цьому передаються дані про кути згинів всіх суглоб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Мінуси механіч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Mocap-скелет, з додатковим контролером, прикріпленим до актора і підключеним до сенсорам згинів, а в деяких випадках і дроти, що тягнуться від скелета, сильно обмежують руху акто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ідсутність можливості захопленн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тісної взаємодії двох і більше акторів (боротьба, танці з підтримками і т. д.)</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на підлозі - перекиди, падіння і т. д.</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Ризик поломки механіки при необережному використанні.</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Гіроскопічні / інерціальні системи </a:t>
            </a:r>
            <a:r>
              <a:rPr b="0" lang="uk-UA" sz="600" spc="-1" strike="noStrike">
                <a:solidFill>
                  <a:srgbClr val="000000"/>
                </a:solidFill>
                <a:latin typeface="Calibri"/>
              </a:rPr>
              <a:t>для збору інформації про рух використовують мініатюрні гіроскопи і інерційні сенсори, розташовані на тілі актора - також як і маркери або магніти в інших mocap-системах. Дані з гіроскопів і сенсорів передаються в комп'ютер, де відбувається їх обробка і запис. Система визначає не тільки положення сенсора, але також кут його нахилу.</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600" spc="-1" strike="noStrike" u="sng">
                <a:solidFill>
                  <a:srgbClr val="000000"/>
                </a:solidFill>
                <a:uFillTx/>
                <a:latin typeface="Calibri"/>
              </a:rPr>
              <a:t>Мінуси гироскопических / інерцій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600" spc="-1" strike="noStrike" u="sng">
                <a:solidFill>
                  <a:srgbClr val="000000"/>
                </a:solidFill>
                <a:uFillTx/>
                <a:latin typeface="Calibri"/>
              </a:rPr>
              <a:t>• </a:t>
            </a:r>
            <a:r>
              <a:rPr b="0" lang="uk-UA" sz="600" spc="-1" strike="noStrike">
                <a:solidFill>
                  <a:srgbClr val="000000"/>
                </a:solidFill>
                <a:latin typeface="Calibri"/>
              </a:rPr>
              <a:t>Відсутність можливості захоплення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одатковий контролер, прикріплений до актора і підключений до магнітних маркерами, або навіть зв'язка проводів, що тягнеться від актора до комп'юте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исока вартість гіроскопів і інерційних сенсор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ля визначення положення актора в просторі потрібна додаткова міні-система (оптична або магнітн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Список літератури:</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Jessica Hodgins. Motion Capture Technologies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Motion Capture Fundamentals A Critical and Comparative Analysis on Real-World Applications Pedro Nogueira, Faculdade de Engenharia da Universidade do Porto Programa Doutoral em Engenharia Informática Instituto de Telecomunicações 18 de Novembro de 2011</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MOTION CAPTURE PROCESS, TECHNIQUES AND APPLICATIONS Ashish Sharma, MukeshAgarwal, Anima Sharma,PankhuriDhuria International Journal on Recent and Innovation Trends in Computing and Communication. 2013. Volume: 1 Issue: 4 251 – 257</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u="sng">
                <a:solidFill>
                  <a:srgbClr val="0000ff"/>
                </a:solidFill>
                <a:uFillTx/>
                <a:latin typeface="Calibri"/>
                <a:hlinkClick r:id="rId1"/>
              </a:rPr>
              <a:t>https://habrahabr.ru/post/110535/</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https://klona.ua/blog/3d-animaciya/3d-modelirovanie-personajey-populyarnye-programmy-i-videouroki</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звукові ефект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Для будь-якого маломальского ігрового руху потрібно додати відповідний звук. Це можуть бути удари меча, нанесення рукопашного удару, звуки руху автомобіля, отримання бонусу, виявлення героя ворогом. Не думайте, що це якесь надмірність, і можна обійтися всього декількома базовими звуками. Наприклад, в більшості 3D-Action ігор нехтують додаванням звуків кроків головного героя і ворогів. В результаті - при вигляді від першої особи видно, що герой пересувається в просторі, але здається, що він не йде, а плавно ковзає вперед. А вороги без озвучки кроків взагалі можуть абсолютно безшумно підбігти до героя ззаду і сильно попсувати нерви гравцям.</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Хороші звукові ефекти не тільки заповнюють тишу, але і являють собою продовження графічного стилю гри. Весела аркада наповнена не менш веселими мелодійними звуками, спортивний автосимулятор наповнений рокітливим гулом моторів і брязкотом гальм, тривимірний бойовик приголомшує кулеметними чергами, падаючими гільзами і клацають затворами гвинтівок.</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Найчастіше в якості звукових ефектів використовуються реальні звуки, записані в цифровому вигляді. В інтернеті є безліч безкоштовних колекцій звукових ефектів, Вам потрібно лише знайти їх і вибрати найбільш підходящ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3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C9B15-14C4-42C5-96D3-2F643C3F29A7}"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Музи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Озвуч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Музи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Озвуч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звуч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0D3BB-AAE6-42EE-AFFB-DD11BC7C0576}"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інематографічні послідовності (cinematic sequences). Це внутрішньоігрові ролики, міні-фільми всередині відеоігор. Вони використовуються в якості вступних відеороликів, в переходах між ігровими рівнями, в просуванні по сюжетної лінії і т.д. З точки зору написання музики, тут в точності повторюється процес написання музики для фільму: лінійне уявлення, яке протікає від початку до кінця року згідно з написаним порядку. Музика також переслідує аналогічні цілі: формування емоційного настрою, встановлення певного темпу сприйняття, підкреслення поворотів сюжету, привернення уваги та посилення емоцій у всіх необхідних місцях фабул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Музика екрану меню (Menu Screen Music). Екрани меню бувають дуже різноманітними, але всі вони, по суті, є одними інтер фейсамі11 для коригування параметрів геймплея. Музика тут може являти собою набір звукових об'єктів, що залежить від типу меню і того, в який момент гри виник екран. Музика будь-якого меню повинна бути пов'язана з основним тематизмом гри і зберігати певний рівень погру- жённості гравця у віртуальний сві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98B48-52D8-476E-B141-9466B6C27A8D}"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узика ігрового сюжету (Gameplay music). Це музика, яка безпосередньо виникає під час гри і може мати різні цілі, які залежать від жанру гри; 11 Інтерфейс користувача або призначений для користувача інтерфейс (англ. User interface) - сукупність засобів, за допомогою яких користувач взаємодіє з програмою або пристроєм. Саліхов А.Н. Музика в відеоіграх. До проблеми вивчення нової композиторської практики 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Просування сюжету, вирізані сцени і додаткові матеріали (Plot Advancement, Cut Scenes, and Tie-ins). Аудіо бере активну участь в переходах: коли відбувається просування до наступного рівня або коли напрямок розвитку рішуче змінюється під час гри; Кінематика зазвичай пишеться в розрахунку на музичний розвиток в перспективі. Вона вимагає драматично вибудуваної музики (з наскрізним розвитком) для того, щоб привернути увагу гравця і мотивувати його до подолання чергового ігрового рівня. У випадках просування сюжету, де не задіяна кінематика, музика може діяти як провісник майбутнього зіткнення. Аудіо- репліки взаємодіють з мисленням гравця, дозволяючи використовувати біль-ше органів почуттів для збереження «життя» геймера, а не лише зір;</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FB0B0-9687-47D3-8238-22A638B9B33C}"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Фінальні репліки «перемоги» і «поразки» ( «Win» and «Lose» Final Cues). З зорі епохи відеоігор ці специфічні музичні прийоми стали стандартом: в разі перемоги оптимістичний букет зі звуків винагороджує гравця за його старання, а при ураженні звучить сумна і навіть принизливого кові музика, або легка надихаюча - на ще одну спробу пройти рівень. У музичному плані ці репліки залишаються всередині основного музичного «словника», тематизма гри і, традиційно, відтворюються тим же набором музичних засоб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 </a:t>
            </a:r>
            <a:r>
              <a:rPr b="0" lang="uk-UA" sz="700" spc="-1" strike="noStrike">
                <a:solidFill>
                  <a:srgbClr val="000000"/>
                </a:solidFill>
                <a:latin typeface="Calibri"/>
              </a:rPr>
              <a:t>Інтерактивна музика (Interactive Music). Це музика, в якій зміни звучання обумовлені виключно діями користувача. Робота зі створення інтерактивної музики потребують доброго знання музичних стилів і того як вони можуть бути використані в грі. Тут буде недостатньо просто скласти хорошу музику, важливо також знати, як забезпечити сполучуваність між багатьма музичними п'єсами, кото риє можуть відтворюватися в будь-який час і в різних поєднаннях.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сновне правило твори інтерактивної музики: при зміні звукової Саліхов А.Н. Музика в відеоіграх. До проблеми вивчення нової композиторської практики 10 доріжки вона повинна зливатися з будь-якої іншої музичної реплікою, в будь-який момент часу. Мабуть, перший ключ до інтерактивної музиці полягає у використанні одного банку звуків і однієї інструментування. Це дозволяє працювати композиціям в одній зв'язці. Інша рекомендація полягає в розташуванні всієї музики навколо однієї тональності (одних ключових знаків). Ці прийоми використовуються в кіномузики, і немає ніяких причин, чому вони не могли б використовуватися і в музиці для відеоігор. Вико вання музики, що починається з різкою атаки також сприятливо, особливо коли ігровий режим швидко змінюється з режиму дослідження світу на бойовий. Швидке і гучне початок музичної п'єси, за умови, що воно добре зроблено, може «перехопити подих» гравця, заставши його зненацька. Якщо послухати запис іншої людини, що грає в цю ж гру, то хороший інтерактивний саундтрек буде здаватися таким, як ніби він спеціально написаний для цієї сцени - як в лінійному кіно. Коли це працює правильно, то відчуття виникають неймовірні;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Петлі, або зациклюватися музика (Loops). Коли фізичне місце зберігання, швидкість процесора або пам'ять RAM є визначальними факторами, всі зусилля спрямовані на збереження місця на диску. Для аудіо одним з кращих засобів для досягнення цієї мети є використання музичної «петлі» 12. Вона швидко завантажується в пам'ять і програється повторно, не займаючи більше ніяких ресурсів. Геймплей, екрани меню і фінальні екрани - найкращі місця для її застосування. Для композитора твір петлі не становить великих труднощів. Єдиним справжнім секретом майстерності є знаходження вдосконалення- 12 Музична петля - відрізок музики, який досягши певного моменту, починає програватися спочатку. основним критерієм</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якості виконаної петлі є її непомітність на слух. У вдалі приклади слухач починає розуміти, що він слухає «петлю» лише з 3-4 програвання музичного фрагмента. Саліхов А.Н. Музика в відеоіграх. До проблеми вивчення нової композиторської практики 11 шенного (в плані зациклення) проміжку часу - вона повинна бути виконана таким чином, щоб стик вийшов непомітним. Зацикленої може бути абсолютно будь-яка музика. Оптимальна довжина петлі варіюється від 15-20 секунд до 3-4 хвилин.</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a:t>
            </a:r>
            <a:r>
              <a:rPr b="0" lang="uk-UA" sz="700" spc="-1" strike="noStrike">
                <a:solidFill>
                  <a:srgbClr val="000000"/>
                </a:solidFill>
                <a:latin typeface="Calibri"/>
              </a:rPr>
              <a:t>Атмосферні, ембієнт треки (Ambient Tracks). У боротьбі з нежела- котельної тишею ембіент13 музика може використовуватися для підтримки тривалої звуковий активності внутрішньо реальності. Цей тип фонової музики має на увазі створення ненав'язливою звуковий атмосфери, музичний матеріал якої залишається в межах стилю головної теми, будучи менш «важкої» її версією. Ідеально підходить для сценаріїв з тривалим геймплеєм, де герою потрібно сконцентруватися.</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a:t>
            </a:r>
            <a:r>
              <a:rPr b="0" lang="uk-UA" sz="700" spc="-1" strike="noStrike">
                <a:solidFill>
                  <a:srgbClr val="000000"/>
                </a:solidFill>
                <a:latin typeface="Calibri"/>
              </a:rPr>
              <a:t>Стінгери (Stingers). Використовуються в поєднанні з іншою ігровий музикою, яка, як правило, вже грає до моменту їх появи. Вони являють собою ділянки музики, які закликають звернути увагу на раптову зміну в сюжетній лінії або інші значні події. Ці відрізки музики в основному дуже короткі за часом (кілька секунд), і, виділяючись з основного звучання, вони в той же час залишаються в межах теми, зазвичай використовуються схожі музичні характеристик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1.Scott Rogers. Level Up!: The Guide to Great Video Game Design. 2nd Edition. 2014 John Wiley and Son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2.Деникин А.А. Звуковой дизайн в видеоиграх. Технологии «игрового» аудио для непрограммистов. – М.: ДМК Пресс, 2012. Стр. 105-115.</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64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8772E-3BA4-4B15-87B1-8ACBFC6C7242}"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D-моделювання персонажів - це процес створення віртуальної тривимірної моделі персонажа за допомогою спеціального програмного забезпечення. 3D-анімація дозволяє «оживити» 3D-моделі персонажів і населити ними віртуальні сві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D-моделі мають ряд переваг над 2D-графікою, особливо при створенні ігор, фільмів або мультиків. Самими значущими перевагами 3D-персонажів є:</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реалістичність: за допомогою 3D-моделі можна домогтися будь-якого рівня деталізації - від простої схематичності до фотографічної точності;</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свобода анімації: персонажем легко управляти - він буде виконувати будь-які дії і для цього його не потрібно перемальовувати в різних поза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простота роботи: програми дозволяють змінювати модель за допомогою декількох рухів миш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візуалізація: об'ємна комп'ютерна модель виглядає набагато яскравіше, ніж 2D малюн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процес анімації</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Створення поз (posing).</a:t>
            </a:r>
            <a:r>
              <a:rPr b="0" lang="uk-UA" sz="1200" spc="-1" strike="noStrike">
                <a:solidFill>
                  <a:srgbClr val="000000"/>
                </a:solidFill>
                <a:latin typeface="Calibri"/>
              </a:rPr>
              <a:t> На цьому етапі персонаж послідовно приймає пози, які виконують дію. Тут важливо створити таку кількість ключових кадрів, якого буде достатньо для виконання дії, а не так багато, щоб сильно уповільнити поточний хід створення анімації. Саме тут відповідні довідкові матеріали можна прийняти за основу для створення вольових поз, що виконують дії, які намагається висловити анімаці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Хронометраж (timing). </a:t>
            </a:r>
            <a:r>
              <a:rPr b="0" lang="uk-UA" sz="1200" spc="-1" strike="noStrike">
                <a:solidFill>
                  <a:srgbClr val="000000"/>
                </a:solidFill>
                <a:latin typeface="Calibri"/>
              </a:rPr>
              <a:t>Зазвичай це найшвидша фаза, оскільки вона полягає у виділенні і переміщенні ключових кадрів в таких засобах Maya, як Dope Sheet і Timeline, зміні типу дотичних (тангенціальних маніпуляторів) ключових кадрів на дотичні з фіксацією (clamped) і додаванні ключових кадрів для окремих елементів управління, якщо це необхідно для створення плавного руху. Щоб визначити правильні інтервали часу між ключовими кадрами, частіше переглядайте анімацію сцени за допомогою засобу Playblast. Довідкова відеоінформація допоможе розпочати процес розподілу часу, але, швидше за все, дія доведеться прискорити на 10 - 20%, оскільки анімаційне дію майже завжди виглядає уповільненим, якщо воно точно відповідає хронометражем кінематографічних дій. До кінця цього етапу анімація завершена на 90%, але створення справді великої анімації передбачає ще багато роботи на наступному етапі.</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точнення (</a:t>
            </a:r>
            <a:r>
              <a:rPr b="0" lang="en-US" sz="1200" spc="-1" strike="noStrike">
                <a:solidFill>
                  <a:srgbClr val="000000"/>
                </a:solidFill>
                <a:latin typeface="Calibri"/>
              </a:rPr>
              <a:t>refining). </a:t>
            </a:r>
            <a:r>
              <a:rPr b="0" lang="ru-RU" sz="1200" spc="-1" strike="noStrike">
                <a:solidFill>
                  <a:srgbClr val="000000"/>
                </a:solidFill>
                <a:latin typeface="Calibri"/>
              </a:rPr>
              <a:t>Це найтриваліший етап, так як саме тут додаються деталі, що створюють чудову анімацію. Даний етап - це вже зовсім не анімація для анімації. Він включає в себе додавання ключових кадрів в крайніх положеннях, зміщення рухів, боротьбу з симетрією, обробку проходжень об'єктів крізь один одного і накладень, а також багато іншого. Ці останні 10% анімації можуть зайняти 50% час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розділеному на три етапи анімаційному процесі можливо велику кількість експериментів, і в цьому його величезне перевага. Як буде показано далі, дуже часто під час створення поз плідним може виявитися і злегка відрізняється підхід. Цей процес надзвичайно гнучкий, він дозволяє вільно змінювати створені пози і хронометраж аж до отримання остаточного результату.</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сонажі всіх найбільш відомих ігор виконані з використанням 3</a:t>
            </a:r>
            <a:r>
              <a:rPr b="0" lang="en-US" sz="1200" spc="-1" strike="noStrike">
                <a:solidFill>
                  <a:srgbClr val="000000"/>
                </a:solidFill>
                <a:latin typeface="Calibri"/>
              </a:rPr>
              <a:t>D </a:t>
            </a:r>
            <a:r>
              <a:rPr b="0" lang="ru-RU" sz="1200" spc="-1" strike="noStrike">
                <a:solidFill>
                  <a:srgbClr val="000000"/>
                </a:solidFill>
                <a:latin typeface="Calibri"/>
              </a:rPr>
              <a:t>моделювання та анімації. Серед них герої </a:t>
            </a:r>
            <a:r>
              <a:rPr b="0" lang="en-US" sz="1200" spc="-1" strike="noStrike">
                <a:solidFill>
                  <a:srgbClr val="000000"/>
                </a:solidFill>
                <a:latin typeface="Calibri"/>
              </a:rPr>
              <a:t>Call of Duty, Wiedźmin (</a:t>
            </a:r>
            <a:r>
              <a:rPr b="0" lang="ru-RU" sz="1200" spc="-1" strike="noStrike">
                <a:solidFill>
                  <a:srgbClr val="000000"/>
                </a:solidFill>
                <a:latin typeface="Calibri"/>
              </a:rPr>
              <a:t>Відьмак), </a:t>
            </a:r>
            <a:r>
              <a:rPr b="0" lang="en-US" sz="1200" spc="-1" strike="noStrike">
                <a:solidFill>
                  <a:srgbClr val="000000"/>
                </a:solidFill>
                <a:latin typeface="Calibri"/>
              </a:rPr>
              <a:t>Fallout, Portal, Assassin's Creed, Resident Evil, The Legend of Zelda, Battlefield, Mass Effect, Far Cry, Prince of Persia, Deus Ex, Diablo.</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УЛЯРНІ ПРОГРАМИ ДЛЯ МОДЕЛЮВАННЯ ПЕРСОНАЖІ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рами для моделювання персонажів ще називають програмами для цифрової скульптури - процес створення моделей імітує процес ліпленн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Bru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e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рами від </a:t>
            </a:r>
            <a:r>
              <a:rPr b="0" lang="en-US" sz="1200" spc="-1" strike="noStrike">
                <a:solidFill>
                  <a:srgbClr val="000000"/>
                </a:solidFill>
                <a:latin typeface="Calibri"/>
              </a:rPr>
              <a:t>Autodesk (3Ds Max, Maya) [5]</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 - це процес запису переміщень акторів і їх відтворення в цифрових моделях персонажів. Професійні художники із захоплення руху і 3</a:t>
            </a:r>
            <a:r>
              <a:rPr b="0" lang="en-US" sz="1200" spc="-1" strike="noStrike">
                <a:solidFill>
                  <a:srgbClr val="000000"/>
                </a:solidFill>
                <a:latin typeface="Calibri"/>
              </a:rPr>
              <a:t>D-</a:t>
            </a:r>
            <a:r>
              <a:rPr b="0" lang="ru-RU" sz="1200" spc="-1" strike="noStrike">
                <a:solidFill>
                  <a:srgbClr val="000000"/>
                </a:solidFill>
                <a:latin typeface="Calibri"/>
              </a:rPr>
              <a:t>анімації в галузі виробництва комп'ютерних ігор (англійська), а також фільмів і телепередач (англійська) використовують програми захоплення руху від компанії </a:t>
            </a:r>
            <a:r>
              <a:rPr b="0" lang="en-US" sz="1200" spc="-1" strike="noStrike">
                <a:solidFill>
                  <a:srgbClr val="000000"/>
                </a:solidFill>
                <a:latin typeface="Calibri"/>
              </a:rPr>
              <a:t>Autodesk </a:t>
            </a:r>
            <a:r>
              <a:rPr b="0" lang="ru-RU" sz="1200" spc="-1" strike="noStrike">
                <a:solidFill>
                  <a:srgbClr val="000000"/>
                </a:solidFill>
                <a:latin typeface="Calibri"/>
              </a:rPr>
              <a:t>для реалізації наступних завдан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німаці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ідео ігр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правління роботом [2]</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ивчення емоцій- це одна з основних особливостей геймплея, і тому, наскільки у вас вийде помічати найменші зміни на обличчях віртуальних персонажів, буде залежати розвиток гри. Навіть невеликі емоції ігрових персонажів можуть дати вам важливі ключі до розгадки злочинів, пропонованих грою.</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Технологія </a:t>
            </a:r>
            <a:r>
              <a:rPr b="0" lang="en-US" sz="1100" spc="-1" strike="noStrike">
                <a:solidFill>
                  <a:srgbClr val="000000"/>
                </a:solidFill>
                <a:latin typeface="Calibri"/>
              </a:rPr>
              <a:t>Motion Capture (mo-cap, «</a:t>
            </a:r>
            <a:r>
              <a:rPr b="0" lang="ru-RU" sz="1100" spc="-1" strike="noStrike">
                <a:solidFill>
                  <a:srgbClr val="000000"/>
                </a:solidFill>
                <a:latin typeface="Calibri"/>
              </a:rPr>
              <a:t>захоплення рухів») дозволяє оцифрувати руху актора і використовувати їх для управління тривимірної моделлю персонажа. Захоплення руху активно використовується і в комп'ютерних іграх, і в анімації, і в кінематограф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 рамках проекту </a:t>
            </a:r>
            <a:r>
              <a:rPr b="0" lang="en-US" sz="1100" spc="-1" strike="noStrike">
                <a:solidFill>
                  <a:srgbClr val="000000"/>
                </a:solidFill>
                <a:latin typeface="Calibri"/>
              </a:rPr>
              <a:t>MOCA </a:t>
            </a:r>
            <a:r>
              <a:rPr b="0" lang="ru-RU" sz="1100" spc="-1" strike="noStrike">
                <a:solidFill>
                  <a:srgbClr val="000000"/>
                </a:solidFill>
                <a:latin typeface="Calibri"/>
              </a:rPr>
              <a:t>Ми пропонуємо рух</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етодологія Захоплення на основе анатомічної моделі людин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Ця модель охоплює точне опис скелет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рухлівість пов'язана з Наближення конвертом. це має</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одвійна мета: забезпечуючі скроню точність механічніх</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одель для Виконавця, ми можемо точно Передбачити 3</a:t>
            </a:r>
            <a:r>
              <a:rPr b="0" lang="en-US" sz="1100" spc="-1" strike="noStrike">
                <a:solidFill>
                  <a:srgbClr val="000000"/>
                </a:solidFill>
                <a:latin typeface="Calibri"/>
              </a:rPr>
              <a:t>D</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Розташування та відімість маркерів, тім самим зменшуюч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значний втручання людини во время превращение</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оцес</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едложено методологія зосереджена на Русі тел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Захоплення; Захоплення руху лица требует питань комерційної торгівлі прістроїв 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ідході Одне питання розглядається в іншій части </a:t>
            </a:r>
            <a:r>
              <a:rPr b="0" lang="en-US" sz="1100" spc="-1" strike="noStrike">
                <a:solidFill>
                  <a:srgbClr val="000000"/>
                </a:solidFill>
                <a:latin typeface="Calibri"/>
              </a:rPr>
              <a:t>MOCA</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оект - це одночасне Захоплення як тела, так и тел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лица руху з їх відповіднімі технологіямі [3].</a:t>
            </a:r>
            <a:endParaRPr b="0" lang="en-US" sz="11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C1EF87-F6A8-4913-BE4A-8AA9E7A9DE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5C1B4-6988-4B24-A371-A49C1429D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BFAF2EC-439B-454B-809B-9618C0B1F1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99C9E8-6C79-4E18-AB24-9120BEF922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7AAA74-732B-4F3B-9E79-45F824F366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140671-91A1-4A2C-85AF-3F750E6453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CB139C-38AD-4A43-9E3E-8397FB7FF3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C6F0E5-438E-4437-92C4-149E8AE046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0D5573-2C75-447F-A3F7-C562FC12C8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82CA4EB-1F23-4DA3-892F-F30D27E8F2D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4CF090D-6632-459D-B090-8B61F0C8F97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779AAF0-ED33-471C-8599-78DECB2A477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F2B604-BE81-4EA7-8A23-7C45345E55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293BE74-072A-4B26-A85D-D8D23ACCEEB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AF79ABD-51A6-4F68-B960-ADF0616C754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9373AF8-FC46-438B-82AC-2D2FDC8363F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55028CD-AA4E-4D35-A75E-0414236633B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34AD0DE-7DCC-4F4D-A8BF-35B978E6670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7972A77-DDB5-4CFC-8FD0-D8162FA42C7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7647460-13B2-4AE4-B74C-960CC8F5130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DBA8E4D-F3A2-4759-BA48-F3580A0DF6C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841F657-7D33-4E24-B98B-59AB10D4E6D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077F4F0-9E49-415E-A840-B7483A8EDCE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424EE4-203B-481C-89B7-7874A959B7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A672ECD-B78E-4D36-8A8E-0138F0E34B4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10F7129-6791-411C-9DD2-1B2AF55FE3B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39AFA26-6BB8-4C19-A388-F15A13078A2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C06A55B-4064-448F-9F2D-DFA18304154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210989E-80E6-4474-9D31-327D1BFBA45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A8D3814-C944-4246-8BFE-90B3C5C0258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F96DA2B-A31A-4B18-ACFD-5F3C4CCDFFD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65D1D20-4FDB-4BC7-AFBB-85DED3E154E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FB4436B-4B42-495F-BAE0-17656DABD61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3CF949C-3540-4375-BD71-8E4F56F726A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2ACFDC-9F5E-4F2B-964F-08D45E8E83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8C4E898-E3F1-4737-806A-B2ED4BF738C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847998C-4890-407E-B685-77955876051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4BD4F65-CA57-4D53-8C9D-8CE6DD6F420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CCD8475-70A2-46C1-9F41-CDADEE978CC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222E2A7-C426-4396-ACE7-4BDDF03FD71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C5D1521-46D6-445A-90C4-77C6CF60D8B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6F523FA-FBF2-48AD-9D30-23EF64FF452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22EF02E-B446-486A-9789-81E0562F9F5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DF0EF62-7AEE-4819-BC09-39D147AC4A4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6682FA3-A443-49EC-863F-8444D5799A1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DBDA96-A0B1-4A69-A192-4FD94441F1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30EB905-B43E-4BBD-8AD4-E8FE0317181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AC5AD49-5D9E-430D-8265-493E7F3A79C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8ED35C4-87FB-437F-95E8-7D5A9F114BA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9AC603D-E089-4452-B529-BE802055745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90A1679-48C4-4BF1-9A78-A5523EB4F09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F1B25F-8968-4088-8885-D0600ED8B9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21EA95-1EFD-4876-8A49-B66B9AEE92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1C329C-B928-41FA-83BF-620CC993A3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96E6AF-D3D6-4395-844F-36B351A3E2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BD6B01-A8D1-4962-9582-34838828D0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D30EA-5A86-4E6A-BE9C-E3E062C4F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23B399-90F2-449E-A52E-9B5A3D1998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58E9C1-55B0-4F49-8CE2-DAC6942B0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8294D9-C8F3-4944-9C80-0B4AF2C09B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0C30E9-EF63-4AA0-B120-9C07F26F84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2A0918-A029-42CA-BD4C-FAA2CD3772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8FAE0E-0ED6-4DB8-9641-736B22428F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EF20DC-95F7-4CB6-879E-3AC42FA0B7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F1D822-39F1-4DB8-ABCC-AC4A1294AE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936495-2AD2-4274-8C92-3B1A3AAE5B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9B66A6-2528-4210-96F8-149F827201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0D857-4AD6-461C-877B-5BAF5CB1B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DBF8B8-0964-452E-B9C5-39784E9284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BB1729-7CCD-47E7-B35D-448A817A0A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ED32AE-FF6C-4406-A0D5-E044ED958D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5682EB-66C1-4773-AB38-3FD35EC362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007619-ACD5-40B8-B9B7-8BA6287085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88A8E9-B532-4AF1-BE49-62987DAD66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97B8CF-C898-4CA1-A3CF-95A015A4A2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1EA491-69B3-4E48-8311-4CB0B8837D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2723EA-3349-41EC-9A47-7361D45CA7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A14BE1-3B7D-4C9C-BC5A-1CC56C9E83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A1392-A0B6-4688-A618-667247DD6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BD61F8-501C-4500-B681-AAF84DC513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B7DAA6-387A-40DC-94E7-BBC5366FFF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15EB2D-2A72-4C71-A1AD-F324248A54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7DBBB0-1BD0-4AEB-8346-F0CF326028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37AA11-6C79-4B6F-A0DE-318276A2FD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84FEAC-A7B3-4063-B319-FAFB5A8972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E9CE53-5AC3-44D8-AE28-A9940F29F2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1DC408-D594-47AB-A1B4-1E86746C2A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6B0E01-EDB6-41B4-860A-02FFBFB76A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AA50F1-FD8B-41D7-9D41-C2FC04265C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FAB3A-7254-4F55-86EA-9A2A3982B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449B6C-1318-4B12-AACB-BE2C73562F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664D18-6AD1-4A04-ACC2-9BBE4B6470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E51442-2872-48FA-A642-FEE0D82094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FB80D2-5A0A-4441-A688-1ECDC73D7D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AD3655-1FAD-4A07-B4A0-EB836827C1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52722F-8A3A-4205-AD41-6A4531906D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808D03-2CFE-4076-9401-9C1C355455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8CAAA4-0C9C-42BA-A027-5D6126662B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4D032E-6A07-4F44-8CF1-9448CC2734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7D677BC-68E2-4F61-94FD-128EFC8107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5C6DF-2493-437B-9485-F50FB38AF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4596C54-8AE6-404D-8C12-51030A13A0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78CACDB-E543-449C-8664-1A5D728B6AC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FD03F1-0862-4A3F-A264-E9DB026ECB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5B4399-FCBB-42BB-A623-4CFB8942E0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299A87-A95A-4529-BD31-8C129028B8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669F93-1FF1-4BB6-A268-1436A92338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B37412-CB23-458D-AFDB-ACB081C49D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2EC3C3-5B3E-40BD-A0B6-3503D07B03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CC8722-6B6B-43F1-842F-A470B48D3C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18B0BC-5194-4C13-B5E2-423281865A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A82FB-1E97-4EFF-927C-271826C0E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AF5BEF-F0E5-4F10-8028-5826DA3A4D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217F561-62DA-4434-BCB2-DDA8FA0BCB1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D8FFBD-4B2A-4ED2-AE55-A2400342BEA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FBC0D26-A31B-4C60-AD64-CA1BFF363A6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72F889-56E3-4CFF-824E-9689C53FC9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920D10-AB48-4EFC-BC4E-C29BB37F9A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90A0FB-7B98-4F00-BBD7-4D67C53F74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CF1B1E-14F7-49A5-99D3-5EC9DC9A09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B5DAED-20D3-4D15-ADD1-3CC62EBB40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1DCFAA-1025-4E65-99BE-CCBA2CBBA2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4E40B-8D3C-41A1-B166-11400F40B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497021-45AB-4776-9ACF-3B82CAAD4B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C28C61-A9DD-4C32-BA9E-2ED94568B9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268398-8EBE-4457-B6BF-0B3ED1E0D0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5115A5E-43C8-46B4-A373-5F03D78F622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F490D39-CA70-41A8-9433-EAFB4A62EF4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6C6A0BB-E206-45DF-8E75-E5F05BD1828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8179AF-EDE4-4C99-B85E-832A13D278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B71271-E4DD-415B-AE11-9B488B4DC5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FCBBD6-55EF-48BB-84BC-FB9374AEB6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511BF9-DED5-40B6-A56A-197ED24317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166E1-AC30-4096-B3B1-162EF63AA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D5F7EB-40FA-40DC-B031-7E626EA003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0F0E92-F249-436C-8B45-1BD0656996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818F71-8596-411A-B7F3-EBF8261C2C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EFC7B8-ADD2-49CC-ABA7-DE86B0BFD9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894DD0-580C-4E25-B1BA-5579054C05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D13D3BB-8626-42A7-8AA3-B9356ADFE68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DD13CD9-E3DC-4CF5-AB18-516DB0CA10F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732EC1B-031D-435D-B7C4-26EE0553EB4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C8BF27-728C-438C-8E6F-F5A3EC3E47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D267F0-B02B-4831-80B6-4BC7C39972B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7E9CC-9F55-486B-9DFA-E435E284EF5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 name="Picture 7" descr=""/>
          <p:cNvPicPr/>
          <p:nvPr/>
        </p:nvPicPr>
        <p:blipFill>
          <a:blip r:embed="rId2"/>
          <a:stretch/>
        </p:blipFill>
        <p:spPr>
          <a:xfrm>
            <a:off x="34920" y="85680"/>
            <a:ext cx="1620720" cy="463680"/>
          </a:xfrm>
          <a:prstGeom prst="rect">
            <a:avLst/>
          </a:prstGeom>
          <a:ln w="0">
            <a:noFill/>
          </a:ln>
        </p:spPr>
      </p:pic>
      <p:pic>
        <p:nvPicPr>
          <p:cNvPr id="6" name="Picture 8" descr=""/>
          <p:cNvPicPr/>
          <p:nvPr/>
        </p:nvPicPr>
        <p:blipFill>
          <a:blip r:embed="rId3"/>
          <a:stretch/>
        </p:blipFill>
        <p:spPr>
          <a:xfrm>
            <a:off x="6443640" y="44280"/>
            <a:ext cx="2552760" cy="540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Picture 7" descr=""/>
          <p:cNvPicPr/>
          <p:nvPr/>
        </p:nvPicPr>
        <p:blipFill>
          <a:blip r:embed="rId2"/>
          <a:stretch/>
        </p:blipFill>
        <p:spPr>
          <a:xfrm>
            <a:off x="34920" y="85680"/>
            <a:ext cx="1620720" cy="463680"/>
          </a:xfrm>
          <a:prstGeom prst="rect">
            <a:avLst/>
          </a:prstGeom>
          <a:ln w="0">
            <a:noFill/>
          </a:ln>
        </p:spPr>
      </p:pic>
      <p:pic>
        <p:nvPicPr>
          <p:cNvPr id="388" name="Picture 8" descr=""/>
          <p:cNvPicPr/>
          <p:nvPr/>
        </p:nvPicPr>
        <p:blipFill>
          <a:blip r:embed="rId3"/>
          <a:stretch/>
        </p:blipFill>
        <p:spPr>
          <a:xfrm>
            <a:off x="6443640" y="44280"/>
            <a:ext cx="2552760" cy="540000"/>
          </a:xfrm>
          <a:prstGeom prst="rect">
            <a:avLst/>
          </a:prstGeom>
          <a:ln w="0">
            <a:noFill/>
          </a:ln>
        </p:spPr>
      </p:pic>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9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9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F0151-1310-479E-A670-EA69CF0B185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7" descr=""/>
          <p:cNvPicPr/>
          <p:nvPr/>
        </p:nvPicPr>
        <p:blipFill>
          <a:blip r:embed="rId2"/>
          <a:stretch/>
        </p:blipFill>
        <p:spPr>
          <a:xfrm>
            <a:off x="34920" y="85680"/>
            <a:ext cx="1620720" cy="463680"/>
          </a:xfrm>
          <a:prstGeom prst="rect">
            <a:avLst/>
          </a:prstGeom>
          <a:ln w="0">
            <a:noFill/>
          </a:ln>
        </p:spPr>
      </p:pic>
      <p:pic>
        <p:nvPicPr>
          <p:cNvPr id="431" name="Picture 8" descr=""/>
          <p:cNvPicPr/>
          <p:nvPr/>
        </p:nvPicPr>
        <p:blipFill>
          <a:blip r:embed="rId3"/>
          <a:stretch/>
        </p:blipFill>
        <p:spPr>
          <a:xfrm>
            <a:off x="6443640" y="44280"/>
            <a:ext cx="2552760" cy="540000"/>
          </a:xfrm>
          <a:prstGeom prst="rect">
            <a:avLst/>
          </a:prstGeom>
          <a:ln w="0">
            <a:noFill/>
          </a:ln>
        </p:spPr>
      </p:pic>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3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3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D2F36-8AFF-4913-B9B6-6273EEC5905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7" descr=""/>
          <p:cNvPicPr/>
          <p:nvPr/>
        </p:nvPicPr>
        <p:blipFill>
          <a:blip r:embed="rId2"/>
          <a:stretch/>
        </p:blipFill>
        <p:spPr>
          <a:xfrm>
            <a:off x="34920" y="85680"/>
            <a:ext cx="1620720" cy="463680"/>
          </a:xfrm>
          <a:prstGeom prst="rect">
            <a:avLst/>
          </a:prstGeom>
          <a:ln w="0">
            <a:noFill/>
          </a:ln>
        </p:spPr>
      </p:pic>
      <p:pic>
        <p:nvPicPr>
          <p:cNvPr id="474" name="Picture 8" descr=""/>
          <p:cNvPicPr/>
          <p:nvPr/>
        </p:nvPicPr>
        <p:blipFill>
          <a:blip r:embed="rId3"/>
          <a:stretch/>
        </p:blipFill>
        <p:spPr>
          <a:xfrm>
            <a:off x="6443640" y="44280"/>
            <a:ext cx="2552760" cy="540000"/>
          </a:xfrm>
          <a:prstGeom prst="rect">
            <a:avLst/>
          </a:prstGeom>
          <a:ln w="0">
            <a:noFill/>
          </a:ln>
        </p:spPr>
      </p:pic>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7"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78"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79"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8190F-9BC5-4A57-AFC7-0073F17ED51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7" descr=""/>
          <p:cNvPicPr/>
          <p:nvPr/>
        </p:nvPicPr>
        <p:blipFill>
          <a:blip r:embed="rId2"/>
          <a:stretch/>
        </p:blipFill>
        <p:spPr>
          <a:xfrm>
            <a:off x="34920" y="85680"/>
            <a:ext cx="1620720" cy="463680"/>
          </a:xfrm>
          <a:prstGeom prst="rect">
            <a:avLst/>
          </a:prstGeom>
          <a:ln w="0">
            <a:noFill/>
          </a:ln>
        </p:spPr>
      </p:pic>
      <p:pic>
        <p:nvPicPr>
          <p:cNvPr id="44" name="Picture 8" descr=""/>
          <p:cNvPicPr/>
          <p:nvPr/>
        </p:nvPicPr>
        <p:blipFill>
          <a:blip r:embed="rId3"/>
          <a:stretch/>
        </p:blipFill>
        <p:spPr>
          <a:xfrm>
            <a:off x="6443640" y="44280"/>
            <a:ext cx="2552760" cy="5400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34A85-7799-41A2-B852-AE732B4C9FB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7" descr=""/>
          <p:cNvPicPr/>
          <p:nvPr/>
        </p:nvPicPr>
        <p:blipFill>
          <a:blip r:embed="rId2"/>
          <a:stretch/>
        </p:blipFill>
        <p:spPr>
          <a:xfrm>
            <a:off x="34920" y="85680"/>
            <a:ext cx="1620720" cy="463680"/>
          </a:xfrm>
          <a:prstGeom prst="rect">
            <a:avLst/>
          </a:prstGeom>
          <a:ln w="0">
            <a:noFill/>
          </a:ln>
        </p:spPr>
      </p:pic>
      <p:pic>
        <p:nvPicPr>
          <p:cNvPr id="87" name="Picture 8" descr=""/>
          <p:cNvPicPr/>
          <p:nvPr/>
        </p:nvPicPr>
        <p:blipFill>
          <a:blip r:embed="rId3"/>
          <a:stretch/>
        </p:blipFill>
        <p:spPr>
          <a:xfrm>
            <a:off x="6443640" y="44280"/>
            <a:ext cx="2552760" cy="54000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B3868-0460-4DA5-B81C-6C15D8C84D2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
          <p:cNvPicPr/>
          <p:nvPr/>
        </p:nvPicPr>
        <p:blipFill>
          <a:blip r:embed="rId2"/>
          <a:stretch/>
        </p:blipFill>
        <p:spPr>
          <a:xfrm>
            <a:off x="34920" y="85680"/>
            <a:ext cx="1620720" cy="463680"/>
          </a:xfrm>
          <a:prstGeom prst="rect">
            <a:avLst/>
          </a:prstGeom>
          <a:ln w="0">
            <a:noFill/>
          </a:ln>
        </p:spPr>
      </p:pic>
      <p:pic>
        <p:nvPicPr>
          <p:cNvPr id="130" name="Picture 8" descr=""/>
          <p:cNvPicPr/>
          <p:nvPr/>
        </p:nvPicPr>
        <p:blipFill>
          <a:blip r:embed="rId3"/>
          <a:stretch/>
        </p:blipFill>
        <p:spPr>
          <a:xfrm>
            <a:off x="6443640" y="44280"/>
            <a:ext cx="2552760" cy="54000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13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383E9-C77E-4551-996E-14108F00F30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7" descr=""/>
          <p:cNvPicPr/>
          <p:nvPr/>
        </p:nvPicPr>
        <p:blipFill>
          <a:blip r:embed="rId2"/>
          <a:stretch/>
        </p:blipFill>
        <p:spPr>
          <a:xfrm>
            <a:off x="34920" y="85680"/>
            <a:ext cx="1620720" cy="463680"/>
          </a:xfrm>
          <a:prstGeom prst="rect">
            <a:avLst/>
          </a:prstGeom>
          <a:ln w="0">
            <a:noFill/>
          </a:ln>
        </p:spPr>
      </p:pic>
      <p:pic>
        <p:nvPicPr>
          <p:cNvPr id="173" name="Picture 8" descr=""/>
          <p:cNvPicPr/>
          <p:nvPr/>
        </p:nvPicPr>
        <p:blipFill>
          <a:blip r:embed="rId3"/>
          <a:stretch/>
        </p:blipFill>
        <p:spPr>
          <a:xfrm>
            <a:off x="6443640" y="44280"/>
            <a:ext cx="2552760" cy="54000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786E4-DDA5-47C8-83E2-56B70E84226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7" descr=""/>
          <p:cNvPicPr/>
          <p:nvPr/>
        </p:nvPicPr>
        <p:blipFill>
          <a:blip r:embed="rId2"/>
          <a:stretch/>
        </p:blipFill>
        <p:spPr>
          <a:xfrm>
            <a:off x="34920" y="85680"/>
            <a:ext cx="1620720" cy="463680"/>
          </a:xfrm>
          <a:prstGeom prst="rect">
            <a:avLst/>
          </a:prstGeom>
          <a:ln w="0">
            <a:noFill/>
          </a:ln>
        </p:spPr>
      </p:pic>
      <p:pic>
        <p:nvPicPr>
          <p:cNvPr id="216" name="Picture 8" descr=""/>
          <p:cNvPicPr/>
          <p:nvPr/>
        </p:nvPicPr>
        <p:blipFill>
          <a:blip r:embed="rId3"/>
          <a:stretch/>
        </p:blipFill>
        <p:spPr>
          <a:xfrm>
            <a:off x="6443640" y="44280"/>
            <a:ext cx="2552760" cy="54000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22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96A50-9AFB-4DD4-B968-92D5B53D916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7" descr=""/>
          <p:cNvPicPr/>
          <p:nvPr/>
        </p:nvPicPr>
        <p:blipFill>
          <a:blip r:embed="rId2"/>
          <a:stretch/>
        </p:blipFill>
        <p:spPr>
          <a:xfrm>
            <a:off x="34920" y="85680"/>
            <a:ext cx="1620720" cy="463680"/>
          </a:xfrm>
          <a:prstGeom prst="rect">
            <a:avLst/>
          </a:prstGeom>
          <a:ln w="0">
            <a:noFill/>
          </a:ln>
        </p:spPr>
      </p:pic>
      <p:pic>
        <p:nvPicPr>
          <p:cNvPr id="259" name="Picture 8" descr=""/>
          <p:cNvPicPr/>
          <p:nvPr/>
        </p:nvPicPr>
        <p:blipFill>
          <a:blip r:embed="rId3"/>
          <a:stretch/>
        </p:blipFill>
        <p:spPr>
          <a:xfrm>
            <a:off x="6443640" y="44280"/>
            <a:ext cx="2552760" cy="540000"/>
          </a:xfrm>
          <a:prstGeom prst="rect">
            <a:avLst/>
          </a:prstGeom>
          <a:ln w="0">
            <a:noFill/>
          </a:ln>
        </p:spPr>
      </p:pic>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2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26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F22D6-0CBF-47CA-AC38-BDB1170B04A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7" descr=""/>
          <p:cNvPicPr/>
          <p:nvPr/>
        </p:nvPicPr>
        <p:blipFill>
          <a:blip r:embed="rId2"/>
          <a:stretch/>
        </p:blipFill>
        <p:spPr>
          <a:xfrm>
            <a:off x="34920" y="85680"/>
            <a:ext cx="1620720" cy="463680"/>
          </a:xfrm>
          <a:prstGeom prst="rect">
            <a:avLst/>
          </a:prstGeom>
          <a:ln w="0">
            <a:noFill/>
          </a:ln>
        </p:spPr>
      </p:pic>
      <p:pic>
        <p:nvPicPr>
          <p:cNvPr id="302" name="Picture 8" descr=""/>
          <p:cNvPicPr/>
          <p:nvPr/>
        </p:nvPicPr>
        <p:blipFill>
          <a:blip r:embed="rId3"/>
          <a:stretch/>
        </p:blipFill>
        <p:spPr>
          <a:xfrm>
            <a:off x="6443640" y="44280"/>
            <a:ext cx="2552760" cy="540000"/>
          </a:xfrm>
          <a:prstGeom prst="rect">
            <a:avLst/>
          </a:prstGeom>
          <a:ln w="0">
            <a:noFill/>
          </a:ln>
        </p:spPr>
      </p:pic>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0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4595D-E5F2-4868-8B1B-C626154D766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7" descr=""/>
          <p:cNvPicPr/>
          <p:nvPr/>
        </p:nvPicPr>
        <p:blipFill>
          <a:blip r:embed="rId2"/>
          <a:stretch/>
        </p:blipFill>
        <p:spPr>
          <a:xfrm>
            <a:off x="34920" y="85680"/>
            <a:ext cx="1620720" cy="463680"/>
          </a:xfrm>
          <a:prstGeom prst="rect">
            <a:avLst/>
          </a:prstGeom>
          <a:ln w="0">
            <a:noFill/>
          </a:ln>
        </p:spPr>
      </p:pic>
      <p:pic>
        <p:nvPicPr>
          <p:cNvPr id="345" name="Picture 8" descr=""/>
          <p:cNvPicPr/>
          <p:nvPr/>
        </p:nvPicPr>
        <p:blipFill>
          <a:blip r:embed="rId3"/>
          <a:stretch/>
        </p:blipFill>
        <p:spPr>
          <a:xfrm>
            <a:off x="6443640" y="44280"/>
            <a:ext cx="2552760" cy="540000"/>
          </a:xfrm>
          <a:prstGeom prst="rect">
            <a:avLst/>
          </a:prstGeom>
          <a:ln w="0">
            <a:noFill/>
          </a:ln>
        </p:spPr>
      </p:pic>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5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0E13A-3B96-4D5A-8AB8-45947979EEF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Рисунок 5" descr=""/>
          <p:cNvPicPr/>
          <p:nvPr/>
        </p:nvPicPr>
        <p:blipFill>
          <a:blip r:embed="rId1"/>
          <a:stretch/>
        </p:blipFill>
        <p:spPr>
          <a:xfrm>
            <a:off x="3851280" y="189000"/>
            <a:ext cx="865080" cy="1098360"/>
          </a:xfrm>
          <a:prstGeom prst="rect">
            <a:avLst/>
          </a:prstGeom>
          <a:ln w="0">
            <a:noFill/>
          </a:ln>
        </p:spPr>
      </p:pic>
      <p:sp>
        <p:nvSpPr>
          <p:cNvPr id="524" name="TextBox 6"/>
          <p:cNvSpPr/>
          <p:nvPr/>
        </p:nvSpPr>
        <p:spPr>
          <a:xfrm>
            <a:off x="1730160" y="1271520"/>
            <a:ext cx="510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Georgia"/>
                <a:ea typeface="Arial"/>
              </a:rPr>
              <a:t>Kyiv National University of Construction and Architecture</a:t>
            </a:r>
            <a:endParaRPr b="0" lang="en-US" sz="1400" spc="-1" strike="noStrike">
              <a:solidFill>
                <a:srgbClr val="000000"/>
              </a:solidFill>
              <a:latin typeface="Arial"/>
            </a:endParaRPr>
          </a:p>
        </p:txBody>
      </p:sp>
      <p:sp>
        <p:nvSpPr>
          <p:cNvPr id="525" name="Заголовок 1"/>
          <p:cNvSpPr/>
          <p:nvPr/>
        </p:nvSpPr>
        <p:spPr>
          <a:xfrm>
            <a:off x="179280" y="2349360"/>
            <a:ext cx="8640720" cy="44640"/>
          </a:xfrm>
          <a:prstGeom prst="rect">
            <a:avLst/>
          </a:prstGeom>
          <a:solidFill>
            <a:srgbClr val="4a452a"/>
          </a:solidFill>
          <a:ln w="0">
            <a:noFill/>
          </a:ln>
          <a:effectLst>
            <a:outerShdw dist="38160" dir="5400000" blurRad="0" rotWithShape="0">
              <a:srgbClr val="7f7f7f">
                <a:alpha val="60000"/>
              </a:srgbClr>
            </a:outerShdw>
          </a:effectLst>
        </p:spPr>
        <p:style>
          <a:lnRef idx="0"/>
          <a:fillRef idx="0"/>
          <a:effectRef idx="0"/>
          <a:fontRef idx="minor"/>
        </p:style>
        <p:txBody>
          <a:bodyPr lIns="90000" rIns="90000" tIns="-2160" bIns="-2160" anchor="t">
            <a:noAutofit/>
          </a:bodyPr>
          <a:p>
            <a:pPr marL="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Заголовок 1"/>
          <p:cNvSpPr/>
          <p:nvPr/>
        </p:nvSpPr>
        <p:spPr>
          <a:xfrm>
            <a:off x="250920" y="4437000"/>
            <a:ext cx="8640720" cy="44640"/>
          </a:xfrm>
          <a:prstGeom prst="rect">
            <a:avLst/>
          </a:prstGeom>
          <a:solidFill>
            <a:srgbClr val="4a452a"/>
          </a:solidFill>
          <a:ln w="0">
            <a:noFill/>
          </a:ln>
          <a:effectLst>
            <a:outerShdw dist="38160" dir="5400000" blurRad="0" rotWithShape="0">
              <a:srgbClr val="7f7f7f">
                <a:alpha val="60000"/>
              </a:srgbClr>
            </a:outerShdw>
          </a:effectLst>
        </p:spPr>
        <p:style>
          <a:lnRef idx="0"/>
          <a:fillRef idx="0"/>
          <a:effectRef idx="0"/>
          <a:fontRef idx="minor"/>
        </p:style>
        <p:txBody>
          <a:bodyPr lIns="90000" rIns="90000" tIns="-2160" bIns="-2160" anchor="t">
            <a:noAutofit/>
          </a:bodyPr>
          <a:p>
            <a:pPr marL="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Прямоугольник 9"/>
          <p:cNvSpPr/>
          <p:nvPr/>
        </p:nvSpPr>
        <p:spPr>
          <a:xfrm>
            <a:off x="179280" y="2432160"/>
            <a:ext cx="8964720" cy="1662840"/>
          </a:xfrm>
          <a:prstGeom prst="rect">
            <a:avLst/>
          </a:prstGeom>
          <a:noFill/>
          <a:ln w="0">
            <a:noFill/>
          </a:ln>
        </p:spPr>
        <p:style>
          <a:lnRef idx="0"/>
          <a:fillRef idx="0"/>
          <a:effectRef idx="0"/>
          <a:fontRef idx="minor"/>
        </p:style>
        <p:txBody>
          <a:bodyPr lIns="90000" rIns="90000" tIns="46800" bIns="46800" anchor="t">
            <a:spAutoFit/>
          </a:bodyPr>
          <a:p>
            <a:pPr lvl="3"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1f497d"/>
                </a:solidFill>
                <a:latin typeface="Times New Roman"/>
                <a:ea typeface="Times New Roman"/>
              </a:rPr>
              <a:t>Лекц</a:t>
            </a:r>
            <a:r>
              <a:rPr b="1" lang="uk-UA" sz="2500" spc="-1" strike="noStrike">
                <a:solidFill>
                  <a:srgbClr val="1f497d"/>
                </a:solidFill>
                <a:latin typeface="Times New Roman"/>
                <a:ea typeface="Times New Roman"/>
              </a:rPr>
              <a:t>ія</a:t>
            </a:r>
            <a:r>
              <a:rPr b="1" lang="ru-RU" sz="2500" spc="-1" strike="noStrike">
                <a:solidFill>
                  <a:srgbClr val="1f497d"/>
                </a:solidFill>
                <a:latin typeface="Times New Roman"/>
                <a:ea typeface="Times New Roman"/>
              </a:rPr>
              <a:t> 4. </a:t>
            </a:r>
            <a:endParaRPr b="0" lang="en-US" sz="2500" spc="-1" strike="noStrike">
              <a:solidFill>
                <a:srgbClr val="000000"/>
              </a:solidFill>
              <a:latin typeface="Arial"/>
            </a:endParaRPr>
          </a:p>
          <a:p>
            <a:pPr lvl="3"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17375e"/>
                </a:solidFill>
                <a:latin typeface="Times New Roman"/>
                <a:ea typeface="Times New Roman"/>
              </a:rPr>
              <a:t>Анімація персонажів гри та створення ігрових ефектів. Засоби та методи обробки звуку в </a:t>
            </a:r>
            <a:r>
              <a:rPr b="1" lang="en-US" sz="2600" spc="-1" strike="noStrike">
                <a:solidFill>
                  <a:srgbClr val="17375e"/>
                </a:solidFill>
                <a:latin typeface="Times New Roman"/>
                <a:ea typeface="Times New Roman"/>
              </a:rPr>
              <a:t>AutoDesk Maya. </a:t>
            </a:r>
            <a:r>
              <a:rPr b="1" lang="uk-UA" sz="2600" spc="-1" strike="noStrike">
                <a:solidFill>
                  <a:srgbClr val="17375e"/>
                </a:solidFill>
                <a:latin typeface="Times New Roman"/>
                <a:ea typeface="Times New Roman"/>
              </a:rPr>
              <a:t>Технологія «</a:t>
            </a:r>
            <a:r>
              <a:rPr b="1" lang="en-US" sz="2600" spc="-1" strike="noStrike">
                <a:solidFill>
                  <a:srgbClr val="17375e"/>
                </a:solidFill>
                <a:latin typeface="Times New Roman"/>
                <a:ea typeface="Times New Roman"/>
              </a:rPr>
              <a:t>Motion Capture»</a:t>
            </a:r>
            <a:endParaRPr b="0" lang="en-US" sz="2600" spc="-1" strike="noStrike">
              <a:solidFill>
                <a:srgbClr val="000000"/>
              </a:solidFill>
              <a:latin typeface="Arial"/>
            </a:endParaRPr>
          </a:p>
        </p:txBody>
      </p:sp>
      <p:sp>
        <p:nvSpPr>
          <p:cNvPr id="528"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29" name="Subtitle 2"/>
          <p:cNvSpPr/>
          <p:nvPr/>
        </p:nvSpPr>
        <p:spPr>
          <a:xfrm>
            <a:off x="5688000" y="4508640"/>
            <a:ext cx="3492360" cy="2205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Андр</a:t>
            </a:r>
            <a:r>
              <a:rPr b="1" lang="uk-UA" sz="1500" spc="-1" strike="noStrike">
                <a:solidFill>
                  <a:srgbClr val="000000"/>
                </a:solidFill>
                <a:latin typeface="Times New Roman"/>
                <a:ea typeface="Times New Roman"/>
              </a:rPr>
              <a:t>ій Білощицький </a:t>
            </a:r>
            <a:endParaRPr b="0" lang="en-US" sz="15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т.н., проф. кафедри інформаційних технологій</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bao1978@gmail.com</a:t>
            </a:r>
            <a:endParaRPr b="0" lang="en-US" sz="14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Євгенія Шабала</a:t>
            </a:r>
            <a:endParaRPr b="0" lang="en-US" sz="15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т.н., доц. кафедри к</a:t>
            </a:r>
            <a:r>
              <a:rPr b="0" lang="uk-UA" sz="1400" spc="-1" strike="noStrike">
                <a:solidFill>
                  <a:srgbClr val="000000"/>
                </a:solidFill>
                <a:latin typeface="Times New Roman"/>
                <a:ea typeface="Times New Roman"/>
              </a:rPr>
              <a:t>ібернетичної безпеки та комп</a:t>
            </a:r>
            <a:r>
              <a:rPr b="0" lang="en-US" sz="1400" spc="-1" strike="noStrike">
                <a:solidFill>
                  <a:srgbClr val="000000"/>
                </a:solidFill>
                <a:latin typeface="Times New Roman"/>
                <a:ea typeface="Times New Roman"/>
              </a:rPr>
              <a:t>’</a:t>
            </a:r>
            <a:r>
              <a:rPr b="0" lang="ru-RU" sz="1400" spc="-1" strike="noStrike">
                <a:solidFill>
                  <a:srgbClr val="000000"/>
                </a:solidFill>
                <a:latin typeface="Times New Roman"/>
                <a:ea typeface="Times New Roman"/>
              </a:rPr>
              <a:t>ютерно</a:t>
            </a:r>
            <a:r>
              <a:rPr b="0" lang="uk-UA" sz="1400" spc="-1" strike="noStrike">
                <a:solidFill>
                  <a:srgbClr val="000000"/>
                </a:solidFill>
                <a:latin typeface="Times New Roman"/>
                <a:ea typeface="Times New Roman"/>
              </a:rPr>
              <a:t>ї інженерії</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wild_miledi@ukr.net</a:t>
            </a:r>
            <a:endParaRPr b="0" lang="en-US" sz="1400" spc="-1" strike="noStrike">
              <a:solidFill>
                <a:srgbClr val="000000"/>
              </a:solidFill>
              <a:latin typeface="Arial"/>
            </a:endParaRPr>
          </a:p>
        </p:txBody>
      </p:sp>
      <p:pic>
        <p:nvPicPr>
          <p:cNvPr id="530" name="Рисунок 1" descr=""/>
          <p:cNvPicPr/>
          <p:nvPr/>
        </p:nvPicPr>
        <p:blipFill>
          <a:blip r:embed="rId2"/>
          <a:stretch/>
        </p:blipFill>
        <p:spPr>
          <a:xfrm>
            <a:off x="179280" y="5300640"/>
            <a:ext cx="2538360" cy="757440"/>
          </a:xfrm>
          <a:prstGeom prst="rect">
            <a:avLst/>
          </a:prstGeom>
          <a:ln w="0">
            <a:noFill/>
          </a:ln>
        </p:spPr>
      </p:pic>
      <p:pic>
        <p:nvPicPr>
          <p:cNvPr id="531" name="Рисунок 2" descr=""/>
          <p:cNvPicPr/>
          <p:nvPr/>
        </p:nvPicPr>
        <p:blipFill>
          <a:blip r:embed="rId3"/>
          <a:stretch/>
        </p:blipFill>
        <p:spPr>
          <a:xfrm>
            <a:off x="6691320" y="647640"/>
            <a:ext cx="2414520" cy="765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324000" y="836280"/>
            <a:ext cx="8820000" cy="50403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І</a:t>
            </a:r>
            <a:r>
              <a:rPr b="0" lang="ru-RU" sz="2000" spc="-1" strike="noStrike">
                <a:solidFill>
                  <a:srgbClr val="000000"/>
                </a:solidFill>
                <a:latin typeface="Times New Roman"/>
                <a:ea typeface="Times New Roman"/>
              </a:rPr>
              <a:t>гри, які використовують захоплення руху:</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BA live</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GA tour</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HL hockey</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gends of Wrestling 2</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rd of the Ring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ny Hawk Pro Skater</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iger Woods PGA</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5"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76" name="PlaceHolder 1"/>
          <p:cNvSpPr>
            <a:spLocks noGrp="1"/>
          </p:cNvSpPr>
          <p:nvPr>
            <p:ph type="title"/>
          </p:nvPr>
        </p:nvSpPr>
        <p:spPr>
          <a:xfrm>
            <a:off x="468360" y="333360"/>
            <a:ext cx="8229600" cy="488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pic>
        <p:nvPicPr>
          <p:cNvPr id="577" name="Picture 1" descr="D:\GameHub\02_10_17_презентации\Лекция 4\картинки\4552_t3.jpg"/>
          <p:cNvPicPr/>
          <p:nvPr/>
        </p:nvPicPr>
        <p:blipFill>
          <a:blip r:embed="rId1"/>
          <a:stretch/>
        </p:blipFill>
        <p:spPr>
          <a:xfrm>
            <a:off x="3460680" y="2492280"/>
            <a:ext cx="5396040" cy="3035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179280" y="836640"/>
            <a:ext cx="864072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 сьогоднішній день існують велика кількість маркерних систем захоплення рухів. Різниця між ними полягає в принципі передачі рухів.</a:t>
            </a:r>
            <a:r>
              <a:rPr b="1" lang="uk-UA" sz="2400" spc="-1" strike="noStrike">
                <a:solidFill>
                  <a:srgbClr val="000000"/>
                </a:solidFill>
                <a:latin typeface="Calibri"/>
              </a:rPr>
              <a:t>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Оптичні пасивні.</a:t>
            </a:r>
            <a:r>
              <a:rPr b="0" lang="uk-UA" sz="2400" spc="-1" strike="noStrike">
                <a:solidFill>
                  <a:srgbClr val="000000"/>
                </a:solidFill>
                <a:latin typeface="Times New Roman"/>
                <a:ea typeface="Times New Roman"/>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9"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B377D-05C5-4111-B625-6573E6D8CA7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0"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81" name="Дата 1"/>
          <p:cNvSpPr/>
          <p:nvPr/>
        </p:nvSpPr>
        <p:spPr>
          <a:xfrm>
            <a:off x="-36360" y="5950080"/>
            <a:ext cx="9144000" cy="546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82" name="Picture 2" descr="D:\GameHub\02_10_17_презентации\Лекция 4\картинки\26013_JZZOKV6uL3_anim_before.jpg"/>
          <p:cNvPicPr/>
          <p:nvPr/>
        </p:nvPicPr>
        <p:blipFill>
          <a:blip r:embed="rId1"/>
          <a:stretch/>
        </p:blipFill>
        <p:spPr>
          <a:xfrm>
            <a:off x="5940360" y="4781520"/>
            <a:ext cx="3168720" cy="18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250920" y="907920"/>
            <a:ext cx="8229600" cy="452592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Оптичні активні </a:t>
            </a:r>
            <a:r>
              <a:rPr b="0" lang="uk-UA" sz="2400" spc="-1" strike="noStrike">
                <a:solidFill>
                  <a:srgbClr val="000000"/>
                </a:solidFill>
                <a:latin typeface="Times New Roman"/>
                <a:ea typeface="Times New Roman"/>
              </a:rPr>
              <a:t>названі так тому, що замість світловідбивних маркерів, які кріпляться до костюму актора, в них використовуються світлодіоди з інтегрованими процесорами і радіо-синхронізацією. </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Кожному світлодіоду призначається ID (ідентифікатор), що дозволяє системі не плутати маркери один з одним, а також дізнаватися їх, після того як вони були перекриті і знову з'явилися в поле зору камер. У всьому іншому принцип роботи таких систем схожий з пасивними системами.</a:t>
            </a:r>
            <a:endParaRPr b="0" lang="en-US" sz="2400" spc="-1" strike="noStrike">
              <a:solidFill>
                <a:srgbClr val="000000"/>
              </a:solidFill>
              <a:latin typeface="Calibri"/>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4"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2A081-6E96-4901-AAE8-A8FEE5D2F8D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5" name="Дата 1"/>
          <p:cNvSpPr/>
          <p:nvPr/>
        </p:nvSpPr>
        <p:spPr>
          <a:xfrm>
            <a:off x="34920" y="6051600"/>
            <a:ext cx="62658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86"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pic>
        <p:nvPicPr>
          <p:cNvPr id="587" name="Picture 2" descr="Похожее изображение"/>
          <p:cNvPicPr/>
          <p:nvPr/>
        </p:nvPicPr>
        <p:blipFill>
          <a:blip r:embed="rId1"/>
          <a:stretch/>
        </p:blipFill>
        <p:spPr>
          <a:xfrm>
            <a:off x="5796000" y="4324320"/>
            <a:ext cx="3313080" cy="248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250920" y="764640"/>
            <a:ext cx="8229600" cy="4526280"/>
          </a:xfrm>
          <a:prstGeom prst="rect">
            <a:avLst/>
          </a:prstGeom>
          <a:noFill/>
          <a:ln w="0">
            <a:noFill/>
          </a:ln>
        </p:spPr>
        <p:txBody>
          <a:bodyPr anchor="t">
            <a:normAutofit fontScale="97000"/>
          </a:bodyPr>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Магнітні системи, </a:t>
            </a:r>
            <a:r>
              <a:rPr b="0" lang="uk-UA" sz="2200" spc="-1" strike="noStrike">
                <a:solidFill>
                  <a:srgbClr val="000000"/>
                </a:solidFill>
                <a:latin typeface="Times New Roman"/>
                <a:ea typeface="Times New Roman"/>
              </a:rPr>
              <a:t>в яких маркерами є магніти, а камерами - ресивери, система вираховує їх позиції по спотворень магнітного потоку.</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Механічні системи </a:t>
            </a:r>
            <a:r>
              <a:rPr b="0" lang="uk-UA" sz="2200" spc="-1" strike="noStrike">
                <a:solidFill>
                  <a:srgbClr val="000000"/>
                </a:solidFill>
                <a:latin typeface="Times New Roman"/>
                <a:ea typeface="Times New Roman"/>
              </a:rPr>
              <a:t>безпосередньо стежать за згинами суглобів, для цього на актора надаватися спеціальний механічний mocap-скелет, який повторює слідом за ним всі рухи. У комп'ютер при цьому передаються дані про кути згинів всіх суглобів.</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Гіроскопічні / інерційні системи </a:t>
            </a:r>
            <a:r>
              <a:rPr b="0" lang="uk-UA" sz="2200" spc="-1" strike="noStrike">
                <a:solidFill>
                  <a:srgbClr val="000000"/>
                </a:solidFill>
                <a:latin typeface="Times New Roman"/>
                <a:ea typeface="Times New Roman"/>
              </a:rPr>
              <a:t>для збору інформації про рух використовують мініатюрні гіроскопи і інерційні сенсори, розташовані на тілі актора - також як і маркери або магніти в інших mocap-системах. Дані з гіроскопів і сенсорів передаються в комп'ютер, де відбувається їх обробка і запис. Система визначає не тільки положення сенсора, але також кут його нахилу.</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9"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4DEE6-D91D-4AFF-A608-BC263A8535F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90" name="PlaceHolder 1"/>
          <p:cNvSpPr>
            <a:spLocks noGrp="1"/>
          </p:cNvSpPr>
          <p:nvPr>
            <p:ph type="title"/>
          </p:nvPr>
        </p:nvSpPr>
        <p:spPr>
          <a:xfrm>
            <a:off x="457200" y="274320"/>
            <a:ext cx="8229600" cy="345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91"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79280" y="274320"/>
            <a:ext cx="5832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70c0"/>
                </a:solidFill>
                <a:latin typeface="Times New Roman"/>
                <a:ea typeface="Times New Roman"/>
              </a:rPr>
              <a:t>Звук в комп'ютерних іграх</a:t>
            </a:r>
            <a:endParaRPr b="0" lang="en-US" sz="3600" spc="-1" strike="noStrike">
              <a:solidFill>
                <a:srgbClr val="0070c0"/>
              </a:solidFill>
              <a:latin typeface="Calibri"/>
            </a:endParaRPr>
          </a:p>
        </p:txBody>
      </p:sp>
      <p:sp>
        <p:nvSpPr>
          <p:cNvPr id="593" name=""/>
          <p:cNvSpPr txBox="1"/>
          <p:nvPr/>
        </p:nvSpPr>
        <p:spPr>
          <a:xfrm>
            <a:off x="3240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Звук</a:t>
            </a:r>
            <a:r>
              <a:rPr b="0" lang="uk-UA" sz="2800" spc="-1" strike="noStrike">
                <a:solidFill>
                  <a:srgbClr val="000000"/>
                </a:solidFill>
                <a:latin typeface="Times New Roman"/>
                <a:ea typeface="Times New Roman"/>
              </a:rPr>
              <a:t> - найважливіший елемент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сучасного відеоігрового проекту.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Це потужний інструмент створення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унікальної атмосфери відеоігри і впливу на гравця.</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Красиво намальований і ефектно оформлений проект мовчазно дивиться на нас, і чекає, коли ми додамо йому звучання. Це ще одна важлива складова гри.</a:t>
            </a:r>
            <a:br>
              <a:rPr sz="2800"/>
            </a:b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94" name="Picture 2" descr="Картинки по запросу звук  в играх"/>
          <p:cNvPicPr/>
          <p:nvPr/>
        </p:nvPicPr>
        <p:blipFill>
          <a:blip r:embed="rId1"/>
          <a:stretch/>
        </p:blipFill>
        <p:spPr>
          <a:xfrm>
            <a:off x="6227640" y="692280"/>
            <a:ext cx="2786040" cy="2449440"/>
          </a:xfrm>
          <a:prstGeom prst="rect">
            <a:avLst/>
          </a:prstGeom>
          <a:ln w="0">
            <a:noFill/>
          </a:ln>
        </p:spPr>
      </p:pic>
      <p:sp>
        <p:nvSpPr>
          <p:cNvPr id="595"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250560" y="260280"/>
            <a:ext cx="8435880" cy="5865840"/>
          </a:xfrm>
          <a:prstGeom prst="rect">
            <a:avLst/>
          </a:prstGeom>
          <a:noFill/>
          <a:ln w="0">
            <a:noFill/>
          </a:ln>
        </p:spPr>
        <p:txBody>
          <a:bodyPr anchor="t">
            <a:normAutofit/>
          </a:bodyPr>
          <a:p>
            <a:pPr marL="343080" indent="-343080">
              <a:lnSpc>
                <a:spcPct val="100000"/>
              </a:lnSpc>
              <a:spcBef>
                <a:spcPts val="2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4274"/>
                </a:solidFill>
                <a:latin typeface="Times New Roman"/>
                <a:ea typeface="Times New Roman"/>
              </a:rPr>
              <a:t>Музика</a:t>
            </a:r>
            <a:endParaRPr b="0" lang="en-US" sz="24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a:t>
            </a:r>
            <a:endParaRPr b="0" lang="en-US" sz="2000" spc="-1" strike="noStrike">
              <a:solidFill>
                <a:srgbClr val="000000"/>
              </a:solidFill>
              <a:latin typeface="Calibri"/>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4274"/>
                </a:solidFill>
                <a:latin typeface="Times New Roman"/>
                <a:ea typeface="Times New Roman"/>
              </a:rPr>
              <a:t>Озвучка</a:t>
            </a:r>
            <a:endParaRPr b="0" lang="en-US" sz="24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97" name="Picture 2" descr="Картинки по запросу звук  в играх"/>
          <p:cNvPicPr/>
          <p:nvPr/>
        </p:nvPicPr>
        <p:blipFill>
          <a:blip r:embed="rId1"/>
          <a:stretch/>
        </p:blipFill>
        <p:spPr>
          <a:xfrm>
            <a:off x="6516720" y="5113440"/>
            <a:ext cx="2625840" cy="1700280"/>
          </a:xfrm>
          <a:prstGeom prst="rect">
            <a:avLst/>
          </a:prstGeom>
          <a:ln w="0">
            <a:noFill/>
          </a:ln>
        </p:spPr>
      </p:pic>
      <p:sp>
        <p:nvSpPr>
          <p:cNvPr id="598"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395280" y="115920"/>
            <a:ext cx="8229600" cy="61214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Кінематографічні послідовності </a:t>
            </a:r>
            <a:r>
              <a:rPr b="0" lang="uk-UA" sz="2400" spc="-1" strike="noStrike">
                <a:solidFill>
                  <a:srgbClr val="000000"/>
                </a:solidFill>
                <a:latin typeface="Times New Roman"/>
                <a:ea typeface="Times New Roman"/>
              </a:rPr>
              <a:t>(cinematic sequences). Це внутрішньоігрові ролики, міні-фільми всередині відеоігор. Вони використовуються в якості вступних відеороликів, в переходах між ігровими рівнями, в просуванні по сюжетної лінії і т.д.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Музика екрану меню </a:t>
            </a:r>
            <a:r>
              <a:rPr b="0" lang="uk-UA" sz="2400" spc="-1" strike="noStrike">
                <a:solidFill>
                  <a:srgbClr val="000000"/>
                </a:solidFill>
                <a:latin typeface="Times New Roman"/>
                <a:ea typeface="Times New Roman"/>
              </a:rPr>
              <a:t>(Menu Screen Music). Екрани меню бувають дуже різноманітними, але всі вони, по суті, є одними інтерфейсами для коригування параметрів геймплея. Музика тут може являти собою набір звукових об'єктів, що залежить від типу меню і того, в який момент гри виник екран. Музика будь-якого меню повинна бути пов'язана з основним тематизмом гри і зберігати певний рівень зацікавленості гравця у віртуальному світі.</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0"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457200" y="62064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Музика ігрового сюжету </a:t>
            </a:r>
            <a:r>
              <a:rPr b="0" lang="uk-UA" sz="2400" spc="-1" strike="noStrike">
                <a:solidFill>
                  <a:srgbClr val="000000"/>
                </a:solidFill>
                <a:latin typeface="Times New Roman"/>
                <a:ea typeface="Times New Roman"/>
              </a:rPr>
              <a:t>(Gameplay music). Це музика, яка безпосередньо виникає під час гри і може мати різні цілі, які залежать від жанру гри;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Просування сюжету</a:t>
            </a:r>
            <a:r>
              <a:rPr b="0" lang="uk-UA" sz="2400" spc="-1" strike="noStrike">
                <a:solidFill>
                  <a:srgbClr val="000000"/>
                </a:solidFill>
                <a:latin typeface="Times New Roman"/>
                <a:ea typeface="Times New Roman"/>
              </a:rPr>
              <a:t>, вирізані сцени і додаткові матеріали (Plot Advancement, Cut Scenes, and Tie-ins). Аудіо бере активну участь в переходах: коли відбувається просування до наступного рівня або коли напрямок розвитку рішуче змінюється під час гри.</a:t>
            </a:r>
            <a:endParaRPr b="0" lang="en-US" sz="2400" spc="-1" strike="noStrike">
              <a:solidFill>
                <a:srgbClr val="000000"/>
              </a:solidFill>
              <a:latin typeface="Calibri"/>
            </a:endParaRPr>
          </a:p>
        </p:txBody>
      </p:sp>
      <p:sp>
        <p:nvSpPr>
          <p:cNvPr id="602"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603"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7" name="Picture 10" descr="Похожее изображение"/>
          <p:cNvPicPr/>
          <p:nvPr/>
        </p:nvPicPr>
        <p:blipFill>
          <a:blip r:embed="rId1"/>
          <a:stretch/>
        </p:blipFill>
        <p:spPr>
          <a:xfrm>
            <a:off x="2916360" y="3933720"/>
            <a:ext cx="3282840" cy="205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457200" y="33336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Фінальні репліки «перемоги» і «поразки» </a:t>
            </a:r>
            <a:r>
              <a:rPr b="0" lang="uk-UA" sz="2400" spc="-1" strike="noStrike">
                <a:solidFill>
                  <a:srgbClr val="000000"/>
                </a:solidFill>
                <a:latin typeface="Times New Roman"/>
                <a:ea typeface="Times New Roman"/>
              </a:rPr>
              <a:t>( «Win» and «Lose» Final Cues). В разі перемоги оптимістичний набір зі звуків винагороджує гравця за його старання, а при ураженні звучить сумна і навіть принизливого музика, або легка надихаюча - на ще одну спробу пройти рівень.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 </a:t>
            </a:r>
            <a:r>
              <a:rPr b="1" lang="uk-UA" sz="2400" spc="-1" strike="noStrike">
                <a:solidFill>
                  <a:srgbClr val="000000"/>
                </a:solidFill>
                <a:latin typeface="Times New Roman"/>
                <a:ea typeface="Times New Roman"/>
              </a:rPr>
              <a:t>Інтерактивна музика (Interactive Music). </a:t>
            </a:r>
            <a:r>
              <a:rPr b="0" lang="uk-UA" sz="2400" spc="-1" strike="noStrike">
                <a:solidFill>
                  <a:srgbClr val="000000"/>
                </a:solidFill>
                <a:latin typeface="Times New Roman"/>
                <a:ea typeface="Times New Roman"/>
              </a:rPr>
              <a:t>Це музика, в якій зміни звучання обумовлені виключно діями користувача. Робота зі створення інтерактивної музики потребують доброго знання музичних стилів і того як вони можуть бути використані в грі.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9"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36360" y="274320"/>
            <a:ext cx="82296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70c0"/>
                </a:solidFill>
                <a:latin typeface="Times New Roman"/>
                <a:ea typeface="Times New Roman"/>
              </a:rPr>
              <a:t>3D-моделювання персонажів</a:t>
            </a:r>
            <a:endParaRPr b="0" lang="en-US" sz="3200" spc="-1" strike="noStrike">
              <a:solidFill>
                <a:srgbClr val="0070c0"/>
              </a:solidFill>
              <a:latin typeface="Calibri"/>
            </a:endParaRPr>
          </a:p>
        </p:txBody>
      </p:sp>
      <p:sp>
        <p:nvSpPr>
          <p:cNvPr id="533" name=""/>
          <p:cNvSpPr txBox="1"/>
          <p:nvPr/>
        </p:nvSpPr>
        <p:spPr>
          <a:xfrm>
            <a:off x="179280" y="847800"/>
            <a:ext cx="878544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D-моделювання персонажів </a:t>
            </a:r>
            <a:r>
              <a:rPr b="0" lang="ru-RU" sz="2000" spc="-1" strike="noStrike">
                <a:solidFill>
                  <a:srgbClr val="000000"/>
                </a:solidFill>
                <a:latin typeface="Times New Roman"/>
                <a:ea typeface="Times New Roman"/>
              </a:rPr>
              <a:t>- це процес створення віртуальної тривимірної моделі персонажа за допомогою спеціального програмного забезпечення. 3D-анімація дозволяє «оживити» 3D-моделі персонажів і населити ними віртуальні світи.</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ереваги </a:t>
            </a:r>
            <a:r>
              <a:rPr b="0" lang="ru-RU" sz="2000" spc="-1" strike="noStrike">
                <a:solidFill>
                  <a:srgbClr val="000000"/>
                </a:solidFill>
                <a:latin typeface="Times New Roman"/>
                <a:ea typeface="Times New Roman"/>
              </a:rPr>
              <a:t>3D-персонажів:</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еалістичність: за допомогою 3D-моделі можна домогтися будь-якого рівня деталізації - від простої схематичності до фотографічної точності;</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вобода анімації: персонажем легко керувати - він буде виконувати будь-які дії і для цього його не потрібно перемальовувати в різних позах;</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стота роботи: програми дозволяють змінювати модель за допомогою декількох рухів мишки;</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ізуалізація: об'ємна комп'ютерна модель виглядає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багато яскравіше, ніж 2D малюнок.</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34"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78C6C-1CAE-4CE2-8ECC-3E7A3F9BD25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35"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36" name="Picture 3" descr="D:\GameHub\02_10_17_презентации\Лекция 4\картинки\300px-Activemarker2.PNG"/>
          <p:cNvPicPr/>
          <p:nvPr/>
        </p:nvPicPr>
        <p:blipFill>
          <a:blip r:embed="rId1"/>
          <a:stretch/>
        </p:blipFill>
        <p:spPr>
          <a:xfrm>
            <a:off x="6154560" y="4680000"/>
            <a:ext cx="2989440" cy="2133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7928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uk-UA" sz="2400" spc="-1" strike="noStrike">
                <a:solidFill>
                  <a:srgbClr val="0070c0"/>
                </a:solidFill>
                <a:latin typeface="Times New Roman"/>
                <a:ea typeface="Times New Roman"/>
              </a:rPr>
              <a:t>Процес анімації</a:t>
            </a:r>
            <a:br>
              <a:rPr sz="2400"/>
            </a:br>
            <a:endParaRPr b="0" lang="en-US" sz="2400" spc="-1" strike="noStrike">
              <a:solidFill>
                <a:srgbClr val="0070c0"/>
              </a:solidFill>
              <a:latin typeface="Calibri"/>
            </a:endParaRPr>
          </a:p>
        </p:txBody>
      </p:sp>
      <p:sp>
        <p:nvSpPr>
          <p:cNvPr id="538" name=""/>
          <p:cNvSpPr txBox="1"/>
          <p:nvPr/>
        </p:nvSpPr>
        <p:spPr>
          <a:xfrm>
            <a:off x="250920" y="691920"/>
            <a:ext cx="8642160" cy="36003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Створення поз (posing).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На цьому етапі персонаж послідовно приймає пози, які виконують дію.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Тут важливо створити таку кількість ключових кадрів, якого буде достатньо для виконання дії, а не так багато, щоб сильно уповільнити поточний хід створення анімації. Саме тут відповідні довідкові матеріали можна прийняти за основу для створення вольових поз, що виконують дії, які намагається висловити анімація.</a:t>
            </a:r>
            <a:endParaRPr b="0" lang="en-US" sz="2400" spc="-1" strike="noStrike">
              <a:solidFill>
                <a:srgbClr val="000000"/>
              </a:solidFill>
              <a:latin typeface="Calibri"/>
            </a:endParaRPr>
          </a:p>
        </p:txBody>
      </p:sp>
      <p:sp>
        <p:nvSpPr>
          <p:cNvPr id="539"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fontScale="7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88BB7-8209-4117-81C6-8EEA96883BC7}" type="slidenum">
              <a:rPr b="0" lang="en-US" sz="2400" spc="-1" strike="noStrike">
                <a:solidFill>
                  <a:srgbClr val="898989"/>
                </a:solidFill>
                <a:latin typeface="Times New Roman"/>
                <a:ea typeface="Times New Roman"/>
              </a:rPr>
              <a:t>&lt;number&gt;</a:t>
            </a:fld>
            <a:endParaRPr b="0" lang="en-US" sz="2400" spc="-1" strike="noStrike">
              <a:solidFill>
                <a:srgbClr val="000000"/>
              </a:solidFill>
              <a:latin typeface="Arial"/>
            </a:endParaRPr>
          </a:p>
        </p:txBody>
      </p:sp>
      <p:sp>
        <p:nvSpPr>
          <p:cNvPr id="540" name="Дата 1"/>
          <p:cNvSpPr/>
          <p:nvPr/>
        </p:nvSpPr>
        <p:spPr>
          <a:xfrm>
            <a:off x="-36360" y="6021360"/>
            <a:ext cx="5545080" cy="720720"/>
          </a:xfrm>
          <a:prstGeom prst="rect">
            <a:avLst/>
          </a:prstGeom>
          <a:noFill/>
          <a:ln w="0">
            <a:noFill/>
          </a:ln>
        </p:spPr>
        <p:style>
          <a:lnRef idx="0"/>
          <a:fillRef idx="0"/>
          <a:effectRef idx="0"/>
          <a:fontRef idx="minor"/>
        </p:style>
        <p:txBody>
          <a:bodyPr lIns="90000" rIns="90000" tIns="46800" bIns="46800" anchor="ctr">
            <a:normAutofit fontScale="8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41" name="Picture 2" descr="Картинки по запросу создание поз персонажа игры"/>
          <p:cNvPicPr/>
          <p:nvPr/>
        </p:nvPicPr>
        <p:blipFill>
          <a:blip r:embed="rId1"/>
          <a:stretch/>
        </p:blipFill>
        <p:spPr>
          <a:xfrm>
            <a:off x="6084720" y="3860640"/>
            <a:ext cx="3027600" cy="299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70c0"/>
                </a:solidFill>
                <a:latin typeface="Times New Roman"/>
                <a:ea typeface="Times New Roman"/>
              </a:rPr>
              <a:t>Процес анімації</a:t>
            </a:r>
            <a:endParaRPr b="0" lang="en-US" sz="3200" spc="-1" strike="noStrike">
              <a:solidFill>
                <a:srgbClr val="0070c0"/>
              </a:solidFill>
              <a:latin typeface="Calibri"/>
            </a:endParaRPr>
          </a:p>
        </p:txBody>
      </p:sp>
      <p:sp>
        <p:nvSpPr>
          <p:cNvPr id="543" name=""/>
          <p:cNvSpPr txBox="1"/>
          <p:nvPr/>
        </p:nvSpPr>
        <p:spPr>
          <a:xfrm>
            <a:off x="324000" y="907920"/>
            <a:ext cx="8229600" cy="3168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Хронометраж (timing). </a:t>
            </a:r>
            <a:r>
              <a:rPr b="0" lang="uk-UA" sz="2400" spc="-1" strike="noStrike">
                <a:solidFill>
                  <a:srgbClr val="000000"/>
                </a:solidFill>
                <a:latin typeface="Times New Roman"/>
                <a:ea typeface="Times New Roman"/>
              </a:rPr>
              <a:t>Зазвичай це найшвидша фаза, оскільки вона полягає у виділенні і переміщенні ключових кадрів в таких засобах Maya, як Dope Sheet і Timeline, зміні типу дотичних (тангенціальних маніпуляторів) ключових кадрів на дотичні з фіксацією (clamped) і додаванні ключових кадрів для окремих елементів управління, якщо це необхідно для створення плавного руху. </a:t>
            </a:r>
            <a:endParaRPr b="0" lang="en-US" sz="2400" spc="-1" strike="noStrike">
              <a:solidFill>
                <a:srgbClr val="000000"/>
              </a:solidFill>
              <a:latin typeface="Calibri"/>
            </a:endParaRPr>
          </a:p>
        </p:txBody>
      </p:sp>
      <p:sp>
        <p:nvSpPr>
          <p:cNvPr id="544"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21477-EC27-4EB3-A321-C7982380E20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45"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46" name="Picture 2" descr="Похожее изображение"/>
          <p:cNvPicPr/>
          <p:nvPr/>
        </p:nvPicPr>
        <p:blipFill>
          <a:blip r:embed="rId1"/>
          <a:stretch/>
        </p:blipFill>
        <p:spPr>
          <a:xfrm>
            <a:off x="2195640" y="3573360"/>
            <a:ext cx="4432320" cy="2492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457200" y="148428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Уточнення (</a:t>
            </a:r>
            <a:r>
              <a:rPr b="1" lang="en-US" sz="2400" spc="-1" strike="noStrike">
                <a:solidFill>
                  <a:srgbClr val="000000"/>
                </a:solidFill>
                <a:latin typeface="Times New Roman"/>
                <a:ea typeface="Times New Roman"/>
              </a:rPr>
              <a:t>refining). </a:t>
            </a:r>
            <a:r>
              <a:rPr b="0" lang="ru-RU" sz="2400" spc="-1" strike="noStrike">
                <a:solidFill>
                  <a:srgbClr val="000000"/>
                </a:solidFill>
                <a:latin typeface="Times New Roman"/>
                <a:ea typeface="Times New Roman"/>
              </a:rPr>
              <a:t>Це найтриваліший етап, так як саме тут додаються деталі, що створюють чудову анімацію. Він включає в себе додавання ключових кадрів в крайніх положеннях, зміщення рухів, боротьбу з симетрією, обробку проходжень об'єктів крізь один одного і накладень, а також багато іншого. Ці останні 10% анімації можуть зайняти 50% часу.</a:t>
            </a:r>
            <a:endParaRPr b="0" lang="en-US" sz="2400" spc="-1" strike="noStrike">
              <a:solidFill>
                <a:srgbClr val="000000"/>
              </a:solidFill>
              <a:latin typeface="Calibri"/>
            </a:endParaRPr>
          </a:p>
        </p:txBody>
      </p:sp>
      <p:sp>
        <p:nvSpPr>
          <p:cNvPr id="548"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4D0CD-3469-4CCF-AE0C-553437326D4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49"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 </a:t>
            </a: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50" name="Picture 1" descr="D:\GameHub\02_10_17_презентации\Лекция 4\картинки\0096b9b2aac611.png"/>
          <p:cNvPicPr/>
          <p:nvPr/>
        </p:nvPicPr>
        <p:blipFill>
          <a:blip r:embed="rId1"/>
          <a:stretch/>
        </p:blipFill>
        <p:spPr>
          <a:xfrm>
            <a:off x="5724360" y="4110120"/>
            <a:ext cx="3376800" cy="2747880"/>
          </a:xfrm>
          <a:prstGeom prst="rect">
            <a:avLst/>
          </a:prstGeom>
          <a:ln w="0">
            <a:noFill/>
          </a:ln>
        </p:spPr>
      </p:pic>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70c0"/>
                </a:solidFill>
                <a:latin typeface="Times New Roman"/>
                <a:ea typeface="Times New Roman"/>
              </a:rPr>
              <a:t>Процес анімації</a:t>
            </a:r>
            <a:endParaRPr b="0" lang="en-US" sz="3200" spc="-1" strike="noStrike">
              <a:solidFill>
                <a:srgbClr val="0070c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Times New Roman"/>
                <a:ea typeface="Times New Roman"/>
              </a:rPr>
              <a:t>Персонажі найбільш відомих ігор, виконані з використанням 3</a:t>
            </a:r>
            <a:r>
              <a:rPr b="1" lang="en-US" sz="2800" spc="-1" strike="noStrike">
                <a:solidFill>
                  <a:srgbClr val="0070c0"/>
                </a:solidFill>
                <a:latin typeface="Times New Roman"/>
                <a:ea typeface="Times New Roman"/>
              </a:rPr>
              <a:t>D </a:t>
            </a:r>
            <a:r>
              <a:rPr b="1" lang="ru-RU" sz="2800" spc="-1" strike="noStrike">
                <a:solidFill>
                  <a:srgbClr val="0070c0"/>
                </a:solidFill>
                <a:latin typeface="Times New Roman"/>
                <a:ea typeface="Times New Roman"/>
              </a:rPr>
              <a:t>моделювання та анімації.</a:t>
            </a:r>
            <a:endParaRPr b="0" lang="en-US" sz="2800" spc="-1" strike="noStrike">
              <a:solidFill>
                <a:srgbClr val="0070c0"/>
              </a:solidFill>
              <a:latin typeface="Calibri"/>
            </a:endParaRPr>
          </a:p>
        </p:txBody>
      </p:sp>
      <p:sp>
        <p:nvSpPr>
          <p:cNvPr id="5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Times New Roman"/>
                <a:ea typeface="Times New Roman"/>
              </a:rPr>
              <a:t>Call of Duty,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Times New Roman"/>
                <a:ea typeface="Times New Roman"/>
              </a:rPr>
              <a:t>Wiedźmin (</a:t>
            </a:r>
            <a:r>
              <a:rPr b="1" i="1" lang="ru-RU" sz="2000" spc="-1" strike="noStrike">
                <a:solidFill>
                  <a:srgbClr val="000000"/>
                </a:solidFill>
                <a:latin typeface="Times New Roman"/>
                <a:ea typeface="Times New Roman"/>
              </a:rPr>
              <a:t>Ведьмак),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Fallou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Portal,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Assassin’s Creed,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Resident Evil,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The Legend of Zeld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Battlefield, Mass Effec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Far Cry,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Prince of Persi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Deus Ex, Diablo</a:t>
            </a:r>
            <a:r>
              <a:rPr b="1" lang="uk-UA"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54"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7F171-C956-44B2-8A47-06EF2D9B671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55"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56" name="Picture 2" descr="Картинки по запросу Wiedźmin персонаж игры"/>
          <p:cNvPicPr/>
          <p:nvPr/>
        </p:nvPicPr>
        <p:blipFill>
          <a:blip r:embed="rId1"/>
          <a:stretch/>
        </p:blipFill>
        <p:spPr>
          <a:xfrm>
            <a:off x="6732720" y="1341360"/>
            <a:ext cx="2247840" cy="3152880"/>
          </a:xfrm>
          <a:prstGeom prst="rect">
            <a:avLst/>
          </a:prstGeom>
          <a:ln w="0">
            <a:noFill/>
          </a:ln>
        </p:spPr>
      </p:pic>
      <p:pic>
        <p:nvPicPr>
          <p:cNvPr id="557" name="Picture 4" descr="Картинки по запросу Call of Duty персонаж игры"/>
          <p:cNvPicPr/>
          <p:nvPr/>
        </p:nvPicPr>
        <p:blipFill>
          <a:blip r:embed="rId2"/>
          <a:stretch/>
        </p:blipFill>
        <p:spPr>
          <a:xfrm>
            <a:off x="5203800" y="4030560"/>
            <a:ext cx="3795840" cy="2135160"/>
          </a:xfrm>
          <a:prstGeom prst="rect">
            <a:avLst/>
          </a:prstGeom>
          <a:ln w="0">
            <a:noFill/>
          </a:ln>
        </p:spPr>
      </p:pic>
      <p:pic>
        <p:nvPicPr>
          <p:cNvPr id="558" name="Picture 6" descr="Картинки по запросу Fallout  персонаж игры"/>
          <p:cNvPicPr/>
          <p:nvPr/>
        </p:nvPicPr>
        <p:blipFill>
          <a:blip r:embed="rId3"/>
          <a:stretch/>
        </p:blipFill>
        <p:spPr>
          <a:xfrm>
            <a:off x="3529080" y="2171880"/>
            <a:ext cx="3130560" cy="176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179280" y="490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0070c0"/>
                </a:solidFill>
                <a:latin typeface="Times New Roman"/>
                <a:ea typeface="Times New Roman"/>
              </a:rPr>
              <a:t>ПОПУЛЯРНІ ПРОГРАМИ ДЛЯ МОДЕЛЮВАННЯ ПЕРСОНАЖІВ</a:t>
            </a:r>
            <a:br>
              <a:rPr sz="2800"/>
            </a:br>
            <a:endParaRPr b="0" lang="en-US" sz="2800" spc="-1" strike="noStrike">
              <a:solidFill>
                <a:srgbClr val="0070c0"/>
              </a:solidFill>
              <a:latin typeface="Calibri"/>
            </a:endParaRPr>
          </a:p>
        </p:txBody>
      </p:sp>
      <p:sp>
        <p:nvSpPr>
          <p:cNvPr id="56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ограми для моделювання персонажів ще називають програмами для цифрової скульптури - процес створення моделей імітує процес ліпленн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ZBrush</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lende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ограми від </a:t>
            </a:r>
            <a:r>
              <a:rPr b="0" lang="en-US" sz="2400" spc="-1" strike="noStrike">
                <a:solidFill>
                  <a:srgbClr val="000000"/>
                </a:solidFill>
                <a:latin typeface="Times New Roman"/>
                <a:ea typeface="Times New Roman"/>
              </a:rPr>
              <a:t>Autodesk (3Ds Max, Maya)</a:t>
            </a:r>
            <a:endParaRPr b="0" lang="en-US" sz="2400" spc="-1" strike="noStrike">
              <a:solidFill>
                <a:srgbClr val="000000"/>
              </a:solidFill>
              <a:latin typeface="Calibri"/>
            </a:endParaRPr>
          </a:p>
        </p:txBody>
      </p:sp>
      <p:sp>
        <p:nvSpPr>
          <p:cNvPr id="561"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16E8D-264E-40E7-89C5-3A31BE617AC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562" name="Picture 2" descr="Похожее изображение"/>
          <p:cNvPicPr/>
          <p:nvPr/>
        </p:nvPicPr>
        <p:blipFill>
          <a:blip r:embed="rId1"/>
          <a:stretch/>
        </p:blipFill>
        <p:spPr>
          <a:xfrm>
            <a:off x="5148360" y="4149720"/>
            <a:ext cx="3960720" cy="2630520"/>
          </a:xfrm>
          <a:prstGeom prst="rect">
            <a:avLst/>
          </a:prstGeom>
          <a:ln w="0">
            <a:noFill/>
          </a:ln>
        </p:spPr>
      </p:pic>
      <p:sp>
        <p:nvSpPr>
          <p:cNvPr id="563" name="Дата 1"/>
          <p:cNvSpPr/>
          <p:nvPr/>
        </p:nvSpPr>
        <p:spPr>
          <a:xfrm>
            <a:off x="-36360" y="6021360"/>
            <a:ext cx="5329080" cy="720720"/>
          </a:xfrm>
          <a:prstGeom prst="rect">
            <a:avLst/>
          </a:prstGeom>
          <a:noFill/>
          <a:ln w="0">
            <a:noFill/>
          </a:ln>
        </p:spPr>
        <p:style>
          <a:lnRef idx="0"/>
          <a:fillRef idx="0"/>
          <a:effectRef idx="0"/>
          <a:fontRef idx="minor"/>
        </p:style>
        <p:txBody>
          <a:bodyPr lIns="90000" rIns="90000" tIns="46800" bIns="46800" anchor="ctr">
            <a:normAutofit fontScale="7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70c0"/>
                </a:solidFill>
                <a:latin typeface="Times New Roman"/>
                <a:ea typeface="Times New Roman"/>
              </a:rPr>
              <a:t>Захоплення руху</a:t>
            </a:r>
            <a:br>
              <a:rPr sz="4400"/>
            </a:br>
            <a:endParaRPr b="0" lang="en-US" sz="4400" spc="-1" strike="noStrike">
              <a:solidFill>
                <a:srgbClr val="0070c0"/>
              </a:solidFill>
              <a:latin typeface="Calibri"/>
            </a:endParaRPr>
          </a:p>
        </p:txBody>
      </p:sp>
      <p:sp>
        <p:nvSpPr>
          <p:cNvPr id="565" name=""/>
          <p:cNvSpPr txBox="1"/>
          <p:nvPr/>
        </p:nvSpPr>
        <p:spPr>
          <a:xfrm>
            <a:off x="395280" y="9810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Захоплення руху </a:t>
            </a:r>
            <a:r>
              <a:rPr b="0" lang="ru-RU" sz="2400" spc="-1" strike="noStrike">
                <a:solidFill>
                  <a:srgbClr val="000000"/>
                </a:solidFill>
                <a:latin typeface="Times New Roman"/>
                <a:ea typeface="Times New Roman"/>
              </a:rPr>
              <a:t>- це процес запису переміщень акторів і їх відтворення в цифрових моделях персонажів. Професійні художники із захоплення руху і 3</a:t>
            </a:r>
            <a:r>
              <a:rPr b="0" lang="en-US" sz="2400" spc="-1" strike="noStrike">
                <a:solidFill>
                  <a:srgbClr val="000000"/>
                </a:solidFill>
                <a:latin typeface="Times New Roman"/>
                <a:ea typeface="Times New Roman"/>
              </a:rPr>
              <a:t>D-</a:t>
            </a:r>
            <a:r>
              <a:rPr b="0" lang="ru-RU" sz="2400" spc="-1" strike="noStrike">
                <a:solidFill>
                  <a:srgbClr val="000000"/>
                </a:solidFill>
                <a:latin typeface="Times New Roman"/>
                <a:ea typeface="Times New Roman"/>
              </a:rPr>
              <a:t>анімації в галузі виробництва комп'ютерних ігор (англійська), а також фільмів і телепередач (англійська) використовують програми захоплення руху від компанії </a:t>
            </a:r>
            <a:r>
              <a:rPr b="0" lang="en-US" sz="2400" spc="-1" strike="noStrike">
                <a:solidFill>
                  <a:srgbClr val="000000"/>
                </a:solidFill>
                <a:latin typeface="Times New Roman"/>
                <a:ea typeface="Times New Roman"/>
              </a:rPr>
              <a:t>Autodesk </a:t>
            </a:r>
            <a:r>
              <a:rPr b="0" lang="ru-RU" sz="2400" spc="-1" strike="noStrike">
                <a:solidFill>
                  <a:srgbClr val="000000"/>
                </a:solidFill>
                <a:latin typeface="Times New Roman"/>
                <a:ea typeface="Times New Roman"/>
              </a:rPr>
              <a:t>для реалізації наступних завдань:</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хоплення руху</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німаці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ідео ігр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правління роботом</a:t>
            </a:r>
            <a:endParaRPr b="0" lang="en-US" sz="2400" spc="-1" strike="noStrike">
              <a:solidFill>
                <a:srgbClr val="000000"/>
              </a:solidFill>
              <a:latin typeface="Calibri"/>
            </a:endParaRPr>
          </a:p>
        </p:txBody>
      </p:sp>
      <p:sp>
        <p:nvSpPr>
          <p:cNvPr id="56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F1A45-E018-47D9-9066-2C8DFD09612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67"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68" name="Picture 1" descr="D:\GameHub\02_10_17_презентации\Лекция 4\картинки\4fb06c40119c494d8419af43a3156d05.jpg"/>
          <p:cNvPicPr/>
          <p:nvPr/>
        </p:nvPicPr>
        <p:blipFill>
          <a:blip r:embed="rId1"/>
          <a:stretch/>
        </p:blipFill>
        <p:spPr>
          <a:xfrm>
            <a:off x="4427640" y="3627360"/>
            <a:ext cx="4681440" cy="2398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70" name=""/>
          <p:cNvSpPr txBox="1"/>
          <p:nvPr/>
        </p:nvSpPr>
        <p:spPr>
          <a:xfrm>
            <a:off x="395280" y="907920"/>
            <a:ext cx="822960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Вивчення емоцій- </a:t>
            </a:r>
            <a:r>
              <a:rPr b="0" lang="ru-RU" sz="2400" spc="-1" strike="noStrike">
                <a:solidFill>
                  <a:srgbClr val="000000"/>
                </a:solidFill>
                <a:latin typeface="Times New Roman"/>
                <a:ea typeface="Times New Roman"/>
              </a:rPr>
              <a:t>це одна з основних особливостей геймплея, і тому, наскільки у вас вийде фыксувати найменші зміни на обличчях віртуальних персонажів, буде залежати розвиток гри. Навіть невеликі емоції ігрових персонажів можуть дати вам важливі ключі до розгадки злочинів, пропонованих грою.</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Технологія </a:t>
            </a:r>
            <a:r>
              <a:rPr b="1" lang="en-US" sz="2400" spc="-1" strike="noStrike">
                <a:solidFill>
                  <a:srgbClr val="000000"/>
                </a:solidFill>
                <a:latin typeface="Times New Roman"/>
                <a:ea typeface="Times New Roman"/>
              </a:rPr>
              <a:t>Motion Capture (mo-cap, «</a:t>
            </a:r>
            <a:r>
              <a:rPr b="1" lang="ru-RU" sz="2400" spc="-1" strike="noStrike">
                <a:solidFill>
                  <a:srgbClr val="000000"/>
                </a:solidFill>
                <a:latin typeface="Times New Roman"/>
                <a:ea typeface="Times New Roman"/>
              </a:rPr>
              <a:t>захоплення рухів») </a:t>
            </a:r>
            <a:r>
              <a:rPr b="0" lang="ru-RU" sz="2400" spc="-1" strike="noStrike">
                <a:solidFill>
                  <a:srgbClr val="000000"/>
                </a:solidFill>
                <a:latin typeface="Times New Roman"/>
                <a:ea typeface="Times New Roman"/>
              </a:rPr>
              <a:t>дозволяє оцифрувати руху актора і використовувати їх для управління тривимірної моделлю персонажа. Захоплення руху активно використовується і в комп'ютерних іграх, і в анімації, і в кінематографі.</a:t>
            </a:r>
            <a:endParaRPr b="0" lang="en-US" sz="2400" spc="-1" strike="noStrike">
              <a:solidFill>
                <a:srgbClr val="000000"/>
              </a:solidFill>
              <a:latin typeface="Calibri"/>
            </a:endParaRPr>
          </a:p>
        </p:txBody>
      </p:sp>
      <p:sp>
        <p:nvSpPr>
          <p:cNvPr id="571"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8E33D-B692-4CBF-98D7-B0236FAC3F9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72" name="Дата 1"/>
          <p:cNvSpPr/>
          <p:nvPr/>
        </p:nvSpPr>
        <p:spPr>
          <a:xfrm>
            <a:off x="-36360" y="6165720"/>
            <a:ext cx="9144000" cy="546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73" name="Picture 2" descr="D:\GameHub\02_10_17_презентации\Лекция 4\картинки\0_f6bb6_27c5c079_orig.gif"/>
          <p:cNvPicPr/>
          <p:nvPr/>
        </p:nvPicPr>
        <p:blipFill>
          <a:blip r:embed="rId1"/>
          <a:stretch/>
        </p:blipFill>
        <p:spPr>
          <a:xfrm>
            <a:off x="5651640" y="5084640"/>
            <a:ext cx="3457440" cy="172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1T15:49:55Z</dcterms:created>
  <dc:creator>dziabenko  olga</dc:creator>
  <dc:description/>
  <dc:language>en-US</dc:language>
  <cp:lastModifiedBy>женя</cp:lastModifiedBy>
  <dcterms:modified xsi:type="dcterms:W3CDTF">2018-11-25T16:31:15Z</dcterms:modified>
  <cp:revision>126</cp:revision>
  <dc:subject/>
  <dc:title>PowerPoint Presentation</dc:title>
</cp:coreProperties>
</file>