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png" ContentType="image/png"/>
  <Override PartName="/ppt/media/image7.jpeg" ContentType="image/jpeg"/>
  <Override PartName="/ppt/media/image15.gif" ContentType="image/gif"/>
  <Override PartName="/ppt/media/image18.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move the slide</a:t>
            </a:r>
            <a:endParaRPr b="0" lang="en-US" sz="4400" spc="-1" strike="noStrike">
              <a:solidFill>
                <a:srgbClr val="0070c0"/>
              </a:solidFill>
              <a:latin typeface="Calibri"/>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Hub Kick off Meeting, Bilbao, 23-24 Nov.2015</a:t>
            </a:r>
            <a:endParaRPr b="0" lang="en-US" sz="12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4CE71-F842-4765-9DBD-A7E34285CD5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habrahabr.ru/post/110535/"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ама технологія </a:t>
            </a:r>
            <a:r>
              <a:rPr b="0" lang="en-US" sz="700" spc="-1" strike="noStrike">
                <a:solidFill>
                  <a:srgbClr val="000000"/>
                </a:solidFill>
                <a:latin typeface="Calibri"/>
              </a:rPr>
              <a:t>Motion Capture </a:t>
            </a:r>
            <a:r>
              <a:rPr b="0" lang="ru-RU" sz="700" spc="-1" strike="noStrike">
                <a:solidFill>
                  <a:srgbClr val="000000"/>
                </a:solidFill>
                <a:latin typeface="Calibri"/>
              </a:rPr>
              <a:t>з'явилася на світ разом з </a:t>
            </a:r>
            <a:r>
              <a:rPr b="0" lang="en-US" sz="700" spc="-1" strike="noStrike">
                <a:solidFill>
                  <a:srgbClr val="000000"/>
                </a:solidFill>
                <a:latin typeface="Calibri"/>
              </a:rPr>
              <a:t>Mortal Komb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На початку 80-х медики в американських університетах стали застосовувати комп'ютери для дослідження людського тіла. Том Калверт, професор кінезіології і комп'ютерних наук запропонував використовувати потенціометри, прикріплюючи їх до різних суглобам на людському тілі. Комп'ютер вимірював дані приладів і показував на екрані рухається скелет людини. Калверт використовував свій винахід для наочної вивчення кінематики людського організму, дефектів мускулатурной системи, а також для. демонстрації па-де-де в хореографічних класах [4].</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Які ігри використовують захоплення рух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en-US" sz="700" spc="-1" strike="noStrike">
                <a:solidFill>
                  <a:srgbClr val="000000"/>
                </a:solidFill>
                <a:latin typeface="Calibri"/>
              </a:rPr>
              <a:t>NBA liv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PGA tou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NHL hocke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egends of Wrestling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s of Everques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 of the Ring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ony Hawk Pro Skat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Batman: Dark Tomor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Grand Theft Au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Soul Calib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iger Woods PGA Tour 07</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игрові ліси використовують спеціально розроблену техніку захоплення руху обличч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називається Universal Capture, Digital Air [24]. Процес починається з сканування голов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 допомогою камер високої чіткості, щоб отримати 3D-модель голов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оді велика кількість маркерів (від 80 до 90) розміщується в ключових регіонах</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та рухи маркерів фіксуються як анімації в тривимірному режим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ростір камер. Цей рух був проти ФІФА, який бу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хоплений у просторому приміщенні, записується в обмежений стенд з обмеженим рухо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Це виправдано тим фактом, що в цьому процесі ми тільки хочемо анімацію обличчя, а н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анімація повного тіла, де гравці практично не показують анімацію обличчя. Близько 18 рок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камери mocap, 3 відеокамери, 2 мікрофони та величезна кількість прожектор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точувати стенд. Три відеокамери використовуються для захоплення особ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ри різних кутів, і записане відео потім використовується для обертання навколо модел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бличчя від фази 1 процесу захоплення і таким чином створити остаточну анімовану 3D-модель</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яка анімована за записаними даними камерами Mocap 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аркери, в кабіні. Можуть демонструвати відеоролики та покрокові інструкції систем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ожна побачити в [2].</a:t>
            </a:r>
            <a:endParaRPr b="0" lang="en-US" sz="7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 оптичних пасивних систем полягає в тривалості розміщення маркерів на актора. Так само іноді при швидкому русі або близькому розташуванні маркерів один до одного система може їх плутати (оскільки ця технологія не передбачає ідентифікації кожного маркера окрем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активні </a:t>
            </a:r>
            <a:r>
              <a:rPr b="0" lang="uk-UA" sz="1200" spc="-1" strike="noStrike">
                <a:solidFill>
                  <a:srgbClr val="000000"/>
                </a:solidFill>
                <a:latin typeface="Calibri"/>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и активни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дсутність можливості захоплення рухів і міміки обличч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Додатковий контролер, що кріпиться до актора і підключений до маркерів-светодиодів, сковує його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Крихкість і відносно висока вартість маркерів-світлодіод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агнітні системи, </a:t>
            </a:r>
            <a:r>
              <a:rPr b="0" lang="uk-UA" sz="600" spc="-1" strike="noStrike">
                <a:solidFill>
                  <a:srgbClr val="000000"/>
                </a:solidFill>
                <a:latin typeface="Calibri"/>
              </a:rPr>
              <a:t>в яких маркерами є магніти, а камерами - ресивери, система вираховує їх позиції по спотворень магнітного поток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агніт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агнітні системи схильні до магнітним і електричним перешкод від металевих предметів і оточення (електропроводки приміщення, оргтехніки, арматури в плитах будов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інливий чутливість сенсорів в залежності від їх положення в робочій зо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енша в порівнянні з оптичними системами робоча зо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a:t>
            </a:r>
            <a:r>
              <a:rPr b="0" lang="uk-UA" sz="600" spc="-1" strike="noStrike">
                <a:solidFill>
                  <a:srgbClr val="000000"/>
                </a:solidFill>
                <a:latin typeface="Calibri"/>
              </a:rPr>
              <a:t>Висока вартість магнітних марке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еханічні системи </a:t>
            </a:r>
            <a:r>
              <a:rPr b="0" lang="uk-UA" sz="600" spc="-1" strike="noStrike">
                <a:solidFill>
                  <a:srgbClr val="000000"/>
                </a:solidFill>
                <a:latin typeface="Calibri"/>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еханіч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Mocap-скелет, з додатковим контролером, прикріпленим до актора і підключеним до сенсорам згинів, а в деяких випадках і дроти, що тягнуться від скелета, сильно обмежують руху акто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тісної взаємодії двох і більше акторів (боротьба, танці з підтримками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на підлозі - перекиди, падіння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Ризик поломки механіки при необережному використан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Гіроскопічні / інерціальні системи </a:t>
            </a:r>
            <a:r>
              <a:rPr b="0" lang="uk-UA" sz="600" spc="-1" strike="noStrike">
                <a:solidFill>
                  <a:srgbClr val="000000"/>
                </a:solidFill>
                <a:latin typeface="Calibri"/>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Мінуси гироскопических / інерцій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исока вартість гіроскопів і інерційних сенсо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ля визначення положення актора в просторі потрібна додаткова міні-система (оптична або магніт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Список літератур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Jessica Hodgins. Motion Capture Technologie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Fundamentals A Critical and Comparative Analysis on Real-World Applications Pedro Nogueira, Faculdade de Engenharia da Universidade do Porto Programa Doutoral em Engenharia Informática Instituto de Telecomunicações 18 de Novembro de 2011</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PROCESS, TECHNIQUES AND APPLICATIONS Ashish Sharma, MukeshAgarwal, Anima Sharma,PankhuriDhuria International Journal on Recent and Innovation Trends in Computing and Communication. 2013. Volume: 1 Issue: 4 251 – 25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u="sng">
                <a:solidFill>
                  <a:srgbClr val="0000ff"/>
                </a:solidFill>
                <a:uFillTx/>
                <a:latin typeface="Calibri"/>
                <a:hlinkClick r:id="rId1"/>
              </a:rPr>
              <a:t>https://habrahabr.ru/post/110535/</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https://klona.ua/blog/3d-animaciya/3d-modelirovanie-personajey-populyarnye-programmy-i-videouroki</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вукові ефект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Для будь-якого маломальского ігрового руху потрібно додати відповідний звук. Це можуть бути удари меча, нанесення рукопашного удару, звуки руху автомобіля, отримання бонусу, виявлення героя ворогом. Не думайте, що це якесь надмірність, і можна обійтися всього декількома базовими звуками. Наприклад, в більшості 3D-Action ігор нехтують додаванням звуків кроків головного героя і ворогів. В результаті - при вигляді від першої особи видно, що герой пересувається в просторі, але здається, що він не йде, а плавно ковзає вперед. А вороги без озвучки кроків взагалі можуть абсолютно безшумно підбігти до героя ззаду і сильно попсувати нерви гравцям.</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Хороші звукові ефекти не тільки заповнюють тишу, але і являють собою продовження графічного стилю гри. Весела аркада наповнена не менш веселими мелодійними звуками, спортивний автосимулятор наповнений рокітливим гулом моторів і брязкотом гальм, тривимірний бойовик приголомшує кулеметними чергами, падаючими гільзами і клацають затворами гвинтівок.</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Найчастіше в якості звукових ефектів використовуються реальні звуки, записані в цифровому вигляді. В інтернеті є безліч безкоштовних колекцій звукових ефектів, Вам потрібно лише знайти їх і вибрати найбільш підходящ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BF1CA-E6F3-41A2-B2DF-7D4D3BA12888}"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звуч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2065-3093-46E5-8ACE-1C4E57026C7E}"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інематографічні послідовності (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З точки зору написання музики, тут в точності повторюється процес написання музики для фільму: лінійне уявлення, яке протікає від початку до кінця року згідно з написаним порядку. Музика також переслідує аналогічні цілі: формування емоційного настрою, встановлення певного темпу сприйняття, підкреслення поворотів сюжету, привернення уваги та посилення емоцій у всіх необхідних місцях фабу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Музика екрану меню (Menu Screen Music). Екрани меню бувають дуже різноманітними, але всі вони, по суті, є одними інтер фейсамі11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погру- жённості гравця у віртуальний сві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14545-6721-4C16-959F-420646935BD2}"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узика ігрового сюжету (Gameplay music). Це музика, яка безпосередньо виникає під час гри і може мати різні цілі, які залежать від жанру гри; 11 Інтерфейс користувача або призначений для користувача інтерфейс (англ. User interface) - сукупність засобів, за допомогою яких користувач взаємодіє з програмою або пристроєм. Саліхов А.Н. Музика в відеоіграх. До проблеми вивчення нової композиторської практики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ування сюжету,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 Кінематика зазвичай пишеться в розрахунку на музичний розвиток в перспективі. Вона вимагає драматично вибудуваної музики (з наскрізним розвитком) для того, щоб привернути увагу гравця і мотивувати його до подолання чергового ігрового рівня. У випадках просування сюжету, де не задіяна кінематика, музика може діяти як провісник майбутнього зіткнення. Аудіо- репліки взаємодіють з мисленням гравця, дозволяючи використовувати біль-ше органів почуттів для збереження «життя» геймера, а не лише зі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F82D6-327D-44F8-AD98-655E1DCC7D5E}"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Фінальні репліки «перемоги» і «поразки» ( «Win» and «Lose» Final Cues). З зорі епохи відеоігор ці специфічні музичні прийоми стали стандартом: в разі перемоги оптимістичний букет зі звуків винагороджує гравця за його старання, а при ураженні звучить сумна і навіть принизливого кові музика, або легка надихаюча - на ще одну спробу пройти рівень. У музичному плані ці репліки залишаються всередині основного музичного «словника», тематизма гри і, традиційно, відтворюються тим же набором музичних засоб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 </a:t>
            </a:r>
            <a:r>
              <a:rPr b="0" lang="uk-UA" sz="700" spc="-1" strike="noStrike">
                <a:solidFill>
                  <a:srgbClr val="000000"/>
                </a:solidFill>
                <a:latin typeface="Calibri"/>
              </a:rPr>
              <a:t>Інтерактивна музика (Interactive Music). 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Тут буде недостатньо просто скласти хорошу музику, важливо також знати, як забезпечити сполучуваність між багатьма музичними п'єсами, кото риє можуть відтворюватися в будь-який час і в різних поєднаннях.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сновне правило твори інтерактивної музики: при зміні звукової Саліхов А.Н. Музика в відеоіграх. До проблеми вивчення нової композиторської практики 10 доріжки вона повинна зливатися з будь-якої іншої музичної реплікою, в будь-який момент часу. Мабуть, перший ключ до інтерактивної музиці полягає у використанні одного банку звуків і однієї інструментування. Це дозволяє працювати композиціям в одній зв'язці. Інша рекомендація полягає в розташуванні всієї музики навколо однієї тональності (одних ключових знаків). Ці прийоми використовуються в кіномузики, і немає ніяких причин, чому вони не могли б використовуватися і в музиці для відеоігор. Вико вання музики, що починається з різкою атаки також сприятливо, особливо коли ігровий режим швидко змінюється з режиму дослідження світу на бойовий. Швидке і гучне початок музичної п'єси, за умови, що воно добре зроблено, може «перехопити подих» гравця, заставши його зненацька. Якщо послухати запис іншої людини, що грає в цю ж гру, то хороший інтерактивний саундтрек буде здаватися таким, як ніби він спеціально написаний для цієї сцени - як в лінійному кіно. Коли це працює правильно, то відчуття виникають неймовірні;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етлі, або зациклюватися музика (Loops). Коли фізичне місце зберігання, швидкість процесора або пам'ять RAM є визначальними факторами, всі зусилля спрямовані на збереження місця на диску. Для аудіо одним з кращих засобів для досягнення цієї мети є використання музичної «петлі» 12. Вона швидко завантажується в пам'ять і програється повторно, не займаючи більше ніяких ресурсів. Геймплей, екрани меню і фінальні екрани - найкращі місця для її застосування. Для композитора твір петлі не становить великих труднощів. Єдиним справжнім секретом майстерності є знаходження вдосконалення- 12 Музична петля - відрізок музики, який досягши певного моменту, починає програватися спочатку. основним критеріє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якості виконаної петлі є її непомітність на слух. У вдалі приклади слухач починає розуміти, що він слухає «петлю» лише з 3-4 програвання музичного фрагмента. Саліхов А.Н. Музика в відеоіграх. До проблеми вивчення нової композиторської практики 11 шенного (в плані зациклення) проміжку часу - вона повинна бути виконана таким чином, щоб стик вийшов непомітним. Зацикленої може бути абсолютно будь-яка музика. Оптимальна довжина петлі варіюється від 15-20 секунд до 3-4 хвилин.</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Атмосферні, ембієнт треки (Ambient Tracks). У боротьбі з нежела- котельної тишею ембіент13 музика може використовуватися для підтримки тривалої звуковий активності внутрішньо реальності. Цей тип фонової музики має на увазі створення ненав'язливою звуковий атмосфери, музичний матеріал якої залишається в межах стилю головної теми, будучи менш «важкої» її версією. Ідеально підходить для сценаріїв з тривалим геймплеєм, де герою потрібно сконцентруватис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Стінгери (Stingers). Використовуються в поєднанні з іншою ігровий музикою, яка, як правило, вже грає до моменту їх появи. Вони являють собою ділянки музики, які закликають звернути увагу на раптову зміну в сюжетній лінії або інші значні події. Ці відрізки музики в основному дуже короткі за часом (кілька секунд), і, виділяючись з основного звучання, вони в той же час залишаються в межах теми, зазвичай використовуються схожі музичні характеристик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1.Scott Rogers. Level Up!: The Guide to Great Video Game Design. 2nd Edition. 2014 John Wiley and Son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2.Деникин А.А. Звуковой дизайн в видеоиграх. Технологии «игрового» аудио для непрограммистов. – М.: ДМК Пресс, 2012. Стр. 105-11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6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87C37-AB84-4B12-BCBF-724B6E83FE13}"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ювання персонажів -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і мають ряд переваг над 2D-графікою, особливо при створенні ігор, фільмів або мультиків. Самими значущими перевагами 3D-персонажів 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свобода анімації: персонажем легко управляти - він буде виконувати будь-які дії і для цього його не потрібно перемальовувати в різних поз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тота роботи: програми дозволяють змінювати модель за допомогою декількох рухів миш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зуалізація: об'ємна комп'ютерна модель виглядає набагато яскравіше, ніж 2D малю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процес анімації</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Створення поз (posing).</a:t>
            </a:r>
            <a:r>
              <a:rPr b="0" lang="uk-UA" sz="1200" spc="-1" strike="noStrike">
                <a:solidFill>
                  <a:srgbClr val="000000"/>
                </a:solidFill>
                <a:latin typeface="Calibri"/>
              </a:rPr>
              <a:t> На цьому етапі персонаж послідовно приймає пози, які виконують дію. 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Хронометраж (timing). </a:t>
            </a:r>
            <a:r>
              <a:rPr b="0" lang="uk-UA" sz="1200" spc="-1" strike="noStrike">
                <a:solidFill>
                  <a:srgbClr val="000000"/>
                </a:solidFill>
                <a:latin typeface="Calibri"/>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Щоб визначити правильні інтервали часу між ключовими кадрами, частіше переглядайте анімацію сцени за допомогою засобу Playblast. Довідкова відеоінформація допоможе розпочати процес розподілу часу, але, швидше за все, дія доведеться прискорити на 10 - 20%, оскільки анімаційне дію майже завжди виглядає уповільненим, якщо воно точно відповідає хронометражем кінематографічних дій. До кінця цього етапу анімація завершена на 90%, але створення справді великої анімації передбачає ще багато роботи на наступному етап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точнення (</a:t>
            </a:r>
            <a:r>
              <a:rPr b="0" lang="en-US" sz="1200" spc="-1" strike="noStrike">
                <a:solidFill>
                  <a:srgbClr val="000000"/>
                </a:solidFill>
                <a:latin typeface="Calibri"/>
              </a:rPr>
              <a:t>refining). </a:t>
            </a:r>
            <a:r>
              <a:rPr b="0" lang="ru-RU" sz="1200" spc="-1" strike="noStrike">
                <a:solidFill>
                  <a:srgbClr val="000000"/>
                </a:solidFill>
                <a:latin typeface="Calibri"/>
              </a:rPr>
              <a:t>Це найтриваліший етап, так як саме тут додаються деталі, що створюють чудову анімацію. Даний етап - це вже зовсім не анімація для анімації.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озділеному на три етапи анімаційному процесі можливо велику кількість експериментів, і в цьому його величезне перевага. Як буде показано далі, дуже часто під час створення поз плідним може виявитися і злегка відрізняється підхід. Цей процес надзвичайно гнучкий, він дозволяє вільно змінювати створені пози і хронометраж аж до отримання остаточного результату.</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жі всіх найбільш відомих ігор виконані з використанням 3</a:t>
            </a:r>
            <a:r>
              <a:rPr b="0" lang="en-US" sz="1200" spc="-1" strike="noStrike">
                <a:solidFill>
                  <a:srgbClr val="000000"/>
                </a:solidFill>
                <a:latin typeface="Calibri"/>
              </a:rPr>
              <a:t>D </a:t>
            </a:r>
            <a:r>
              <a:rPr b="0" lang="ru-RU" sz="1200" spc="-1" strike="noStrike">
                <a:solidFill>
                  <a:srgbClr val="000000"/>
                </a:solidFill>
                <a:latin typeface="Calibri"/>
              </a:rPr>
              <a:t>моделювання та анімації. Серед них герої </a:t>
            </a:r>
            <a:r>
              <a:rPr b="0" lang="en-US" sz="1200" spc="-1" strike="noStrike">
                <a:solidFill>
                  <a:srgbClr val="000000"/>
                </a:solidFill>
                <a:latin typeface="Calibri"/>
              </a:rPr>
              <a:t>Call of Duty, Wiedźmin (</a:t>
            </a:r>
            <a:r>
              <a:rPr b="0" lang="ru-RU" sz="1200" spc="-1" strike="noStrike">
                <a:solidFill>
                  <a:srgbClr val="000000"/>
                </a:solidFill>
                <a:latin typeface="Calibri"/>
              </a:rPr>
              <a:t>Відьмак), </a:t>
            </a:r>
            <a:r>
              <a:rPr b="0" lang="en-US" sz="1200" spc="-1" strike="noStrike">
                <a:solidFill>
                  <a:srgbClr val="000000"/>
                </a:solidFill>
                <a:latin typeface="Calibri"/>
              </a:rPr>
              <a:t>Fallout, Portal, Assassin's Creed, Resident Evil, The Legend of Zelda, Battlefield, Mass Effect, Far Cry, Prince of Persia, Deus Ex, Diablo.</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УЛЯРНІ ПРОГРАМИ ДЛЯ МОДЕЛЮВАННЯ ПЕРСОНАЖ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від </a:t>
            </a:r>
            <a:r>
              <a:rPr b="0" lang="en-US" sz="1200" spc="-1" strike="noStrike">
                <a:solidFill>
                  <a:srgbClr val="000000"/>
                </a:solidFill>
                <a:latin typeface="Calibri"/>
              </a:rPr>
              <a:t>Autodesk (3Ds Max, Maya) [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 - це процес запису переміщень акторів і їх відтворення в цифрових моделях персонажів. Професійні художники із захоплення руху і 3</a:t>
            </a:r>
            <a:r>
              <a:rPr b="0" lang="en-US" sz="1200" spc="-1" strike="noStrike">
                <a:solidFill>
                  <a:srgbClr val="000000"/>
                </a:solidFill>
                <a:latin typeface="Calibri"/>
              </a:rPr>
              <a:t>D-</a:t>
            </a:r>
            <a:r>
              <a:rPr b="0" lang="ru-RU" sz="1200" spc="-1" strike="noStrike">
                <a:solidFill>
                  <a:srgbClr val="000000"/>
                </a:solidFill>
                <a:latin typeface="Calibri"/>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1200" spc="-1" strike="noStrike">
                <a:solidFill>
                  <a:srgbClr val="000000"/>
                </a:solidFill>
                <a:latin typeface="Calibri"/>
              </a:rPr>
              <a:t>Autodesk </a:t>
            </a:r>
            <a:r>
              <a:rPr b="0" lang="ru-RU" sz="1200" spc="-1" strike="noStrike">
                <a:solidFill>
                  <a:srgbClr val="000000"/>
                </a:solidFill>
                <a:latin typeface="Calibri"/>
              </a:rPr>
              <a:t>для реалізації наступних завда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ідео іг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іння роботом [2]</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ивчення емоцій- це одна з основних особливостей геймплея, і тому, наскільки у вас вийде поміч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ехнологія </a:t>
            </a:r>
            <a:r>
              <a:rPr b="0" lang="en-US" sz="1100" spc="-1" strike="noStrike">
                <a:solidFill>
                  <a:srgbClr val="000000"/>
                </a:solidFill>
                <a:latin typeface="Calibri"/>
              </a:rPr>
              <a:t>Motion Capture (mo-cap, «</a:t>
            </a:r>
            <a:r>
              <a:rPr b="0" lang="ru-RU" sz="1100" spc="-1" strike="noStrike">
                <a:solidFill>
                  <a:srgbClr val="000000"/>
                </a:solidFill>
                <a:latin typeface="Calibri"/>
              </a:rPr>
              <a:t>захоплення рухів») 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рамках проекту </a:t>
            </a:r>
            <a:r>
              <a:rPr b="0" lang="en-US" sz="1100" spc="-1" strike="noStrike">
                <a:solidFill>
                  <a:srgbClr val="000000"/>
                </a:solidFill>
                <a:latin typeface="Calibri"/>
              </a:rPr>
              <a:t>MOCA </a:t>
            </a:r>
            <a:r>
              <a:rPr b="0" lang="ru-RU" sz="1100" spc="-1" strike="noStrike">
                <a:solidFill>
                  <a:srgbClr val="000000"/>
                </a:solidFill>
                <a:latin typeface="Calibri"/>
              </a:rPr>
              <a:t>Ми пропонуємо ру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етодологія Захоплення на основе анатомічної моделі людин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Ця модель охоплює точне опис скеле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ухлівість пов'язана з Наближення конвертом. це має</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двійна мета: забезпечуючі скроню точність механічні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одель для Виконавця, ми можемо точно Передбачити 3</a:t>
            </a:r>
            <a:r>
              <a:rPr b="0" lang="en-US" sz="1100" spc="-1" strike="noStrike">
                <a:solidFill>
                  <a:srgbClr val="000000"/>
                </a:solidFill>
                <a:latin typeface="Calibri"/>
              </a:rPr>
              <a:t>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озташування та відімість маркерів, тім самим зменшуюч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начний втручання людини во время превращ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цес</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едложено методологія зосереджена на Русі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хоплення; Захоплення руху лица требует питань комерційної торгівлі прістроїв 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ідході Одне питання розглядається в іншій части </a:t>
            </a:r>
            <a:r>
              <a:rPr b="0" lang="en-US" sz="1100" spc="-1" strike="noStrike">
                <a:solidFill>
                  <a:srgbClr val="000000"/>
                </a:solidFill>
                <a:latin typeface="Calibri"/>
              </a:rPr>
              <a:t>MOC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ект - це одночасне Захоплення як тела, так и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ица руху з їх відповіднімі технологіямі [3].</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91EB6-A7E7-4B07-BEBA-64641E2BC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175E5-6720-4166-9CB9-B07B0BCBB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1F3F65-2A27-440A-AEC4-1167580DD5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FE05CC-1E86-45CC-83F0-DF54A2317E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0A62F6-3DEA-4BBB-8123-ED7E407E84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E09A8E-3B24-4610-950A-D88408EF21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ACD86A-57D0-41E7-9195-2B656AED13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CD063F-F2BF-4013-9A41-913D4BE3A6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3A49AB-60ED-4D78-A714-9983E8CC46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97E49B-A1A1-4B73-BD07-8CACA96BB7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08F1C7-7AA2-4838-B3D2-B1DEFB1195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971C3BC-8932-48EA-81EF-208F83B09CE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9CC7F-E1BF-45FD-BB26-75F1D6A89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DFB961A-7886-4E3A-9BBB-5809BCE30A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0602BA-9166-47AC-A86C-AAF6B25C58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991DB1D-9D12-4DFB-B1A0-53EFF8EC8E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84F0B8-BD31-47AE-A2BD-93E81703D7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EA3299-6DF2-41BC-A8F7-9567497675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511E4A-8985-41FC-B8F8-DB552C283B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3AB325-B671-4C8B-B53E-6BE6648B6C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024BE9-0361-40DD-93EB-0053793AF0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869A73-9C06-4F17-ACCE-1D884D6D04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26099CA-5A37-422A-A176-BFCB629A675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2F834-38C5-48C3-B912-5751869AA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6ED170A-2315-4872-B906-D00238E74E6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5F18B5A-A744-4139-8DEA-DFDBBE4F5DF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C10955-14AF-441D-8C22-18E08B0F13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A0CE72-B041-4A27-9735-9E5A9F305A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2115FF-4512-4529-8707-47A45DDB6E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14A664-B5CC-492E-BB9D-111D58F3E14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A61C50B-DD80-45B1-8E9A-569FE066303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63E0E5-6ABB-4C6B-9A6D-665927C558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A566A2-BB30-4D8D-B7B0-DEE4DAB42C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BF4071-9E09-4AD0-9849-8AE41C14E7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CFE98E-CE77-4F2E-822C-51CC7DD050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923F21-6683-48FE-A3D0-DFFF7B09A5C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024A6DA-C69E-46DC-BC24-94CEF386983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AB09881-73AE-4891-A0B0-3C52966F09A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2A5E98C-F587-4046-B40E-FD02027F2D8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83482FB-936A-413F-8B35-24D1A461FF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C1461FA-0A93-4A65-BBAA-2AB7D2769C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798B9F4-9009-4A6C-AAAE-ADB1FFD47ED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D5C5184-51B8-4CCD-8F3F-07B6FB6905E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A7C545-9A2D-4818-B4BB-5E6FD69578C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308D4C-B7B3-490F-B4A1-B705F929429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0F0D4-F8AA-4D3C-B744-B56F4518F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BEA475-78C1-4852-8F96-22D9B398D6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058553-E365-4DA7-932E-2F945111A0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A99E2BF-5A58-4ED0-B1B8-F793125B758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9013F57-0EF3-49EF-959B-8EAECA17A4F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5F70D22-D087-4E86-9E6A-40D47AE3753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7B907-2831-49DA-80E2-8AE280671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CA93F-82AC-4B77-9D39-6B0C61B0A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0D1CB-17C0-477A-9101-7D349FEBE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3DBA9-6879-4239-A81E-DE0510261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424C4-87A6-44B0-A9C1-F17E52AAA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8B735-B1CC-4314-8DA9-4A6E50A21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BB863-FD07-4409-B202-B6484E6F5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89CB2-B94D-41CA-8295-8FB33A049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4D8AA-6FB2-48FD-913C-6E7ED90B7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97133A-8D3C-4B88-8515-153300DAFB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5E08E4-99B5-443F-A40C-C843F0B5D5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727B9F-16F0-416B-8837-0BFD21F7EB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068045-D1E8-4CD7-83E8-3B7CC32E8B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C39E07-BE23-4DF7-9975-0866F90D3E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2B2F0E-A8B4-41AE-A4AD-4E6EBD0F39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ED9259-E544-4DBE-B36C-7142040DDB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E1E46-E01D-40B0-9279-E16F43BBA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F758BC-2E46-49D5-B837-A6ED179384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A7ECBB-99F3-403A-BE01-684363D282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958688-66AD-4A6C-A97B-217B24A00C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F376F5-5C01-4731-BC84-AFF4C32DBF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0C0244-A77A-4797-B7BA-581C42EF6A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2DCDE0-0DF1-446F-9842-16A0868162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9721A5-08AC-4F22-8486-F944A44A0F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C0CCF9-3E6C-44C8-8FA5-29BA77D029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96EC53-8716-4569-B7AD-00312BA48A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9A71C2-7602-47F1-90FD-6BF6CAC419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54428-1FF8-44AE-8BB0-AB588091A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B4161B-5362-4355-9261-7C3B7A3976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86D994-1686-4A9A-94EF-887C2B9372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6CA35E-93C9-4083-A842-735AA7043C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C091A5-4140-4C05-8DFF-09C4F2829F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060236-BEB2-4F9E-8C48-09AC36B18B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060444-6818-4AB6-8706-35827898B9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F3F3A7-88EC-4519-ADAF-F4A846EF6E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27644C-F05F-4F6D-8C6C-D3ED0B5384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A34D74-32CE-457A-971A-7AA31E60DD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489E10-3FFF-4469-88A6-1D121062EC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A7585-57C1-4477-A83E-B99416FCD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FA411E-99DC-4F46-8AF3-5A96840B39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1556BD-31B4-41C5-8FEA-64999313CE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013DCF-7D0D-4811-85AF-76622A34D3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05D9FA-22F1-4C36-B4D9-4933D42B1C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EAF765-9E0D-4AA3-BA2D-5EB2D15B6E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7D4895-2D45-46D6-A830-8D6B724F64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D982A3-B837-46B2-A201-B9FE3F11EA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027191-EA36-4199-BE09-1DE641BB78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EAA015-C826-4BFD-9AD0-174211FFCB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DC9D6C-B39D-4FFC-B6E2-218A482FDC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B561B-FA6B-4D57-8E08-0E72CBBAE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F912EE-9385-4944-9317-C6C0CFD6CA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807E75-AE56-4E99-986B-1D32D33F66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1FAE96-778D-4420-AB3A-08D00DDB0A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421E09-6EC3-48F1-972D-FDD2F84231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185B40-041A-44E3-A258-C5541CA79E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E7B149-398A-44DA-AC2B-98C1D753B6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FA3A32-45B8-4235-BFE1-C17FAF9222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C92F44-2145-48C4-89C4-A7472E2085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753CEA-746A-49F2-B0E1-82EF1F8E56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B5A020-CB2C-4117-B29E-D0F5198C04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D03CE-BDDB-4F06-98B6-9255E0F95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18AF01-5983-4FBF-B284-399CF50B07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4B5DEF-E89C-4A0E-9675-72C1E5E8CC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BA4432-D588-45BD-AC36-8D9B1BE6C3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76F610-683A-44F0-865A-1C1FADC98A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C70122-8E45-4607-B10D-2DCA36E26F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8EB995-23EC-49D3-855B-352F618218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B20710-D651-4C64-9165-E5C750C42A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5D2F7F-6B6B-4B4C-84AE-9E9B504F1B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0700B8-35EC-4289-A5F2-964303F5E2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D65497-50A9-4879-98D7-0C113F3A02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D2059-5FEB-41D6-B4CD-40D5FFF10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BED206-07D9-4A57-8F20-FA6D2427AE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D7D3DD-EB6F-48B8-B954-B83B172B85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29CDB6-AD6D-4747-AC31-9D91571F65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C87E64-B666-435D-B695-74487DFE98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C21DB1-64BC-4171-9EFB-5347D65D63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FC8F1B-D7C0-4E19-B081-D087B37864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3520FD-A9C4-4BC9-A91D-E29CDCE6F2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B268A1-35E3-48FD-9235-1049ABB6BB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AB31EE-28B3-4FA2-88F9-C35E74D9E7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820023-A424-4085-87E8-912C0CEBE9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7EDFC-9683-42C7-B8E1-42829E292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7863F9-577E-4687-98D6-309DA160EC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0942D9-6BA4-4552-8B28-2059B86B1E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941906-7BF7-42D9-9FCE-85FB299CB5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644562-6156-4F30-BDF7-D1559EBDE3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9F1B55-C343-4777-879B-6FDF892804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96EB3E-33C3-48FD-87AA-03401ED452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ACED9D-2E87-4412-8439-E5A5904688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ED156A-2386-40EC-B539-D4D6151AD2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9FDAE2-2D46-4A0F-AD61-15DA21B925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EBF5D5-0B52-4A62-8FFA-D014FE9B369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F2A01-B38F-47F8-B7EF-28D8F21A325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7" descr=""/>
          <p:cNvPicPr/>
          <p:nvPr/>
        </p:nvPicPr>
        <p:blipFill>
          <a:blip r:embed="rId2"/>
          <a:stretch/>
        </p:blipFill>
        <p:spPr>
          <a:xfrm>
            <a:off x="34920" y="85680"/>
            <a:ext cx="1620720" cy="463680"/>
          </a:xfrm>
          <a:prstGeom prst="rect">
            <a:avLst/>
          </a:prstGeom>
          <a:ln w="0">
            <a:noFill/>
          </a:ln>
        </p:spPr>
      </p:pic>
      <p:pic>
        <p:nvPicPr>
          <p:cNvPr id="6" name="Picture 8" descr=""/>
          <p:cNvPicPr/>
          <p:nvPr/>
        </p:nvPicPr>
        <p:blipFill>
          <a:blip r:embed="rId3"/>
          <a:stretch/>
        </p:blipFill>
        <p:spPr>
          <a:xfrm>
            <a:off x="6443640" y="44280"/>
            <a:ext cx="2552760" cy="5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7" descr=""/>
          <p:cNvPicPr/>
          <p:nvPr/>
        </p:nvPicPr>
        <p:blipFill>
          <a:blip r:embed="rId2"/>
          <a:stretch/>
        </p:blipFill>
        <p:spPr>
          <a:xfrm>
            <a:off x="34920" y="85680"/>
            <a:ext cx="1620720" cy="463680"/>
          </a:xfrm>
          <a:prstGeom prst="rect">
            <a:avLst/>
          </a:prstGeom>
          <a:ln w="0">
            <a:noFill/>
          </a:ln>
        </p:spPr>
      </p:pic>
      <p:pic>
        <p:nvPicPr>
          <p:cNvPr id="388" name="Picture 8" descr=""/>
          <p:cNvPicPr/>
          <p:nvPr/>
        </p:nvPicPr>
        <p:blipFill>
          <a:blip r:embed="rId3"/>
          <a:stretch/>
        </p:blipFill>
        <p:spPr>
          <a:xfrm>
            <a:off x="6443640" y="44280"/>
            <a:ext cx="2552760" cy="54000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6505-3544-4DF9-9F32-91651C4AB8B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7" descr=""/>
          <p:cNvPicPr/>
          <p:nvPr/>
        </p:nvPicPr>
        <p:blipFill>
          <a:blip r:embed="rId2"/>
          <a:stretch/>
        </p:blipFill>
        <p:spPr>
          <a:xfrm>
            <a:off x="34920" y="85680"/>
            <a:ext cx="1620720" cy="463680"/>
          </a:xfrm>
          <a:prstGeom prst="rect">
            <a:avLst/>
          </a:prstGeom>
          <a:ln w="0">
            <a:noFill/>
          </a:ln>
        </p:spPr>
      </p:pic>
      <p:pic>
        <p:nvPicPr>
          <p:cNvPr id="431" name="Picture 8" descr=""/>
          <p:cNvPicPr/>
          <p:nvPr/>
        </p:nvPicPr>
        <p:blipFill>
          <a:blip r:embed="rId3"/>
          <a:stretch/>
        </p:blipFill>
        <p:spPr>
          <a:xfrm>
            <a:off x="6443640" y="44280"/>
            <a:ext cx="2552760" cy="540000"/>
          </a:xfrm>
          <a:prstGeom prst="rect">
            <a:avLst/>
          </a:prstGeom>
          <a:ln w="0">
            <a:noFill/>
          </a:ln>
        </p:spPr>
      </p:pic>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A0762-BA2A-4607-9497-E59F789E110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7" descr=""/>
          <p:cNvPicPr/>
          <p:nvPr/>
        </p:nvPicPr>
        <p:blipFill>
          <a:blip r:embed="rId2"/>
          <a:stretch/>
        </p:blipFill>
        <p:spPr>
          <a:xfrm>
            <a:off x="34920" y="85680"/>
            <a:ext cx="1620720" cy="463680"/>
          </a:xfrm>
          <a:prstGeom prst="rect">
            <a:avLst/>
          </a:prstGeom>
          <a:ln w="0">
            <a:noFill/>
          </a:ln>
        </p:spPr>
      </p:pic>
      <p:pic>
        <p:nvPicPr>
          <p:cNvPr id="474" name="Picture 8" descr=""/>
          <p:cNvPicPr/>
          <p:nvPr/>
        </p:nvPicPr>
        <p:blipFill>
          <a:blip r:embed="rId3"/>
          <a:stretch/>
        </p:blipFill>
        <p:spPr>
          <a:xfrm>
            <a:off x="6443640" y="44280"/>
            <a:ext cx="2552760" cy="540000"/>
          </a:xfrm>
          <a:prstGeom prst="rect">
            <a:avLst/>
          </a:prstGeom>
          <a:ln w="0">
            <a:noFill/>
          </a:ln>
        </p:spPr>
      </p:pic>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23B1-3D9B-4B24-8952-273301F2F8F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
          <p:cNvPicPr/>
          <p:nvPr/>
        </p:nvPicPr>
        <p:blipFill>
          <a:blip r:embed="rId2"/>
          <a:stretch/>
        </p:blipFill>
        <p:spPr>
          <a:xfrm>
            <a:off x="34920" y="85680"/>
            <a:ext cx="1620720" cy="463680"/>
          </a:xfrm>
          <a:prstGeom prst="rect">
            <a:avLst/>
          </a:prstGeom>
          <a:ln w="0">
            <a:noFill/>
          </a:ln>
        </p:spPr>
      </p:pic>
      <p:pic>
        <p:nvPicPr>
          <p:cNvPr id="44" name="Picture 8" descr=""/>
          <p:cNvPicPr/>
          <p:nvPr/>
        </p:nvPicPr>
        <p:blipFill>
          <a:blip r:embed="rId3"/>
          <a:stretch/>
        </p:blipFill>
        <p:spPr>
          <a:xfrm>
            <a:off x="6443640" y="44280"/>
            <a:ext cx="2552760" cy="540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6120-0F9D-41A2-87E6-67233847746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
          <p:cNvPicPr/>
          <p:nvPr/>
        </p:nvPicPr>
        <p:blipFill>
          <a:blip r:embed="rId2"/>
          <a:stretch/>
        </p:blipFill>
        <p:spPr>
          <a:xfrm>
            <a:off x="34920" y="85680"/>
            <a:ext cx="1620720" cy="463680"/>
          </a:xfrm>
          <a:prstGeom prst="rect">
            <a:avLst/>
          </a:prstGeom>
          <a:ln w="0">
            <a:noFill/>
          </a:ln>
        </p:spPr>
      </p:pic>
      <p:pic>
        <p:nvPicPr>
          <p:cNvPr id="87" name="Picture 8" descr=""/>
          <p:cNvPicPr/>
          <p:nvPr/>
        </p:nvPicPr>
        <p:blipFill>
          <a:blip r:embed="rId3"/>
          <a:stretch/>
        </p:blipFill>
        <p:spPr>
          <a:xfrm>
            <a:off x="6443640" y="44280"/>
            <a:ext cx="2552760" cy="540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1A0F4-73F3-4A7A-B9EF-47FE1338602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
          <p:cNvPicPr/>
          <p:nvPr/>
        </p:nvPicPr>
        <p:blipFill>
          <a:blip r:embed="rId2"/>
          <a:stretch/>
        </p:blipFill>
        <p:spPr>
          <a:xfrm>
            <a:off x="34920" y="85680"/>
            <a:ext cx="1620720" cy="463680"/>
          </a:xfrm>
          <a:prstGeom prst="rect">
            <a:avLst/>
          </a:prstGeom>
          <a:ln w="0">
            <a:noFill/>
          </a:ln>
        </p:spPr>
      </p:pic>
      <p:pic>
        <p:nvPicPr>
          <p:cNvPr id="130" name="Picture 8" descr=""/>
          <p:cNvPicPr/>
          <p:nvPr/>
        </p:nvPicPr>
        <p:blipFill>
          <a:blip r:embed="rId3"/>
          <a:stretch/>
        </p:blipFill>
        <p:spPr>
          <a:xfrm>
            <a:off x="6443640" y="44280"/>
            <a:ext cx="2552760" cy="540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98072-317B-45E0-B1FE-DFD7A0F9E5D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7" descr=""/>
          <p:cNvPicPr/>
          <p:nvPr/>
        </p:nvPicPr>
        <p:blipFill>
          <a:blip r:embed="rId2"/>
          <a:stretch/>
        </p:blipFill>
        <p:spPr>
          <a:xfrm>
            <a:off x="34920" y="85680"/>
            <a:ext cx="1620720" cy="463680"/>
          </a:xfrm>
          <a:prstGeom prst="rect">
            <a:avLst/>
          </a:prstGeom>
          <a:ln w="0">
            <a:noFill/>
          </a:ln>
        </p:spPr>
      </p:pic>
      <p:pic>
        <p:nvPicPr>
          <p:cNvPr id="173" name="Picture 8" descr=""/>
          <p:cNvPicPr/>
          <p:nvPr/>
        </p:nvPicPr>
        <p:blipFill>
          <a:blip r:embed="rId3"/>
          <a:stretch/>
        </p:blipFill>
        <p:spPr>
          <a:xfrm>
            <a:off x="6443640" y="44280"/>
            <a:ext cx="2552760" cy="5400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3E1EC-7734-4FC7-A362-38BAF0E3A5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34920" y="85680"/>
            <a:ext cx="1620720" cy="463680"/>
          </a:xfrm>
          <a:prstGeom prst="rect">
            <a:avLst/>
          </a:prstGeom>
          <a:ln w="0">
            <a:noFill/>
          </a:ln>
        </p:spPr>
      </p:pic>
      <p:pic>
        <p:nvPicPr>
          <p:cNvPr id="216" name="Picture 8" descr=""/>
          <p:cNvPicPr/>
          <p:nvPr/>
        </p:nvPicPr>
        <p:blipFill>
          <a:blip r:embed="rId3"/>
          <a:stretch/>
        </p:blipFill>
        <p:spPr>
          <a:xfrm>
            <a:off x="6443640" y="44280"/>
            <a:ext cx="2552760" cy="5400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C967F-0E43-4437-ADB7-AE036713310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7" descr=""/>
          <p:cNvPicPr/>
          <p:nvPr/>
        </p:nvPicPr>
        <p:blipFill>
          <a:blip r:embed="rId2"/>
          <a:stretch/>
        </p:blipFill>
        <p:spPr>
          <a:xfrm>
            <a:off x="34920" y="85680"/>
            <a:ext cx="1620720" cy="463680"/>
          </a:xfrm>
          <a:prstGeom prst="rect">
            <a:avLst/>
          </a:prstGeom>
          <a:ln w="0">
            <a:noFill/>
          </a:ln>
        </p:spPr>
      </p:pic>
      <p:pic>
        <p:nvPicPr>
          <p:cNvPr id="259" name="Picture 8" descr=""/>
          <p:cNvPicPr/>
          <p:nvPr/>
        </p:nvPicPr>
        <p:blipFill>
          <a:blip r:embed="rId3"/>
          <a:stretch/>
        </p:blipFill>
        <p:spPr>
          <a:xfrm>
            <a:off x="6443640" y="44280"/>
            <a:ext cx="2552760" cy="54000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B4605-9521-4385-9E01-76DF381FC3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
          <p:cNvPicPr/>
          <p:nvPr/>
        </p:nvPicPr>
        <p:blipFill>
          <a:blip r:embed="rId2"/>
          <a:stretch/>
        </p:blipFill>
        <p:spPr>
          <a:xfrm>
            <a:off x="34920" y="85680"/>
            <a:ext cx="1620720" cy="463680"/>
          </a:xfrm>
          <a:prstGeom prst="rect">
            <a:avLst/>
          </a:prstGeom>
          <a:ln w="0">
            <a:noFill/>
          </a:ln>
        </p:spPr>
      </p:pic>
      <p:pic>
        <p:nvPicPr>
          <p:cNvPr id="302" name="Picture 8" descr=""/>
          <p:cNvPicPr/>
          <p:nvPr/>
        </p:nvPicPr>
        <p:blipFill>
          <a:blip r:embed="rId3"/>
          <a:stretch/>
        </p:blipFill>
        <p:spPr>
          <a:xfrm>
            <a:off x="6443640" y="44280"/>
            <a:ext cx="2552760" cy="540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48D7D-88E1-4401-99CB-EC922C97ADD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7" descr=""/>
          <p:cNvPicPr/>
          <p:nvPr/>
        </p:nvPicPr>
        <p:blipFill>
          <a:blip r:embed="rId2"/>
          <a:stretch/>
        </p:blipFill>
        <p:spPr>
          <a:xfrm>
            <a:off x="34920" y="85680"/>
            <a:ext cx="1620720" cy="463680"/>
          </a:xfrm>
          <a:prstGeom prst="rect">
            <a:avLst/>
          </a:prstGeom>
          <a:ln w="0">
            <a:noFill/>
          </a:ln>
        </p:spPr>
      </p:pic>
      <p:pic>
        <p:nvPicPr>
          <p:cNvPr id="345" name="Picture 8" descr=""/>
          <p:cNvPicPr/>
          <p:nvPr/>
        </p:nvPicPr>
        <p:blipFill>
          <a:blip r:embed="rId3"/>
          <a:stretch/>
        </p:blipFill>
        <p:spPr>
          <a:xfrm>
            <a:off x="6443640" y="44280"/>
            <a:ext cx="2552760" cy="540000"/>
          </a:xfrm>
          <a:prstGeom prst="rect">
            <a:avLst/>
          </a:prstGeom>
          <a:ln w="0">
            <a:noFill/>
          </a:ln>
        </p:spPr>
      </p:pic>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42406-FB17-4CAB-B9FF-ADC7E13B8D8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Рисунок 5" descr=""/>
          <p:cNvPicPr/>
          <p:nvPr/>
        </p:nvPicPr>
        <p:blipFill>
          <a:blip r:embed="rId1"/>
          <a:stretch/>
        </p:blipFill>
        <p:spPr>
          <a:xfrm>
            <a:off x="3851280" y="189000"/>
            <a:ext cx="865080" cy="1098360"/>
          </a:xfrm>
          <a:prstGeom prst="rect">
            <a:avLst/>
          </a:prstGeom>
          <a:ln w="0">
            <a:noFill/>
          </a:ln>
        </p:spPr>
      </p:pic>
      <p:sp>
        <p:nvSpPr>
          <p:cNvPr id="524" name="TextBox 6"/>
          <p:cNvSpPr/>
          <p:nvPr/>
        </p:nvSpPr>
        <p:spPr>
          <a:xfrm>
            <a:off x="1730160" y="12715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Georgia"/>
                <a:ea typeface="Arial"/>
              </a:rPr>
              <a:t>Kyiv National University of Construction and Architecture</a:t>
            </a:r>
            <a:endParaRPr b="0" lang="en-US" sz="1400" spc="-1" strike="noStrike">
              <a:solidFill>
                <a:srgbClr val="000000"/>
              </a:solidFill>
              <a:latin typeface="Arial"/>
            </a:endParaRPr>
          </a:p>
        </p:txBody>
      </p:sp>
      <p:sp>
        <p:nvSpPr>
          <p:cNvPr id="525" name="Заголовок 1"/>
          <p:cNvSpPr/>
          <p:nvPr/>
        </p:nvSpPr>
        <p:spPr>
          <a:xfrm>
            <a:off x="179280" y="234936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Заголовок 1"/>
          <p:cNvSpPr/>
          <p:nvPr/>
        </p:nvSpPr>
        <p:spPr>
          <a:xfrm>
            <a:off x="250920" y="443700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Прямоугольник 9"/>
          <p:cNvSpPr/>
          <p:nvPr/>
        </p:nvSpPr>
        <p:spPr>
          <a:xfrm>
            <a:off x="179280" y="2432160"/>
            <a:ext cx="8964720" cy="166284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f497d"/>
                </a:solidFill>
                <a:latin typeface="Times New Roman"/>
                <a:ea typeface="Times New Roman"/>
              </a:rPr>
              <a:t>Лекц</a:t>
            </a:r>
            <a:r>
              <a:rPr b="1" lang="uk-UA" sz="2500" spc="-1" strike="noStrike">
                <a:solidFill>
                  <a:srgbClr val="1f497d"/>
                </a:solidFill>
                <a:latin typeface="Times New Roman"/>
                <a:ea typeface="Times New Roman"/>
              </a:rPr>
              <a:t>ія</a:t>
            </a:r>
            <a:r>
              <a:rPr b="1" lang="ru-RU" sz="2500" spc="-1" strike="noStrike">
                <a:solidFill>
                  <a:srgbClr val="1f497d"/>
                </a:solidFill>
                <a:latin typeface="Times New Roman"/>
                <a:ea typeface="Times New Roman"/>
              </a:rPr>
              <a:t> 4. </a:t>
            </a:r>
            <a:endParaRPr b="0" lang="en-US" sz="2500" spc="-1" strike="noStrike">
              <a:solidFill>
                <a:srgbClr val="000000"/>
              </a:solidFill>
              <a:latin typeface="Arial"/>
            </a:endParaRPr>
          </a:p>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17375e"/>
                </a:solidFill>
                <a:latin typeface="Times New Roman"/>
                <a:ea typeface="Times New Roman"/>
              </a:rPr>
              <a:t>Анімація персонажів гри та створення ігрових ефектів. Засоби та методи обробки звуку в </a:t>
            </a:r>
            <a:r>
              <a:rPr b="1" lang="en-US" sz="2600" spc="-1" strike="noStrike">
                <a:solidFill>
                  <a:srgbClr val="17375e"/>
                </a:solidFill>
                <a:latin typeface="Times New Roman"/>
                <a:ea typeface="Times New Roman"/>
              </a:rPr>
              <a:t>AutoDesk Maya. </a:t>
            </a:r>
            <a:r>
              <a:rPr b="1" lang="uk-UA" sz="2600" spc="-1" strike="noStrike">
                <a:solidFill>
                  <a:srgbClr val="17375e"/>
                </a:solidFill>
                <a:latin typeface="Times New Roman"/>
                <a:ea typeface="Times New Roman"/>
              </a:rPr>
              <a:t>Технологія «</a:t>
            </a:r>
            <a:r>
              <a:rPr b="1" lang="en-US" sz="2600" spc="-1" strike="noStrike">
                <a:solidFill>
                  <a:srgbClr val="17375e"/>
                </a:solidFill>
                <a:latin typeface="Times New Roman"/>
                <a:ea typeface="Times New Roman"/>
              </a:rPr>
              <a:t>Motion Capture»</a:t>
            </a:r>
            <a:endParaRPr b="0" lang="en-US" sz="2600" spc="-1" strike="noStrike">
              <a:solidFill>
                <a:srgbClr val="000000"/>
              </a:solidFill>
              <a:latin typeface="Arial"/>
            </a:endParaRPr>
          </a:p>
        </p:txBody>
      </p:sp>
      <p:sp>
        <p:nvSpPr>
          <p:cNvPr id="528"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29" name="Subtitle 2"/>
          <p:cNvSpPr/>
          <p:nvPr/>
        </p:nvSpPr>
        <p:spPr>
          <a:xfrm>
            <a:off x="5688000" y="4508640"/>
            <a:ext cx="3492360" cy="2205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ндр</a:t>
            </a:r>
            <a:r>
              <a:rPr b="1" lang="uk-UA" sz="1500" spc="-1" strike="noStrike">
                <a:solidFill>
                  <a:srgbClr val="000000"/>
                </a:solidFill>
                <a:latin typeface="Times New Roman"/>
                <a:ea typeface="Times New Roman"/>
              </a:rPr>
              <a:t>ій Білощицький </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т.н., проф. кафедри інформаційних технологі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bao1978@gmail.com</a:t>
            </a:r>
            <a:endParaRPr b="0" lang="en-US" sz="14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Євгенія Шабала</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т.н., доц. кафедри к</a:t>
            </a:r>
            <a:r>
              <a:rPr b="0" lang="uk-UA" sz="1400" spc="-1" strike="noStrike">
                <a:solidFill>
                  <a:srgbClr val="000000"/>
                </a:solidFill>
                <a:latin typeface="Times New Roman"/>
                <a:ea typeface="Times New Roman"/>
              </a:rPr>
              <a:t>ібернетичної безпеки та комп</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ютерно</a:t>
            </a:r>
            <a:r>
              <a:rPr b="0" lang="uk-UA" sz="1400" spc="-1" strike="noStrike">
                <a:solidFill>
                  <a:srgbClr val="000000"/>
                </a:solidFill>
                <a:latin typeface="Times New Roman"/>
                <a:ea typeface="Times New Roman"/>
              </a:rPr>
              <a:t>ї інженерії</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wild_miledi@ukr.net</a:t>
            </a:r>
            <a:endParaRPr b="0" lang="en-US" sz="1400" spc="-1" strike="noStrike">
              <a:solidFill>
                <a:srgbClr val="000000"/>
              </a:solidFill>
              <a:latin typeface="Arial"/>
            </a:endParaRPr>
          </a:p>
        </p:txBody>
      </p:sp>
      <p:pic>
        <p:nvPicPr>
          <p:cNvPr id="530" name="Рисунок 1" descr=""/>
          <p:cNvPicPr/>
          <p:nvPr/>
        </p:nvPicPr>
        <p:blipFill>
          <a:blip r:embed="rId2"/>
          <a:stretch/>
        </p:blipFill>
        <p:spPr>
          <a:xfrm>
            <a:off x="179280" y="5300640"/>
            <a:ext cx="2538360" cy="757440"/>
          </a:xfrm>
          <a:prstGeom prst="rect">
            <a:avLst/>
          </a:prstGeom>
          <a:ln w="0">
            <a:noFill/>
          </a:ln>
        </p:spPr>
      </p:pic>
      <p:pic>
        <p:nvPicPr>
          <p:cNvPr id="531" name="Рисунок 2" descr=""/>
          <p:cNvPicPr/>
          <p:nvPr/>
        </p:nvPicPr>
        <p:blipFill>
          <a:blip r:embed="rId3"/>
          <a:stretch/>
        </p:blipFill>
        <p:spPr>
          <a:xfrm>
            <a:off x="6691320" y="647640"/>
            <a:ext cx="2414520" cy="76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324000" y="836280"/>
            <a:ext cx="8820000" cy="5040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a:t>
            </a:r>
            <a:r>
              <a:rPr b="0" lang="ru-RU" sz="2000" spc="-1" strike="noStrike">
                <a:solidFill>
                  <a:srgbClr val="000000"/>
                </a:solidFill>
                <a:latin typeface="Times New Roman"/>
                <a:ea typeface="Times New Roman"/>
              </a:rPr>
              <a:t>гри, які використовують захоплення рух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BA liv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GA tou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L hocke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gends of Wrestling 2</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rd of the Ring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ny Hawk Pro Skate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ger Woods PG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76" name="PlaceHolder 1"/>
          <p:cNvSpPr>
            <a:spLocks noGrp="1"/>
          </p:cNvSpPr>
          <p:nvPr>
            <p:ph type="title"/>
          </p:nvPr>
        </p:nvSpPr>
        <p:spPr>
          <a:xfrm>
            <a:off x="468360" y="333360"/>
            <a:ext cx="822960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77" name="Picture 1" descr="D:\GameHub\02_10_17_презентации\Лекция 4\картинки\4552_t3.jpg"/>
          <p:cNvPicPr/>
          <p:nvPr/>
        </p:nvPicPr>
        <p:blipFill>
          <a:blip r:embed="rId1"/>
          <a:stretch/>
        </p:blipFill>
        <p:spPr>
          <a:xfrm>
            <a:off x="3460680" y="2492280"/>
            <a:ext cx="539604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179280" y="836640"/>
            <a:ext cx="864072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сьогоднішній день існують велика кількість маркерних систем захоплення рухів. Різниця між ними полягає в принципі передачі рухів.</a:t>
            </a:r>
            <a:r>
              <a:rPr b="1" lang="uk-UA" sz="2400" spc="-1" strike="noStrike">
                <a:solidFill>
                  <a:srgbClr val="000000"/>
                </a:solidFill>
                <a:latin typeface="Calibri"/>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пасивні.</a:t>
            </a:r>
            <a:r>
              <a:rPr b="0" lang="uk-UA" sz="2400" spc="-1" strike="noStrike">
                <a:solidFill>
                  <a:srgbClr val="000000"/>
                </a:solidFill>
                <a:latin typeface="Times New Roman"/>
                <a:ea typeface="Times New Roman"/>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85D6F-FEC0-41D3-928C-B101028116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0"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81" name="Дата 1"/>
          <p:cNvSpPr/>
          <p:nvPr/>
        </p:nvSpPr>
        <p:spPr>
          <a:xfrm>
            <a:off x="-36360" y="595008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82" name="Picture 2" descr="D:\GameHub\02_10_17_презентации\Лекция 4\картинки\26013_JZZOKV6uL3_anim_before.jpg"/>
          <p:cNvPicPr/>
          <p:nvPr/>
        </p:nvPicPr>
        <p:blipFill>
          <a:blip r:embed="rId1"/>
          <a:stretch/>
        </p:blipFill>
        <p:spPr>
          <a:xfrm>
            <a:off x="5940360" y="4781520"/>
            <a:ext cx="316872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250920" y="907920"/>
            <a:ext cx="822960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активні </a:t>
            </a:r>
            <a:r>
              <a:rPr b="0" lang="uk-UA" sz="2400" spc="-1" strike="noStrike">
                <a:solidFill>
                  <a:srgbClr val="000000"/>
                </a:solidFill>
                <a:latin typeface="Times New Roman"/>
                <a:ea typeface="Times New Roman"/>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2400" spc="-1" strike="noStrike">
              <a:solidFill>
                <a:srgbClr val="000000"/>
              </a:solidFill>
              <a:latin typeface="Calibri"/>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F758A-F8F6-44F9-AD5A-69F765D27E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5" name="Дата 1"/>
          <p:cNvSpPr/>
          <p:nvPr/>
        </p:nvSpPr>
        <p:spPr>
          <a:xfrm>
            <a:off x="34920" y="6051600"/>
            <a:ext cx="62658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87" name="Picture 2" descr="Похожее изображение"/>
          <p:cNvPicPr/>
          <p:nvPr/>
        </p:nvPicPr>
        <p:blipFill>
          <a:blip r:embed="rId1"/>
          <a:stretch/>
        </p:blipFill>
        <p:spPr>
          <a:xfrm>
            <a:off x="5796000" y="4324320"/>
            <a:ext cx="3313080" cy="24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250920" y="764640"/>
            <a:ext cx="8229600" cy="452628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агнітні системи, </a:t>
            </a:r>
            <a:r>
              <a:rPr b="0" lang="uk-UA" sz="2200" spc="-1" strike="noStrike">
                <a:solidFill>
                  <a:srgbClr val="000000"/>
                </a:solidFill>
                <a:latin typeface="Times New Roman"/>
                <a:ea typeface="Times New Roman"/>
              </a:rPr>
              <a:t>в яких маркерами є магніти, а камерами - ресивери, система вираховує їх позиції по спотворень магнітного поток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еханічні системи </a:t>
            </a:r>
            <a:r>
              <a:rPr b="0" lang="uk-UA" sz="2200" spc="-1" strike="noStrike">
                <a:solidFill>
                  <a:srgbClr val="000000"/>
                </a:solidFill>
                <a:latin typeface="Times New Roman"/>
                <a:ea typeface="Times New Roman"/>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Гіроскопічні / інерційні системи </a:t>
            </a:r>
            <a:r>
              <a:rPr b="0" lang="uk-UA" sz="2200" spc="-1" strike="noStrike">
                <a:solidFill>
                  <a:srgbClr val="000000"/>
                </a:solidFill>
                <a:latin typeface="Times New Roman"/>
                <a:ea typeface="Times New Roman"/>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D601-4F49-443F-A7A0-7FEEF20A18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0"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91"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80" y="274320"/>
            <a:ext cx="583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70c0"/>
                </a:solidFill>
                <a:latin typeface="Times New Roman"/>
                <a:ea typeface="Times New Roman"/>
              </a:rPr>
              <a:t>Звук в комп'ютерних іграх</a:t>
            </a:r>
            <a:endParaRPr b="0" lang="en-US" sz="3600" spc="-1" strike="noStrike">
              <a:solidFill>
                <a:srgbClr val="0070c0"/>
              </a:solidFill>
              <a:latin typeface="Calibri"/>
            </a:endParaRPr>
          </a:p>
        </p:txBody>
      </p:sp>
      <p:sp>
        <p:nvSpPr>
          <p:cNvPr id="593" name=""/>
          <p:cNvSpPr txBox="1"/>
          <p:nvPr/>
        </p:nvSpPr>
        <p:spPr>
          <a:xfrm>
            <a:off x="3240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Звук</a:t>
            </a:r>
            <a:r>
              <a:rPr b="0" lang="uk-UA" sz="2800" spc="-1" strike="noStrike">
                <a:solidFill>
                  <a:srgbClr val="000000"/>
                </a:solidFill>
                <a:latin typeface="Times New Roman"/>
                <a:ea typeface="Times New Roman"/>
              </a:rPr>
              <a:t> - найважливіший елемент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учасного відеоігрового проект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Це потужний інструмент створення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нікальної атмосфери відеоігри і впливу на гравц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расиво намальований і ефектно оформлений проект мовчазно дивиться на нас, і чекає, коли ми додамо йому звучання. Це ще одна важлива складова гри.</a:t>
            </a:r>
            <a:br>
              <a:rPr sz="2800"/>
            </a:b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4" name="Picture 2" descr="Картинки по запросу звук  в играх"/>
          <p:cNvPicPr/>
          <p:nvPr/>
        </p:nvPicPr>
        <p:blipFill>
          <a:blip r:embed="rId1"/>
          <a:stretch/>
        </p:blipFill>
        <p:spPr>
          <a:xfrm>
            <a:off x="6227640" y="692280"/>
            <a:ext cx="2786040" cy="2449440"/>
          </a:xfrm>
          <a:prstGeom prst="rect">
            <a:avLst/>
          </a:prstGeom>
          <a:ln w="0">
            <a:noFill/>
          </a:ln>
        </p:spPr>
      </p:pic>
      <p:sp>
        <p:nvSpPr>
          <p:cNvPr id="595"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250560" y="260280"/>
            <a:ext cx="8435880" cy="5865840"/>
          </a:xfrm>
          <a:prstGeom prst="rect">
            <a:avLst/>
          </a:prstGeom>
          <a:noFill/>
          <a:ln w="0">
            <a:noFill/>
          </a:ln>
        </p:spPr>
        <p:txBody>
          <a:bodyPr anchor="t">
            <a:normAutofit/>
          </a:bodyPr>
          <a:p>
            <a:pPr marL="343080" indent="-343080">
              <a:lnSpc>
                <a:spcPct val="100000"/>
              </a:lnSpc>
              <a:spcBef>
                <a:spcPts val="2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Музи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a:t>
            </a:r>
            <a:endParaRPr b="0" lang="en-US" sz="20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Озвуч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7" name="Picture 2" descr="Картинки по запросу звук  в играх"/>
          <p:cNvPicPr/>
          <p:nvPr/>
        </p:nvPicPr>
        <p:blipFill>
          <a:blip r:embed="rId1"/>
          <a:stretch/>
        </p:blipFill>
        <p:spPr>
          <a:xfrm>
            <a:off x="6516720" y="5113440"/>
            <a:ext cx="2625840" cy="1700280"/>
          </a:xfrm>
          <a:prstGeom prst="rect">
            <a:avLst/>
          </a:prstGeom>
          <a:ln w="0">
            <a:noFill/>
          </a:ln>
        </p:spPr>
      </p:pic>
      <p:sp>
        <p:nvSpPr>
          <p:cNvPr id="598"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395280" y="115920"/>
            <a:ext cx="8229600" cy="6121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інематографічні послідовності </a:t>
            </a:r>
            <a:r>
              <a:rPr b="0" lang="uk-UA" sz="2400" spc="-1" strike="noStrike">
                <a:solidFill>
                  <a:srgbClr val="000000"/>
                </a:solidFill>
                <a:latin typeface="Times New Roman"/>
                <a:ea typeface="Times New Roman"/>
              </a:rPr>
              <a:t>(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екрану меню </a:t>
            </a:r>
            <a:r>
              <a:rPr b="0" lang="uk-UA" sz="2400" spc="-1" strike="noStrike">
                <a:solidFill>
                  <a:srgbClr val="000000"/>
                </a:solidFill>
                <a:latin typeface="Times New Roman"/>
                <a:ea typeface="Times New Roman"/>
              </a:rPr>
              <a:t>(Menu Screen Music). Екрани меню бувають дуже різноманітними, але всі вони, по суті, є одними інтерфейсами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зацікавленості гравця у віртуальному світі.</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0"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457200" y="6206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ігрового сюжету </a:t>
            </a:r>
            <a:r>
              <a:rPr b="0" lang="uk-UA" sz="2400" spc="-1" strike="noStrike">
                <a:solidFill>
                  <a:srgbClr val="000000"/>
                </a:solidFill>
                <a:latin typeface="Times New Roman"/>
                <a:ea typeface="Times New Roman"/>
              </a:rPr>
              <a:t>(Gameplay music). Це музика, яка безпосередньо виникає під час гри і може мати різні цілі, які залежать від жанру гр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осування сюжету</a:t>
            </a:r>
            <a:r>
              <a:rPr b="0" lang="uk-UA" sz="2400" spc="-1" strike="noStrike">
                <a:solidFill>
                  <a:srgbClr val="000000"/>
                </a:solidFill>
                <a:latin typeface="Times New Roman"/>
                <a:ea typeface="Times New Roman"/>
              </a:rPr>
              <a:t>,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a:t>
            </a:r>
            <a:endParaRPr b="0" lang="en-US" sz="2400" spc="-1" strike="noStrike">
              <a:solidFill>
                <a:srgbClr val="000000"/>
              </a:solidFill>
              <a:latin typeface="Calibri"/>
            </a:endParaRPr>
          </a:p>
        </p:txBody>
      </p:sp>
      <p:sp>
        <p:nvSpPr>
          <p:cNvPr id="602"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60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7" name="Picture 10" descr="Похожее изображение"/>
          <p:cNvPicPr/>
          <p:nvPr/>
        </p:nvPicPr>
        <p:blipFill>
          <a:blip r:embed="rId1"/>
          <a:stretch/>
        </p:blipFill>
        <p:spPr>
          <a:xfrm>
            <a:off x="2916360" y="3933720"/>
            <a:ext cx="3282840" cy="205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333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інальні репліки «перемоги» і «поразки» </a:t>
            </a:r>
            <a:r>
              <a:rPr b="0" lang="uk-UA" sz="2400" spc="-1" strike="noStrike">
                <a:solidFill>
                  <a:srgbClr val="000000"/>
                </a:solidFill>
                <a:latin typeface="Times New Roman"/>
                <a:ea typeface="Times New Roman"/>
              </a:rPr>
              <a:t>( «Win» and «Lose» Final Cues). В разі перемоги оптимістичний набір зі звуків винагороджує гравця за його старання, а при ураженні звучить сумна і навіть принизливого музика, або легка надихаюча - на ще одну спробу пройти рівень.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lang="uk-UA" sz="2400" spc="-1" strike="noStrike">
                <a:solidFill>
                  <a:srgbClr val="000000"/>
                </a:solidFill>
                <a:latin typeface="Times New Roman"/>
                <a:ea typeface="Times New Roman"/>
              </a:rPr>
              <a:t>Інтерактивна музика (Interactive Music). </a:t>
            </a:r>
            <a:r>
              <a:rPr b="0" lang="uk-UA" sz="2400" spc="-1" strike="noStrike">
                <a:solidFill>
                  <a:srgbClr val="000000"/>
                </a:solidFill>
                <a:latin typeface="Times New Roman"/>
                <a:ea typeface="Times New Roman"/>
              </a:rPr>
              <a:t>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9"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636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ea typeface="Times New Roman"/>
              </a:rPr>
              <a:t>3D-моделювання персонажів</a:t>
            </a:r>
            <a:endParaRPr b="0" lang="en-US" sz="3200" spc="-1" strike="noStrike">
              <a:solidFill>
                <a:srgbClr val="0070c0"/>
              </a:solidFill>
              <a:latin typeface="Calibri"/>
            </a:endParaRPr>
          </a:p>
        </p:txBody>
      </p:sp>
      <p:sp>
        <p:nvSpPr>
          <p:cNvPr id="533" name=""/>
          <p:cNvSpPr txBox="1"/>
          <p:nvPr/>
        </p:nvSpPr>
        <p:spPr>
          <a:xfrm>
            <a:off x="179280" y="847800"/>
            <a:ext cx="87854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D-моделювання персонажів </a:t>
            </a:r>
            <a:r>
              <a:rPr b="0" lang="ru-RU" sz="2000" spc="-1" strike="noStrike">
                <a:solidFill>
                  <a:srgbClr val="000000"/>
                </a:solidFill>
                <a:latin typeface="Times New Roman"/>
                <a:ea typeface="Times New Roman"/>
              </a:rPr>
              <a:t>-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еваги </a:t>
            </a:r>
            <a:r>
              <a:rPr b="0" lang="ru-RU" sz="2000" spc="-1" strike="noStrike">
                <a:solidFill>
                  <a:srgbClr val="000000"/>
                </a:solidFill>
                <a:latin typeface="Times New Roman"/>
                <a:ea typeface="Times New Roman"/>
              </a:rPr>
              <a:t>3D-персонажів:</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вобода анімації: персонажем легко керувати - він буде виконувати будь-які дії і для цього його не потрібно перемальовувати в різних позах;</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тота роботи: програми дозволяють змінювати модель за допомогою декількох рухів мишк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ізуалізація: об'ємна комп'ютерна модель виглядає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багато яскравіше, ніж 2D малюнок.</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29B59-76A8-4ABA-8058-0B834377FF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36" name="Picture 3" descr="D:\GameHub\02_10_17_презентации\Лекция 4\картинки\300px-Activemarker2.PNG"/>
          <p:cNvPicPr/>
          <p:nvPr/>
        </p:nvPicPr>
        <p:blipFill>
          <a:blip r:embed="rId1"/>
          <a:stretch/>
        </p:blipFill>
        <p:spPr>
          <a:xfrm>
            <a:off x="6154560" y="4680000"/>
            <a:ext cx="29894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7928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0070c0"/>
                </a:solidFill>
                <a:latin typeface="Times New Roman"/>
                <a:ea typeface="Times New Roman"/>
              </a:rPr>
              <a:t>Процес анімації</a:t>
            </a:r>
            <a:br>
              <a:rPr sz="2400"/>
            </a:br>
            <a:endParaRPr b="0" lang="en-US" sz="2400" spc="-1" strike="noStrike">
              <a:solidFill>
                <a:srgbClr val="0070c0"/>
              </a:solidFill>
              <a:latin typeface="Calibri"/>
            </a:endParaRPr>
          </a:p>
        </p:txBody>
      </p:sp>
      <p:sp>
        <p:nvSpPr>
          <p:cNvPr id="538" name=""/>
          <p:cNvSpPr txBox="1"/>
          <p:nvPr/>
        </p:nvSpPr>
        <p:spPr>
          <a:xfrm>
            <a:off x="250920" y="691920"/>
            <a:ext cx="8642160" cy="3600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ворення поз (posing).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а цьому етапі персонаж послідовно приймає пози, які виконують дію.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2400" spc="-1" strike="noStrike">
              <a:solidFill>
                <a:srgbClr val="000000"/>
              </a:solidFill>
              <a:latin typeface="Calibri"/>
            </a:endParaRPr>
          </a:p>
        </p:txBody>
      </p:sp>
      <p:sp>
        <p:nvSpPr>
          <p:cNvPr id="53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3DC99-83DA-4832-B25B-4570E682B62B}" type="slidenum">
              <a:rPr b="0" lang="en-US" sz="2400" spc="-1" strike="noStrike">
                <a:solidFill>
                  <a:srgbClr val="898989"/>
                </a:solidFill>
                <a:latin typeface="Times New Roman"/>
                <a:ea typeface="Times New Roman"/>
              </a:rPr>
              <a:t>&lt;number&gt;</a:t>
            </a:fld>
            <a:endParaRPr b="0" lang="en-US" sz="2400" spc="-1" strike="noStrike">
              <a:solidFill>
                <a:srgbClr val="000000"/>
              </a:solidFill>
              <a:latin typeface="Arial"/>
            </a:endParaRPr>
          </a:p>
        </p:txBody>
      </p:sp>
      <p:sp>
        <p:nvSpPr>
          <p:cNvPr id="540" name="Дата 1"/>
          <p:cNvSpPr/>
          <p:nvPr/>
        </p:nvSpPr>
        <p:spPr>
          <a:xfrm>
            <a:off x="-36360" y="6021360"/>
            <a:ext cx="5545080" cy="7207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1" name="Picture 2" descr="Картинки по запросу создание поз персонажа игры"/>
          <p:cNvPicPr/>
          <p:nvPr/>
        </p:nvPicPr>
        <p:blipFill>
          <a:blip r:embed="rId1"/>
          <a:stretch/>
        </p:blipFill>
        <p:spPr>
          <a:xfrm>
            <a:off x="6084720" y="3860640"/>
            <a:ext cx="3027600" cy="299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
        <p:nvSpPr>
          <p:cNvPr id="543" name=""/>
          <p:cNvSpPr txBox="1"/>
          <p:nvPr/>
        </p:nvSpPr>
        <p:spPr>
          <a:xfrm>
            <a:off x="324000" y="907920"/>
            <a:ext cx="8229600" cy="316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Хронометраж (timing). </a:t>
            </a:r>
            <a:r>
              <a:rPr b="0" lang="uk-UA" sz="2400" spc="-1" strike="noStrike">
                <a:solidFill>
                  <a:srgbClr val="000000"/>
                </a:solidFill>
                <a:latin typeface="Times New Roman"/>
                <a:ea typeface="Times New Roman"/>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a:t>
            </a:r>
            <a:endParaRPr b="0" lang="en-US" sz="2400" spc="-1" strike="noStrike">
              <a:solidFill>
                <a:srgbClr val="000000"/>
              </a:solidFill>
              <a:latin typeface="Calibri"/>
            </a:endParaRPr>
          </a:p>
        </p:txBody>
      </p:sp>
      <p:sp>
        <p:nvSpPr>
          <p:cNvPr id="54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62490-E01B-4D5B-ADDE-DE693A46F8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6" name="Picture 2" descr="Похожее изображение"/>
          <p:cNvPicPr/>
          <p:nvPr/>
        </p:nvPicPr>
        <p:blipFill>
          <a:blip r:embed="rId1"/>
          <a:stretch/>
        </p:blipFill>
        <p:spPr>
          <a:xfrm>
            <a:off x="2195640" y="3573360"/>
            <a:ext cx="4432320" cy="24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457200" y="14842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точнення (</a:t>
            </a:r>
            <a:r>
              <a:rPr b="1" lang="en-US" sz="2400" spc="-1" strike="noStrike">
                <a:solidFill>
                  <a:srgbClr val="000000"/>
                </a:solidFill>
                <a:latin typeface="Times New Roman"/>
                <a:ea typeface="Times New Roman"/>
              </a:rPr>
              <a:t>refining). </a:t>
            </a:r>
            <a:r>
              <a:rPr b="0" lang="ru-RU" sz="2400" spc="-1" strike="noStrike">
                <a:solidFill>
                  <a:srgbClr val="000000"/>
                </a:solidFill>
                <a:latin typeface="Times New Roman"/>
                <a:ea typeface="Times New Roman"/>
              </a:rPr>
              <a:t>Це найтриваліший етап, так як саме тут додаються деталі, що створюють чудову анімацію.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2400" spc="-1" strike="noStrike">
              <a:solidFill>
                <a:srgbClr val="000000"/>
              </a:solidFill>
              <a:latin typeface="Calibri"/>
            </a:endParaRPr>
          </a:p>
        </p:txBody>
      </p:sp>
      <p:sp>
        <p:nvSpPr>
          <p:cNvPr id="54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CC5D-ADD9-4A53-9CCE-D9D5E88493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9"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 </a:t>
            </a: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0" name="Picture 1" descr="D:\GameHub\02_10_17_презентации\Лекция 4\картинки\0096b9b2aac611.png"/>
          <p:cNvPicPr/>
          <p:nvPr/>
        </p:nvPicPr>
        <p:blipFill>
          <a:blip r:embed="rId1"/>
          <a:stretch/>
        </p:blipFill>
        <p:spPr>
          <a:xfrm>
            <a:off x="5724360" y="4110120"/>
            <a:ext cx="3376800" cy="2747880"/>
          </a:xfrm>
          <a:prstGeom prst="rect">
            <a:avLst/>
          </a:prstGeom>
          <a:ln w="0">
            <a:noFill/>
          </a:ln>
        </p:spPr>
      </p:pic>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Times New Roman"/>
                <a:ea typeface="Times New Roman"/>
              </a:rPr>
              <a:t>Персонажі найбільш відомих ігор, виконані з використанням 3</a:t>
            </a:r>
            <a:r>
              <a:rPr b="1" lang="en-US" sz="2800" spc="-1" strike="noStrike">
                <a:solidFill>
                  <a:srgbClr val="0070c0"/>
                </a:solidFill>
                <a:latin typeface="Times New Roman"/>
                <a:ea typeface="Times New Roman"/>
              </a:rPr>
              <a:t>D </a:t>
            </a:r>
            <a:r>
              <a:rPr b="1" lang="ru-RU" sz="2800" spc="-1" strike="noStrike">
                <a:solidFill>
                  <a:srgbClr val="0070c0"/>
                </a:solidFill>
                <a:latin typeface="Times New Roman"/>
                <a:ea typeface="Times New Roman"/>
              </a:rPr>
              <a:t>моделювання та анімації.</a:t>
            </a:r>
            <a:endParaRPr b="0" lang="en-US" sz="2800" spc="-1" strike="noStrike">
              <a:solidFill>
                <a:srgbClr val="0070c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Call of Dut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Wiedźmin (</a:t>
            </a:r>
            <a:r>
              <a:rPr b="1" i="1" lang="ru-RU" sz="2000" spc="-1" strike="noStrike">
                <a:solidFill>
                  <a:srgbClr val="000000"/>
                </a:solidFill>
                <a:latin typeface="Times New Roman"/>
                <a:ea typeface="Times New Roman"/>
              </a:rPr>
              <a:t>Ведьмак),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llou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orta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ssassin’s Creed,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Resident Evi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The Legend of Zel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Battlefield, Mass Effec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r Cr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rince of Persi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Deus Ex, Diablo</a:t>
            </a:r>
            <a:r>
              <a:rPr b="1"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1030-7A14-4EFA-8955-FB8B6250F9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6" name="Picture 2" descr="Картинки по запросу Wiedźmin персонаж игры"/>
          <p:cNvPicPr/>
          <p:nvPr/>
        </p:nvPicPr>
        <p:blipFill>
          <a:blip r:embed="rId1"/>
          <a:stretch/>
        </p:blipFill>
        <p:spPr>
          <a:xfrm>
            <a:off x="6732720" y="1341360"/>
            <a:ext cx="2247840" cy="3152880"/>
          </a:xfrm>
          <a:prstGeom prst="rect">
            <a:avLst/>
          </a:prstGeom>
          <a:ln w="0">
            <a:noFill/>
          </a:ln>
        </p:spPr>
      </p:pic>
      <p:pic>
        <p:nvPicPr>
          <p:cNvPr id="557" name="Picture 4" descr="Картинки по запросу Call of Duty персонаж игры"/>
          <p:cNvPicPr/>
          <p:nvPr/>
        </p:nvPicPr>
        <p:blipFill>
          <a:blip r:embed="rId2"/>
          <a:stretch/>
        </p:blipFill>
        <p:spPr>
          <a:xfrm>
            <a:off x="5203800" y="4030560"/>
            <a:ext cx="3795840" cy="2135160"/>
          </a:xfrm>
          <a:prstGeom prst="rect">
            <a:avLst/>
          </a:prstGeom>
          <a:ln w="0">
            <a:noFill/>
          </a:ln>
        </p:spPr>
      </p:pic>
      <p:pic>
        <p:nvPicPr>
          <p:cNvPr id="558" name="Picture 6" descr="Картинки по запросу Fallout  персонаж игры"/>
          <p:cNvPicPr/>
          <p:nvPr/>
        </p:nvPicPr>
        <p:blipFill>
          <a:blip r:embed="rId3"/>
          <a:stretch/>
        </p:blipFill>
        <p:spPr>
          <a:xfrm>
            <a:off x="3529080" y="2171880"/>
            <a:ext cx="3130560" cy="176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79280" y="490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70c0"/>
                </a:solidFill>
                <a:latin typeface="Times New Roman"/>
                <a:ea typeface="Times New Roman"/>
              </a:rPr>
              <a:t>ПОПУЛЯРНІ ПРОГРАМИ ДЛЯ МОДЕЛЮВАННЯ ПЕРСОНАЖІВ</a:t>
            </a:r>
            <a:br>
              <a:rPr sz="2800"/>
            </a:br>
            <a:endParaRPr b="0" lang="en-US" sz="2800" spc="-1" strike="noStrike">
              <a:solidFill>
                <a:srgbClr val="0070c0"/>
              </a:solidFill>
              <a:latin typeface="Calibri"/>
            </a:endParaRPr>
          </a:p>
        </p:txBody>
      </p:sp>
      <p:sp>
        <p:nvSpPr>
          <p:cNvPr id="5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Brus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end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від </a:t>
            </a:r>
            <a:r>
              <a:rPr b="0" lang="en-US" sz="2400" spc="-1" strike="noStrike">
                <a:solidFill>
                  <a:srgbClr val="000000"/>
                </a:solidFill>
                <a:latin typeface="Times New Roman"/>
                <a:ea typeface="Times New Roman"/>
              </a:rPr>
              <a:t>Autodesk (3Ds Max, Maya)</a:t>
            </a:r>
            <a:endParaRPr b="0" lang="en-US" sz="2400" spc="-1" strike="noStrike">
              <a:solidFill>
                <a:srgbClr val="000000"/>
              </a:solidFill>
              <a:latin typeface="Calibri"/>
            </a:endParaRPr>
          </a:p>
        </p:txBody>
      </p:sp>
      <p:sp>
        <p:nvSpPr>
          <p:cNvPr id="56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915E-24B5-440B-B412-54ACA70FE9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62" name="Picture 2" descr="Похожее изображение"/>
          <p:cNvPicPr/>
          <p:nvPr/>
        </p:nvPicPr>
        <p:blipFill>
          <a:blip r:embed="rId1"/>
          <a:stretch/>
        </p:blipFill>
        <p:spPr>
          <a:xfrm>
            <a:off x="5148360" y="4149720"/>
            <a:ext cx="3960720" cy="2630520"/>
          </a:xfrm>
          <a:prstGeom prst="rect">
            <a:avLst/>
          </a:prstGeom>
          <a:ln w="0">
            <a:noFill/>
          </a:ln>
        </p:spPr>
      </p:pic>
      <p:sp>
        <p:nvSpPr>
          <p:cNvPr id="563" name="Дата 1"/>
          <p:cNvSpPr/>
          <p:nvPr/>
        </p:nvSpPr>
        <p:spPr>
          <a:xfrm>
            <a:off x="-36360" y="6021360"/>
            <a:ext cx="5329080" cy="72072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c0"/>
                </a:solidFill>
                <a:latin typeface="Times New Roman"/>
                <a:ea typeface="Times New Roman"/>
              </a:rPr>
              <a:t>Захоплення руху</a:t>
            </a:r>
            <a:br>
              <a:rPr sz="4400"/>
            </a:br>
            <a:endParaRPr b="0" lang="en-US" sz="4400" spc="-1" strike="noStrike">
              <a:solidFill>
                <a:srgbClr val="0070c0"/>
              </a:solidFill>
              <a:latin typeface="Calibri"/>
            </a:endParaRPr>
          </a:p>
        </p:txBody>
      </p:sp>
      <p:sp>
        <p:nvSpPr>
          <p:cNvPr id="565" name=""/>
          <p:cNvSpPr txBox="1"/>
          <p:nvPr/>
        </p:nvSpPr>
        <p:spPr>
          <a:xfrm>
            <a:off x="395280" y="9810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хоплення руху </a:t>
            </a:r>
            <a:r>
              <a:rPr b="0" lang="ru-RU" sz="2400" spc="-1" strike="noStrike">
                <a:solidFill>
                  <a:srgbClr val="000000"/>
                </a:solidFill>
                <a:latin typeface="Times New Roman"/>
                <a:ea typeface="Times New Roman"/>
              </a:rPr>
              <a:t>- це процес запису переміщень акторів і їх відтворення в цифрових моделях персонажів. Професійні художники із захоплення руху і 3</a:t>
            </a:r>
            <a:r>
              <a:rPr b="0" lang="en-US" sz="2400" spc="-1" strike="noStrike">
                <a:solidFill>
                  <a:srgbClr val="000000"/>
                </a:solidFill>
                <a:latin typeface="Times New Roman"/>
                <a:ea typeface="Times New Roman"/>
              </a:rPr>
              <a:t>D-</a:t>
            </a:r>
            <a:r>
              <a:rPr b="0" lang="ru-RU" sz="2400" spc="-1" strike="noStrike">
                <a:solidFill>
                  <a:srgbClr val="000000"/>
                </a:solidFill>
                <a:latin typeface="Times New Roman"/>
                <a:ea typeface="Times New Roman"/>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2400" spc="-1" strike="noStrike">
                <a:solidFill>
                  <a:srgbClr val="000000"/>
                </a:solidFill>
                <a:latin typeface="Times New Roman"/>
                <a:ea typeface="Times New Roman"/>
              </a:rPr>
              <a:t>Autodesk </a:t>
            </a:r>
            <a:r>
              <a:rPr b="0" lang="ru-RU" sz="2400" spc="-1" strike="noStrike">
                <a:solidFill>
                  <a:srgbClr val="000000"/>
                </a:solidFill>
                <a:latin typeface="Times New Roman"/>
                <a:ea typeface="Times New Roman"/>
              </a:rPr>
              <a:t>для реалізації наступних завдан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хоплення рух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імаці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део ігр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правління роботом</a:t>
            </a:r>
            <a:endParaRPr b="0" lang="en-US" sz="2400" spc="-1" strike="noStrike">
              <a:solidFill>
                <a:srgbClr val="000000"/>
              </a:solidFill>
              <a:latin typeface="Calibri"/>
            </a:endParaRPr>
          </a:p>
        </p:txBody>
      </p:sp>
      <p:sp>
        <p:nvSpPr>
          <p:cNvPr id="56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6FC09-161B-4E03-90CC-E3D94CB720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68" name="Picture 1" descr="D:\GameHub\02_10_17_презентации\Лекция 4\картинки\4fb06c40119c494d8419af43a3156d05.jpg"/>
          <p:cNvPicPr/>
          <p:nvPr/>
        </p:nvPicPr>
        <p:blipFill>
          <a:blip r:embed="rId1"/>
          <a:stretch/>
        </p:blipFill>
        <p:spPr>
          <a:xfrm>
            <a:off x="4427640" y="3627360"/>
            <a:ext cx="468144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70" name=""/>
          <p:cNvSpPr txBox="1"/>
          <p:nvPr/>
        </p:nvSpPr>
        <p:spPr>
          <a:xfrm>
            <a:off x="395280" y="90792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ивчення емоцій- </a:t>
            </a:r>
            <a:r>
              <a:rPr b="0" lang="ru-RU" sz="2400" spc="-1" strike="noStrike">
                <a:solidFill>
                  <a:srgbClr val="000000"/>
                </a:solidFill>
                <a:latin typeface="Times New Roman"/>
                <a:ea typeface="Times New Roman"/>
              </a:rPr>
              <a:t>це одна з основних особливостей геймплея, і тому, наскільки у вас вийде фыксув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ехнологія </a:t>
            </a:r>
            <a:r>
              <a:rPr b="1" lang="en-US" sz="2400" spc="-1" strike="noStrike">
                <a:solidFill>
                  <a:srgbClr val="000000"/>
                </a:solidFill>
                <a:latin typeface="Times New Roman"/>
                <a:ea typeface="Times New Roman"/>
              </a:rPr>
              <a:t>Motion Capture (mo-cap, «</a:t>
            </a:r>
            <a:r>
              <a:rPr b="1" lang="ru-RU" sz="2400" spc="-1" strike="noStrike">
                <a:solidFill>
                  <a:srgbClr val="000000"/>
                </a:solidFill>
                <a:latin typeface="Times New Roman"/>
                <a:ea typeface="Times New Roman"/>
              </a:rPr>
              <a:t>захоплення рухів») </a:t>
            </a:r>
            <a:r>
              <a:rPr b="0" lang="ru-RU" sz="2400" spc="-1" strike="noStrike">
                <a:solidFill>
                  <a:srgbClr val="000000"/>
                </a:solidFill>
                <a:latin typeface="Times New Roman"/>
                <a:ea typeface="Times New Roman"/>
              </a:rPr>
              <a:t>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2400" spc="-1" strike="noStrike">
              <a:solidFill>
                <a:srgbClr val="000000"/>
              </a:solidFill>
              <a:latin typeface="Calibri"/>
            </a:endParaRPr>
          </a:p>
        </p:txBody>
      </p:sp>
      <p:sp>
        <p:nvSpPr>
          <p:cNvPr id="57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8D16-87C9-47BC-9A93-C864CADE13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2" name="Дата 1"/>
          <p:cNvSpPr/>
          <p:nvPr/>
        </p:nvSpPr>
        <p:spPr>
          <a:xfrm>
            <a:off x="-36360" y="616572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3" name="Picture 2" descr="D:\GameHub\02_10_17_презентации\Лекция 4\картинки\0_f6bb6_27c5c079_orig.gif"/>
          <p:cNvPicPr/>
          <p:nvPr/>
        </p:nvPicPr>
        <p:blipFill>
          <a:blip r:embed="rId1"/>
          <a:stretch/>
        </p:blipFill>
        <p:spPr>
          <a:xfrm>
            <a:off x="5651640" y="5084640"/>
            <a:ext cx="3457440" cy="17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1T15:49:55Z</dcterms:created>
  <dc:creator>dziabenko  olga</dc:creator>
  <dc:description/>
  <dc:language>en-US</dc:language>
  <cp:lastModifiedBy>женя</cp:lastModifiedBy>
  <dcterms:modified xsi:type="dcterms:W3CDTF">2018-11-25T16:31:15Z</dcterms:modified>
  <cp:revision>126</cp:revision>
  <dc:subject/>
  <dc:title>PowerPoint Presentation</dc:title>
</cp:coreProperties>
</file>