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BFF8-E563-4C75-A8D3-500329DFB1C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74FF-6EB5-48BC-BE4E-AAB5BF197D7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6ADF-C966-4A47-BE50-957AA0F2FD8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57CA-64A0-4884-ABBC-37B03CDAEF3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82A3-AFC1-4E2D-B616-DD5BE837E2E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5EDB-E49C-4D39-A85A-ABBC73D31CA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1E79F-019F-4681-A268-22B1CFEF3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FA2AF-48AA-430B-99E9-F515FC34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4097B-A34B-4E5F-9425-7B56EEEF7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6940B-79E9-44DB-ADD7-B6BA37A8F1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06199-9221-459E-853C-F6BCBF88A0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C276E-0EB6-4AA8-B634-0114B9D7D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4AA3E-CE0B-4052-97EB-82369792C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85B59-7B4E-4C2D-A928-605307A29F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9949A-8DE8-498C-AAB4-B08739D85D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875F0E-5786-4FB7-A028-31112EAC0A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7A0B76-EE28-486F-87D5-C1C86C1D37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602F06-7AC9-4D02-B42A-B22E2EEE9B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B15E2-CBA6-4D4C-AF27-4B9F26496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555D71-1BC4-4A76-9ABD-A000F92306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363C7-BB47-4D13-9995-608B01D2C9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52AA36-554A-4EBC-867A-0CB3E4AA81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F2DE9B-699C-4CB2-B0D5-873438C586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4E4E57-3DB6-4C34-A68A-C4F38ECA3E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A88424-9EEB-4BB5-88F5-5BDFDDDC28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5C0131-3F20-4AEA-BE0D-B5AE728B09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909F18-C112-45E3-8258-3EF788E7D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0E9491-D7EF-4F35-BEA9-952B95C92B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D053E7-CCE8-4523-B02C-5AEB34094E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C6170-C4AB-4357-80AB-8955BFE6B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978494-75F1-46EF-ABA5-9607388D49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0BF797-DCFF-4418-A739-9729BF3E06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78F000-AF86-46E6-8A94-96744D630C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D76845-ABFD-423A-9F77-F5A0069F15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7E5271-628E-4AC9-B474-FFAC3E060D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E68ECE-6F7B-46D9-84C2-E5229B16AE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C17E21-9B2F-4DE2-9405-9A4DC2CC7E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935093-40DF-4FE7-9992-6247EE7685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4FFBA8-0E6B-47E5-B604-A1A56E3E5D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83691D-E3F8-401C-B114-D33F32F6CA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124DE-D63F-4359-A9F6-2F37331E5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8D08D0-B81A-4E25-AB93-F4D5792C18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D90ED2-2F72-42B0-A155-DEEBCAD387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89CCDE-16D9-4653-950B-5B36CB07BF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D7C8D7-3365-4B1E-9C8C-8A953B9607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ABD248-514A-4A96-9A70-029008A5CB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0D70F7-EDCC-4347-A895-2744664601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541027-609A-4E4D-80B4-70FF30EFFF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6D8656-AA89-427A-AF18-E257BB81E3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21AAD7-FEE8-47D1-AAF7-169AAEEA87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A6537F-A2F8-41AF-9497-C1DE46697A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3CCFC-D492-4FCE-8A54-C28312BEA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CC5523-286A-45C3-AFCE-C034733385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9DD51-2499-4599-B305-C2028C08C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8C21F0-1429-4AE5-9A3D-BC3C9C0656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BFCADE-DE99-4B98-AF27-69F57DD83A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970610-09F1-4E3A-B66E-186264F7FE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09728-2C33-40BC-BBF1-76A773C16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FC0EF-CA13-45CE-B56D-9935A75ED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CAAD4-1462-472D-9BE9-362B5488D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C31BC-B4CA-42B5-8AB7-5BD87376F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5751F-1033-474F-A39C-DA641E6CC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A8CA-FB61-4FD2-B061-4C67224F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EC534-4E8E-47B7-A45C-68476580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1C9E7-0D21-4A07-BBC9-2F70A1C5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0EB23-85CA-4B80-9048-DF6CFD115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375EA-9F61-4FC0-B4BE-2A68AC95E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58188-7D7F-405C-B14E-9051D2E7D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92698-456B-4732-B6D3-6B287E3FBB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484D1-4EB5-4F36-BD67-477F07915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48504-7503-473C-9791-67A8EE7B4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29D2-F67D-433F-9766-3DF299E95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87A4D-0975-4F06-83D8-BFC9DC12E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7740B-8ABA-4BEA-B6FF-359A672A9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05FE9-8611-4142-B17B-4692F4D7C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72FCD-1A2B-43B9-A317-0D9855D6B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09016-4F60-4525-B8B5-49180CEA0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4F5D6-A2C8-46AF-B404-1C4B74EC3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68E4C-2BCE-4F1B-97E6-179C01557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17312-C3AE-4572-9BBE-FA863C6A7A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74F3F9-7399-4B71-B792-544F34892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3BDCF-74B8-482B-9657-7F717D929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C1E5F-704F-4155-966B-C66DB13C9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F9A31-34DF-453D-A323-E2B1651DC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8FE07-6259-4311-9531-C4FE94BE0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A8ECA-114A-4103-BF11-A25EC8C7A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44CF4-D3B3-4C9D-929C-F6BD0CE6A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2EB45-ED24-4239-AC5D-8B679FFEF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FA1B9-DC2A-4512-AF87-7B4343567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73A28-3F4B-4983-95F7-C18D1A0A3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23414-3156-45A9-9077-C7BB0402C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5F3D5-30D3-4840-A502-33289CB30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E223B-5451-4F0C-80F8-A9C8EFA924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15549C-624A-4E80-8D38-7704423C9F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9EE310-6E39-4AA4-81A3-B9B9086DF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939D-96D6-488B-A91C-D58B26E8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C1D49-6B49-4225-9D41-2C8196664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A3DD1-6473-4A74-BC8E-970384F71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53F20-0E44-4A18-B317-D22761431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C414A-F92C-4506-BF05-FD60D3364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DA01BF-4F42-406C-ADDF-E3798AEC3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CD995-7FD5-43AC-862D-4115BD8B8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F5A98-4F0A-444C-9637-0C585F261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88D0C-9762-4565-86EA-743B1FF5D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53B21-916B-4797-8D4A-E49B2625C9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857498-684A-488F-ACC2-53F1EB52CE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5116-4039-489B-A5FE-55689853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83F81-8911-47C9-A660-6A421756D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02FB6-5AD4-4C47-96C5-F211B314F5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3878B-6F9B-49EE-BF90-951C31335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D9D83-DA8E-4457-A324-322D630308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A39BB-2A0C-4D21-9B6E-732E5FC06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CCDEE-F50D-460C-8918-66AFDC5E6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23A541-9172-4742-8858-F08965AC4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0BF68-DC6D-41C5-BAB8-045F11F7C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248BA-E7C2-47A4-BF5F-5185F8EA7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30FCF-2824-4823-95D3-7F04EFB55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E11F7-7737-4624-A826-7ADBDCB5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32B38-6E0E-4C45-ACEF-3BF8694DA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FF6A4B-B9DB-4905-B7C4-1B2EC8BCF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EE505F-4147-45E6-98E3-0C63AF3C1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1FC726-0465-4623-A385-2999A85F68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8E065-E939-4190-B78D-A0BB04104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5B295-3851-4E84-8703-4DF25B954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98F03-06FF-4EF8-89B1-7FF9E61CF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BF40C-FEFA-4E0C-9B34-CC1912C00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FA93D2-3D17-496B-9FF2-34B6B4B2BF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CFFBD-0B21-4171-82AC-8706F4CD4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C8BD-8770-4D26-B7AE-0D0AF5D89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7305F-F622-4397-BEF6-DD23D93D0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BD134-D748-474B-BDFE-9B817D3C9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37536-4CC2-4B7F-8C17-3D3726F7E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8A4847-E97C-43CA-AB00-52B38345F4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FB4A3A-38BF-467A-B429-EFD51AD2F5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4A91D5-76FE-468F-816D-EB2C385916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8DF09E-531E-4FB1-994B-506ABD5C4E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EB6A6-552B-45F1-909E-1DC3C3C60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7BF0D8-0016-42D2-999E-B24EAA52A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620C9-2A74-4302-9D98-CE325278F7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3176-A16C-4DE2-AB15-3316AED03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C90F6E-66FC-4446-B8B0-E8D48F0C3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7B48F-05BC-48D1-BD30-C4A1B244E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831B8-2C6A-4B84-845D-71F3FD60E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CD6457-377B-4AE6-B977-822C53112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6FD1D-94BE-4303-B2E9-50715F8747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FDC04E-74BD-48B3-BA28-ACD850FCDC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88209-12BD-445F-84DF-6784A125BA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D2C455-75A8-4502-B63B-EC8B710BD7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48471-3F74-4483-90EC-2870ED7BDE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0CA561-566A-4248-8D68-9E302A98B0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38F0-8905-4623-B9AA-627792FC8C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1648-86B5-460A-A413-990A1A505A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1B1F-0378-4F52-8801-0505EBFBE3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8F6F-9B48-4D59-8C23-CC075D08F4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44D7-35DE-472A-A4BE-7A440244D4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C353-B1E5-48CF-B221-E335DCB2C6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A8AC-B7E8-4AD5-A0CD-25FC695B3E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ADB7-9D44-493D-9255-E8A5FC91EF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E515-DBB8-4849-920D-C5658142FC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4B6F-A832-485E-ADD9-B4E1528C06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9A6D-7B16-4798-AFE7-E236069E93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169E-517D-4DAD-AB2C-7D6CDC594C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79280" y="5300640"/>
            <a:ext cx="2538360" cy="757440"/>
          </a:xfrm>
          <a:prstGeom prst="rect">
            <a:avLst/>
          </a:prstGeom>
          <a:ln w="0">
            <a:noFill/>
          </a:ln>
        </p:spPr>
      </p:pic>
      <p:pic>
        <p:nvPicPr>
          <p:cNvPr id="531" name="Рисунок 2" descr=""/>
          <p:cNvPicPr/>
          <p:nvPr/>
        </p:nvPicPr>
        <p:blipFill>
          <a:blip r:embed="rId3"/>
          <a:stretch/>
        </p:blipFill>
        <p:spPr>
          <a:xfrm>
            <a:off x="6691320" y="647640"/>
            <a:ext cx="2414520" cy="76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6"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7"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B0B2-8C73-4705-84EB-F8FCCD9679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1"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2"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1A89-4E85-4D31-8B27-1F7FEE2575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Дата 1"/>
          <p:cNvSpPr/>
          <p:nvPr/>
        </p:nvSpPr>
        <p:spPr>
          <a:xfrm>
            <a:off x="34920" y="6051600"/>
            <a:ext cx="62658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7"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4FC3-0F6A-43C0-B619-F07B84DF70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3"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4"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5"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7"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598"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3"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C19D-F0A7-430E-B9A8-BBF6AD102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6"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38"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3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0B64-318E-476A-85D9-25A8B7940230}"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0"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1"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3"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2E52-458B-4865-95C1-E4EFEE9DA5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6"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4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C1C0-2273-47A8-BA42-184A628F9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0"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8BCB-5464-4247-8A3B-0CC75F5E96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5"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6"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7"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58"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29B1-A24F-4CD8-9000-3D54FE548C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2"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3"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5"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A799-AB89-42C8-BD6F-E7FF297506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68"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0"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543B-B4E5-4E7E-8050-BC337ECD1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
            </a:r>
            <a:r>
              <a:rPr b="1" lang="uk-UA"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3"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31:15Z</dcterms:modified>
  <cp:revision>126</cp:revision>
  <dc:subject/>
  <dc:title>PowerPoint Presentation</dc:title>
</cp:coreProperties>
</file>