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BCAD-8716-4D4B-BE7A-CBDB5038931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22F12-9978-4C6F-9C3E-5DB8412EE8B7}"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4D4B-6B02-44AB-93D5-D962E0E9DC80}"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6146-C04A-47F4-90E6-37E848CF811A}"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646E5-65CE-4221-B863-672C08381C73}"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E1DC-C3CB-4A54-AB78-CE3B091DB63E}"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8E32D-1F3C-4009-A77F-7305A6A3A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9F7DA-8C0B-4C79-BFA7-4E1411933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CA1BEB-4436-4937-9759-BFF3D45CD7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8E8817-A620-4ACD-9B5D-4B5A49CF52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11B6FF-6CC3-4FC0-971C-8C605BFB15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2A4BC0-ABA0-4AD3-9D32-12AE94F911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4A2C6B-AECF-4B9F-A737-3F1FD0ADCF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50FC00-FDB9-4C8B-B3B3-D661FDC99F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3D9AA4-BD20-4D87-A5EF-B53B904A52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89762D-083A-4418-ACDA-9C070406D4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C3FD5E-077C-48A8-BFAA-B59537124B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30D0524-FC55-45D0-AD7E-592E9C7C80E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AA91D-69D6-455D-90F0-29EB233CC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627BB6-9F1E-4213-9C6D-FC4778B330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49A4F8-C701-4AC4-AD90-531028146D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47C10C-5AAF-4D51-9797-39844F976B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4E8185-F33A-4CBF-8DF0-6A78146081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2AF256-E9F0-4CE1-BBA6-EC7ED7E834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7CD154-0CA8-421D-BF76-DE9323D65A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485045-3E2E-4DAF-B75E-A80D025666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F2F9C2-BB0F-46E0-A374-4D07E32A6E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34BC2B-2B3B-4011-89E0-E3C701B040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77452D5-B373-4FA3-86AC-079C595AC4E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6ADF9-0B2A-4926-8F09-AB23C3736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6EA9922-6B62-4DB8-84D7-867CE77C6BD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C66439D-1E51-491F-A182-6003BCADB6A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391890-C848-48B2-A8C5-68ECCE9D16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797BCF-235C-4C81-92D2-54A50C6E6B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29B5B5-F8B2-43C4-843C-787B9BEBEC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6BB4C8-F75C-49F9-BDCB-3A3061F28E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FC09BA-A475-4E1A-8B6C-DA71E0AA54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13D370-3A2B-431E-8CBA-A4CE553174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A397ED-C4FD-4A17-B494-C2E467A6EB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0B869F-2C10-46EB-9097-99E724415F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C5C74C-1104-4E27-AF7F-4170B68186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6CF64F-8C7B-4B61-8766-3B26FA31FD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F7EF213-6CBA-4727-B726-9BB44728D45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4546EF8-2028-41C0-99E2-143D1F8E681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372898A-3209-4877-9912-A5372A09889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1A4AE4-0241-442E-9590-B1A21B8A8D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824BC8-F93D-4EF8-BE03-24648750002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2DCEA6-804B-4E0E-B7AB-9902800B49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9246A34-D547-49C4-8001-998F7B790D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EF3785-40FE-4A23-92A9-1E430FBAA0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5D80F7-3C72-42D5-8922-7C458B4255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86DC5-A863-4E87-BE56-2C7BC2D7E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81C9F6-E50D-4CF6-9B04-5807A513ED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4FC2F2-ACD8-46CC-B999-61F074EF50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FC72DB-C64B-4AB1-AF56-F4E83B5F64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22392FB-3F37-44F0-B487-4F1CF35D59C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39A0BF1-81CE-433E-B5D0-5ADCB6266A1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16346-0BF5-44BA-8AC7-0226490B5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02A31-5918-44B9-A6BC-0852ADD02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4F9E4-566F-4D29-AA3E-2D00E5DE6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AE912-BD42-4727-8705-87FFD2B55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43717-AABC-4E33-93FB-73DB2509D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E41BD-A99C-4C0F-A391-DFC83AFC3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AA733-1124-4E2C-8C70-D5F8381CE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D9E2F-4053-4833-8651-CC5A2F9EF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4DBEA-2D58-444B-9210-F2BA1A511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4A711F-0AC1-42A0-8238-631C4F35DE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00C08-0DEA-4664-9643-C1E0A018A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A4D1FA-242A-4796-A0FF-782109B563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C5DBD7-7953-4F15-AFF2-9BD4FC826B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458678-100D-4B02-82DA-D742D17F98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4DB86D-D400-4165-A1E7-2578325487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F535AA-78E9-4201-B0F5-6FDFE1DD9B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1C829-A46A-430E-8A94-58A663692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B0D5BF-B0D4-4FE0-A443-C1E085840B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02D2D0-98C1-44CC-8CCE-3D87C0CC73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DB096-326B-4E63-B2A0-91D11B6276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2D5D13-7D35-4EA7-B620-6CBA272922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445AD0-5768-4186-BE48-5AF285F354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E78AFC-F3C6-496B-9E2E-51C31CB9F7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84B1A3-FBC9-43B7-A7EB-F49445178F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87E047-6209-4697-9F5D-410FE8820F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74870B-8EC9-4FD6-8AAA-96D2DE6C16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55D0D2-C3F4-4548-81C1-00B6CEFE86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EAAC3-3716-4323-A424-E71A789BC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35F8D6-B1DC-41E2-99C4-4933F33ED3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301BC3-950E-4B68-8F75-5D54442A9D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296233-21EA-4818-8D11-AC00F1783C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31475A-26AD-4C4E-9951-10B01E14F7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4BA432-F504-4F54-AFCE-163F46749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E530F3-F0CD-4B80-86B2-BCEDE0A612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48CA10-EBBA-4CA9-B92D-3882FC488E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01D473-08B6-4258-8DA5-D9BB4F1D27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DCD6FF-A85D-4471-A872-A3E30ECD38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790954-203A-41E3-9965-B92FCE407E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C5B08-E5DE-4585-9456-E0B1E5840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50C200-5A9D-4998-891E-8984FC93A6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C06D2F-A19B-4073-8DE1-0C495C2A87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6435B6-FD54-4041-B613-259D644169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80A579-1C3B-4AE0-9431-2E5BB77F08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A16935-8BFF-4839-8572-5EF0F2344A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1C6DDE-59DB-4A0C-8E47-CCA5DDB1AE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B74511-3E75-4F2D-A001-95D5DFBC97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145C35-7043-4539-87AE-4EA5DCA3F8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2765F0-B754-45F9-A361-4236D33703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59DD92-0C8A-4F19-90C6-04603BE1AF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665FC-6F45-40C1-BF3E-504184B6A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49C128-78B1-453D-82E3-C7B7261C37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A022CC-5975-482E-BFB4-DD212E1FE2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F1EDEA-050E-45C8-934A-A499AD604F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C163D0-D125-4B75-A465-46A6E75EA4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52A587-8AC5-4D13-A100-02636DB8D3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606468-A8F6-4473-BE4C-B1F30FAEE2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4EF81F-A747-45FF-B5DF-912325877D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84688D-B3A7-4D6F-9209-AAE043F1CE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6354DE-E35D-402A-BA27-02F7BCD652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383D1B-E682-4645-8464-EFBD631B95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80C1E-E242-4B2D-A92C-BDEF5E3E0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ACC707-7B25-47F7-8975-66FE8F63FC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3B2617-1954-4A2D-B68F-B5CF028B5B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A64FBD-2C78-4B99-B269-856CED7114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A5B200-7259-4D0F-A55C-056DBE3879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B8CEB4-615C-4795-91F2-36BB65A4B3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2EF775-DF7F-407B-A58B-5E83AED083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DC7955-51D4-472A-90B9-313955CACA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389466-5B46-400A-875C-434733B9E7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700FEC-DBD2-49A9-AD51-21C3491DC5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0E5546-98D6-412B-A37D-E7F4846906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08567-67FE-4AAC-8040-96CFCAF19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79B69C-A7E9-488D-AC68-635B2A11EF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380333-0506-4DAF-87F6-76F30D46AD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79D9A7-C0C5-48A1-9916-19113D38CB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AF37B2-55CA-4AFB-8721-2A57370492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5E4B47-E90C-4FC5-B61D-53E724681F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CC4E8C-752B-4566-9769-7C9723742E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32D483-8B5B-4550-98DF-1900602772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5DB490-9CAC-4ACD-A3F2-19AA9B0FBF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95D3F2-3D7C-413E-98AF-C9339FA1C4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EFC85D-A2E8-493D-A4E7-C89BF4A891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EED4F-EE2C-4A02-A490-CD7E0C8CD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3D81F5-733B-4098-A8D5-2FC0F117F3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3903C9-C6C4-4921-BE50-BC796507DB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119DCB-32C3-4F14-9844-4B68DB1432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DEEC2C-5D95-4B77-8EC9-49177FA10B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87ECBB-269B-433C-9AD0-DDFEFD8C8E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F27474-4F83-489C-8162-AFE1365637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1152E3-A16B-47B8-88A5-6023FDF869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17B333-0C41-453F-9101-57568159BF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DCCD5F-FAE1-42CF-AA50-9D9E45EC5E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4C04A2-1668-4880-8C7F-C13B6B7908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75D1F-0B41-4FBD-A4B0-3CA68F3638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BA306-5268-43C2-B83D-2C437E156D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A540-53A1-48C8-B89B-62E651795CA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31E8-9CB6-48A9-93E9-4B1EFF6FDD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A6F83-9865-4720-AFCA-8AFB4371B2F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7B6C-4EFA-44CE-98ED-E02F67CF77E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D9A2-4904-4219-8197-553BF0A947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01ED-7D6A-43B3-A8F5-5041B629C2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02A87-9DFA-453B-B9E7-04126F5547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C11C-2AB8-4580-AE00-774D820B3CA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36A6-6D62-4CFA-86DE-B3CB85C713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F25AB-F2BF-4CE1-A076-365E40388C7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69920" y="5084640"/>
            <a:ext cx="2538360" cy="757440"/>
          </a:xfrm>
          <a:prstGeom prst="rect">
            <a:avLst/>
          </a:prstGeom>
          <a:ln w="0">
            <a:noFill/>
          </a:ln>
        </p:spPr>
      </p:pic>
      <p:pic>
        <p:nvPicPr>
          <p:cNvPr id="531" name="Рисунок 3" descr="Disclaimer"/>
          <p:cNvPicPr/>
          <p:nvPr/>
        </p:nvPicPr>
        <p:blipFill>
          <a:blip r:embed="rId3"/>
          <a:stretch/>
        </p:blipFill>
        <p:spPr>
          <a:xfrm>
            <a:off x="6764400" y="600120"/>
            <a:ext cx="2247840" cy="714240"/>
          </a:xfrm>
          <a:prstGeom prst="rect">
            <a:avLst/>
          </a:prstGeom>
          <a:ln w="0">
            <a:noFill/>
          </a:ln>
        </p:spPr>
      </p:pic>
      <p:sp>
        <p:nvSpPr>
          <p:cNvPr id="53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13"/>
          <p:cNvSpPr/>
          <p:nvPr/>
        </p:nvSpPr>
        <p:spPr>
          <a:xfrm>
            <a:off x="2652840" y="1041120"/>
            <a:ext cx="3838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8"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9"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371D-9008-4F3D-B371-E3FBF6A91D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3"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4"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BB9C-8ABE-4808-8B10-CCA1F84A40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7" name="Дата 1"/>
          <p:cNvSpPr/>
          <p:nvPr/>
        </p:nvSpPr>
        <p:spPr>
          <a:xfrm>
            <a:off x="34920" y="6093000"/>
            <a:ext cx="6265800" cy="54576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8"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9"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21615-D2DA-4A11-9DB5-D2DB37644D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2"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3"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5"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6"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7"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9"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4"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9"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5"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4E9D3-53A8-4738-A0C7-0C9E4DAB94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8"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40"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4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E53A7-B050-4203-BD2B-133F1C23DDB7}"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2"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3"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5"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E59D7-29B2-416E-B2F5-4A77B14052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8"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5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7D43-726C-40DE-8614-1AC30E62CF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1" name="Дата 1"/>
          <p:cNvSpPr/>
          <p:nvPr/>
        </p:nvSpPr>
        <p:spPr>
          <a:xfrm>
            <a:off x="-36360" y="6093000"/>
            <a:ext cx="9144000" cy="54576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2"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003AE-405E-40A2-B492-7275626A21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8"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9"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60"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503FE-A272-4551-B8B5-DDB1502AEF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4"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5"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7"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9AF1-45B1-4FD6-9F75-7956648642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0"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2"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9BCA3-9DEA-4CF8-9652-B10BB9902E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4"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5"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49:03Z</dcterms:modified>
  <cp:revision>127</cp:revision>
  <dc:subject/>
  <dc:title>PowerPoint Presentation</dc:title>
</cp:coreProperties>
</file>