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DB68-6F2C-4603-BEE4-91D35623469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2BDC-464D-47CA-BC0F-62B285996E13}"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2F6F-4BD3-4FC8-8614-6280ADB2A1FD}"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E9253-353F-4A7D-974D-ED00B0C56BB0}"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216DD-BDEC-4430-ACAE-84BD26D80335}"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26DA-A46D-4FDD-B4C0-4A33B65B9FEF}"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6F421-6C4A-49E2-AC57-95ED2C82D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763B3-3373-4082-8B70-C7949EC25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6E2A89-2A70-4D8F-AA3D-5991DCD9B4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6B461F-A36E-4419-BFDA-FC6B223AAB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C15573-B033-4307-8AE3-EA266240C0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E63D21-2D73-45F5-944A-E809DE4E97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170560-A41C-4979-AAB7-BE9FF8E6EF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120946-1450-425A-B2F8-322B912692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19ADCC-0590-4403-8CBE-B67BBE2B63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01F7B5-3E24-480B-83C3-24915485E3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2A62B0-84F4-4F0E-878A-C0E13612B2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C3BF685-E762-4225-B37B-FE7E78F0EDE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7D845-96D7-4996-AF80-AD39FA9F8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2A3470-0343-4003-BE21-88A3445434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B8B2A5-9552-42ED-9A53-096E4BC825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3D7B7E-DA48-4FEB-9E9C-BAA20AD9C0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658941-C497-45DC-92B3-75BC1DB29A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E3E9CF-A9EC-4439-9863-527A24E7E0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F37822-4C98-4002-94A3-EA89D377DF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79FC84-22B7-4A4C-A608-FE5A18CCA3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E71104-1B5C-48A4-AD7C-5FE5929292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1AA427-273B-413C-B455-9A3FD16E09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09D1C4C-FAD4-4F4E-BC52-618FDC4E5E6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499AA-67A3-431D-9AD9-57F2103DC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F51B71C-36EC-4F79-81CD-1ADE4DC4519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553CAA7-8843-4E6A-B1DE-EF66BBC02DD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56161C-90B6-4FB9-BB4D-AF5C775612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E96A07-70DD-4008-84C9-B69764D902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058218-6108-4512-8FCA-595051E08F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CCCC36-4C1E-46DE-87D0-F3E91F1315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25A73E-B353-42BA-AB09-3099F0C899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ADAB36-0632-4398-ADEB-A1ACAEE4F6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7F28FA-87C0-456A-A3DD-765B2B4404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5F57D4-F0D1-4EF1-BA71-AE005AC081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0794AD-89EF-4BC9-987F-5B8D8983DE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24B0B4-9890-493E-871F-40D43E6461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FA29199-DA76-42AD-A6E9-F61BD8F6232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5F1AF28-6562-4DD5-B999-1C6E02FADFB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57FD04F-0D82-4276-AC9E-F93DF7E065C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A2BA89-8FF1-4458-A3E1-474C6790DE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1EE67E-506F-4A4F-8404-8EE37BA88D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6047D5-A276-45D1-BEB4-C082F7DF30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155900-F218-4E95-81BE-31D92F0710C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AC5C03-5D98-4A06-B5CD-EC3F06FBA1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3F707D-6C53-4B1D-940F-9E292AE818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04FF2-400B-44F6-9150-933B9B266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D44A37-D0F5-4CE0-927A-89781E29CC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A5D56B-6801-4D83-BE63-44E2C38D07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54B253-2FAE-424F-BFF8-2BC1BE9604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8866F85-DB85-4401-BF14-53DB469AB7A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631184E-5ACE-4454-9480-BABA1D9A04D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744C8-94EB-4B77-8098-BA0B2E5CC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27F02-6A29-48EB-B89D-7864FD324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A4455-9EA9-4EE8-9315-A481A836A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918D5-C7B2-41C5-A7E5-EF25D2929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82F89-DEEF-4334-892D-37F604DE8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04C92-1EB0-475B-9353-F7F10BE3B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7434D-3885-4E82-A329-2339BD77D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B00E3-08D7-47C5-9E8C-04ADFF111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479AC-ECC7-496E-A239-84F0A4D03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3B4067-0B9B-4B2F-BD30-D96617E9E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28345-272B-4678-A39D-DA690768B7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F8E338-48E1-49C6-915B-B874EFD813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CD16AB-C8B6-4A11-8208-0258ED8A5E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8D3D3D-E28E-4D67-BCC1-C0F0C286A1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5B0CE4-8731-4261-BA57-92A943C41A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14AFE9-6AA3-49CB-A55C-D0D349E5FD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5A2F5-62C4-4379-AC74-40C030ACF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2C59B6-566A-40E4-B235-78E2F5897E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AD656D-6B3D-4C40-9876-60C3F1FC36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C5061D-C32D-48A4-9A89-C79E8BFF0C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A934AA-FDF7-43B7-824A-6BF60A33EB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2962CE-683F-453F-9D80-F9D40C36DF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6B8AE7-0E7C-403E-A385-6EF9198AA9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6AEB68-A23C-4862-877A-3E0E4BFB26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71BDCA-FCE6-49F9-AA02-3EF406ECF7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15263B-FF5B-4B5E-B60B-5401E22A61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850538-2A82-4F77-8979-6603649B3E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B265F-502F-49CD-B389-51B2D1F60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D37663-4523-4048-80C7-01A8FC6697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16DEB7-4B02-48A7-B128-BD430EFF77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844CE6-9FAF-4267-9349-EEE798C672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10C192-5107-4CFC-A5F5-234C0AD7D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0CC3ED-BA3A-4F62-AD74-D249FD341A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34D13C-F61A-4AA2-A88F-337E0462CB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44C8D0-B742-480A-BA92-B9C72D6D05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73958D-9066-4643-AEB7-5E30D45C96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DC3812-D507-474E-877B-6B2269F70F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EA99F9-C844-4628-9E25-4DE5534ED9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DFB29-B72E-4611-BB0E-765E89F9B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F4EB9E-2DB5-4254-A6F0-C57A1D42FC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6B5FD6-59FF-4B19-8622-6308074420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19F785-3B36-4B5A-8706-9F9E384C96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FBDF27-3B2D-46FD-B408-B7DFC7CC40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EBC1B9-E08B-45E2-B11D-EB82A4A31D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C69235-1E98-4D59-9C0D-91C00B4951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1A4B33-33E9-45EE-90CE-E13F6EE6B0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0F512C-6C23-4179-A2B0-20AF493ADE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028726-66FF-4475-B44F-112E622123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4A34DF-6A48-4DFC-A265-CACD3F84FC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B95C2-B8B6-429B-A0A0-43A9A7087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40BBDB-4063-4A87-BBEC-C5B34B90E5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5A0E41-01C4-49D8-8E99-A47357B85A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AD67B0-4CC5-4563-976C-3B7D7B4283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4FD7C5-0FD0-4B9F-A8CD-66A998B403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6616DA-DF26-4184-A7A0-AAE968162F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399959-F73D-4DD5-8119-6CAFC6DD8F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448401-A184-4FF3-BCBD-0B72E3EA37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30FAC3-6CB1-4294-8049-017CD5BBD1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730D89-61D3-4385-B12C-2653A28BFD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1F9C77-2488-4F2E-9976-D563D58BDA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00DBA-8B58-4EC1-8344-32B5CCE8E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138F56-A81C-4B96-BB84-FBE26159C4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B858F9-5AD1-4A30-A321-B12E887CF4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19CFF3-0243-4246-9DC2-77760EABDA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9B81BA-FB19-4244-8C5E-415F7A183C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BAC273-2102-4720-8790-D39B4508EA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F275CD-C44C-4DD6-B9F3-484DBA508C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403A15-6EE2-4921-BABA-F66FED3E3A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2CBDEC-B74B-4C85-90C9-95B9AD5193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C8FA99-4BDF-4640-A2D7-9E546B4CF7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97C772-8D5F-4420-9F35-A295D395A4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8AB84-C012-4102-A8F7-C7A3E604F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0B89F7-5BE1-49D1-8BC4-1D043FEC69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DEAD8F-3392-49F4-BB02-3ABD665894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F30900-EAA2-4AFA-B544-F9853B1C9C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5CAB46-3AF6-4CCC-A0E0-6640A6C5E0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298CCE-D9FB-4E4F-94DC-0F8FDD8F8C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55A9CC-5F7E-4592-838A-2EF9932711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F5E4C9-EB6E-4DA1-800F-D24F441F25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ADC62E-2991-4CBC-AB85-5B0F44EF3A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670346-DC58-4DAB-BBA8-8E4AB011BE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9642CF-1EA6-4F0D-961E-F13959F158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F4AF7-595B-45B1-846E-01D43C535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DF18B6-D5A9-423C-BDAF-643E8BF833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EB280C-264E-4F53-ABF7-B7DCDAB70E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A1C3DD-F63A-4AF9-BF97-4E4F60B115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859DAB-7B14-40EE-82BB-6AFDD85E09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A03885-5687-4EFE-B81F-C6E8617D29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71623A-B90B-4523-B282-EAABDEA1EE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607236-6121-4FE8-970D-560CACD4D4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8FD089-551E-40E0-B6B7-2D804CEB9A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2B5600-D619-4DA6-80C5-E79AA98477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9909CB-68EF-498B-908D-6CF0AF25B96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470A-03D1-471F-9F91-407D6A00F8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466E8-2724-47B7-A0B4-5BA706F527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682C0-F089-4A02-B1B9-284CBCDD47D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C455-A1A8-49B1-9707-426B69FA5FF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77B6-0B0C-4CEA-9048-5A7A1AD39A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2FD6-2415-442B-BC9A-381D9D51A7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896D-E1A6-4028-890D-40999C22B1C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D8717-FCC5-4DCB-9CDF-DD5764FC25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57CC-DE44-49A8-B443-57D3B8F226B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72EE-F881-47FD-9DD9-228CA6BE41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A123-A8E3-4D28-8660-C6DB2F55327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C6CC-6798-480C-83C0-7DE81ED111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69920" y="5084640"/>
            <a:ext cx="2538360" cy="757440"/>
          </a:xfrm>
          <a:prstGeom prst="rect">
            <a:avLst/>
          </a:prstGeom>
          <a:ln w="0">
            <a:noFill/>
          </a:ln>
        </p:spPr>
      </p:pic>
      <p:pic>
        <p:nvPicPr>
          <p:cNvPr id="531" name="Рисунок 3" descr="Disclaimer"/>
          <p:cNvPicPr/>
          <p:nvPr/>
        </p:nvPicPr>
        <p:blipFill>
          <a:blip r:embed="rId3"/>
          <a:stretch/>
        </p:blipFill>
        <p:spPr>
          <a:xfrm>
            <a:off x="6764400" y="600120"/>
            <a:ext cx="2247840" cy="714240"/>
          </a:xfrm>
          <a:prstGeom prst="rect">
            <a:avLst/>
          </a:prstGeom>
          <a:ln w="0">
            <a:noFill/>
          </a:ln>
        </p:spPr>
      </p:pic>
      <p:sp>
        <p:nvSpPr>
          <p:cNvPr id="53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13"/>
          <p:cNvSpPr/>
          <p:nvPr/>
        </p:nvSpPr>
        <p:spPr>
          <a:xfrm>
            <a:off x="2652840" y="1041120"/>
            <a:ext cx="3838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8"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9"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8FF15-0818-4A18-8544-77072A86CE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3"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4"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CD40-C54F-4114-AFBB-F05E5453B1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7" name="Дата 1"/>
          <p:cNvSpPr/>
          <p:nvPr/>
        </p:nvSpPr>
        <p:spPr>
          <a:xfrm>
            <a:off x="34920" y="6093000"/>
            <a:ext cx="6265800" cy="54576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8"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9"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208E-3413-42A5-8B5B-646F8B7E7F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2"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3"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5"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6"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7"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9"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4"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9"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5"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0EEC-4E4B-48BD-9B8C-2518FD6E97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8"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40"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4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BC182-C490-4DBC-A314-61A2359A152F}"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2"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3"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5"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9F8C-C4DB-4D45-9242-F77E2794FA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8"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5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4425C-AB82-4A75-A257-82E065D370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1" name="Дата 1"/>
          <p:cNvSpPr/>
          <p:nvPr/>
        </p:nvSpPr>
        <p:spPr>
          <a:xfrm>
            <a:off x="-36360" y="6093000"/>
            <a:ext cx="9144000" cy="54576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2"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525A-61D2-47AF-BA39-460AFCA1EE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8"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9"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60"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077C-A600-4875-A6CD-F6B7F30DA7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4"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5"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7"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CA608-6302-4E33-BBE0-19E04A0422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0"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2"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0CF4B-3429-455F-A9DC-A0E38809F0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4"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5"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49:03Z</dcterms:modified>
  <cp:revision>127</cp:revision>
  <dc:subject/>
  <dc:title>PowerPoint Presentation</dc:title>
</cp:coreProperties>
</file>