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78656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F26B-AEE8-4885-AA0D-8AAF87FC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E508-E632-40A8-BAA3-8B7392DE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7F38-0A72-408B-B858-F3CEA181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888A-20B6-4E94-BEFB-1357CDBD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8B22-011A-4496-AA0B-D60BCBD2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7EAB-DF51-425D-A305-5399B8CD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5D3D-CFB5-4187-9759-84DF9EF0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E78C-D4C7-4286-8E0A-D10A51A9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3DA1-CFDF-405E-B0D9-62E55FF2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CFD6-BB97-4A60-8596-E348DD86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6BFF-D5F1-42FA-8204-F12D8A29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EA95-2914-4453-A42D-56278630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87B5-ED4C-4961-8046-5AA06B98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2E08-8CC7-4C85-97EA-96A03119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84CE-16BD-463E-8D01-7FDFD876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FF51-D699-4ACF-B22A-9A6E227F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10FA-7049-4DB3-9735-DD9BBF87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7C51-CAC1-4E62-B293-00E3E36F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F35D-DAD6-4E23-8907-3C15A6FB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6E7D-7C40-42A7-B22E-413DE1BD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36C2-2AF2-4E58-BF70-79B5CCAB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546D-38B4-477F-9098-363AB670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B8FB-EB4D-4E6B-BC79-F2704F7C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D205-7683-4FF4-838E-4F6103A2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ab"/>
            </a:gs>
            <a:gs pos="100000">
              <a:srgbClr val="dddcc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prstGeom prst="pie">
                  <a:avLst/>
                </a:pr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prstGeom prst="pie">
                    <a:avLst/>
                  </a:pr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prstGeom prst="pie">
                    <a:avLst/>
                  </a:pr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prstGeom prst="pie">
                    <a:avLst/>
                  </a:pr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prstGeom prst="pie">
                      <a:avLst/>
                    </a:pr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prstGeom prst="pie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prstGeom prst="pie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prstGeom prst="pi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prstGeom prst="pi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prstGeom prst="pi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B7B0-DC2A-4CB2-B77F-AEED2C67A02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ab"/>
            </a:gs>
            <a:gs pos="100000">
              <a:srgbClr val="dddcc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prstGeom prst="pie">
                  <a:avLst/>
                </a:pr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prstGeom prst="pie">
                    <a:avLst/>
                  </a:pr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prstGeom prst="pie">
                    <a:avLst/>
                  </a:pr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prstGeom prst="pie">
                    <a:avLst/>
                  </a:pr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prstGeom prst="pie">
                      <a:avLst/>
                    </a:pr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prstGeom prst="pie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prstGeom prst="pie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70360" y="2359440"/>
                  <a:ext cx="31464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69000" y="2256840"/>
                  <a:ext cx="255960" cy="247680"/>
                </a:xfrm>
                <a:prstGeom prst="pi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52520" y="2246400"/>
                  <a:ext cx="183960" cy="17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5018040" y="2142720"/>
                  <a:ext cx="228960" cy="220680"/>
                </a:xfrm>
                <a:prstGeom prst="pi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prstGeom prst="pi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6627-AC2B-4F7B-A1F4-DE2AD3594D7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76360" y="609480"/>
            <a:ext cx="518148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700" spc="-1" strike="noStrike">
                <a:solidFill>
                  <a:srgbClr val="000000"/>
                </a:solidFill>
                <a:latin typeface="Arial"/>
              </a:rPr>
              <a:t>Тема: “Тестові технології як засіб вимірювання об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uk-UA" sz="4700" spc="-1" strike="noStrike">
                <a:solidFill>
                  <a:srgbClr val="000000"/>
                </a:solidFill>
                <a:latin typeface="Arial"/>
              </a:rPr>
              <a:t>єктивної  оцінки рівня навчальних досягнень”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6" descr="j0299125"/>
          <p:cNvPicPr/>
          <p:nvPr/>
        </p:nvPicPr>
        <p:blipFill>
          <a:blip r:embed="rId1"/>
          <a:stretch/>
        </p:blipFill>
        <p:spPr>
          <a:xfrm>
            <a:off x="990720" y="2209680"/>
            <a:ext cx="1936800" cy="3176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ідсумковий (або вихідний) контро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ередбачає оцінювання навчальних досягнень учнів за змістом певного навчального курс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вичною формою такого контролю є оцінки (бали), які учень отримав на іспитах або під час заключного тест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Як варіант підсумкового контролю – державна підсумкова атестаці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цедура атестації допускає використання різних форм і методів контролю, серед яких чільне місце належить теста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и відкривають нові можливості в процесі атестації, оскільки забезпечують необхідні властивості оцінювання: обґрунтованість, об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єктивність і можливість порівнянн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Метод вимірювання –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спосіб, за допомогою якого здійснюється надання кількісного значення показнику, який вимірюєть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Verdana"/>
              </a:rPr>
              <a:t>Тестологія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Verdana"/>
              </a:rPr>
              <a:t>як наука і практика тестування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Тестування як метод – процес вимірювання кількісних показників за допомогою тес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 – сукупність тестових завдань, підібраних за певними правилами для вимірювання певного кількісного показн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 – це інструмент, що складається з кваліметрично вивіреної системи тестових завдань, стандартизованої процедури проведення і заздалегідь спроектованої технології обробки і аналізу результатів, призначений для вимірювання якостей і властивостей особи, зміна яких можлива в процесі систематичного навч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 педагогічному вимірюванні властивостями, які вимірюються, є знання, вміння та навички учнів на момент виконання тес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Одиницею вимірювання є тестові завдання з дисципліни, що перевіряєтьс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О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єктом оцінки є учні, яких тестують, а результатом вимірювання – числовий показник на шкалі балі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Специфікація тесту дозволяє перевести опитування у площину о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єктивного ряду оцінок, завдяки чому тести дозволяють включити завдання на всі чи майже всі вимоги стандартів і тим самим підвищити обґрунтованість атестаційних оцін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Специфікація тесту повинна містити структуру та відсоткове співвідношення завдань у тесті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Тест – найбільш якісний і об`єктивний спосіб оцінюв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Об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єктивність тестування досягається шляхом стандартизації поцедури проведення і шляхом стандартизації й перевірки показників якості завдань і тесту в цілому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Застосування тестів орієнтовано на визначення рівня засвоєння ключових понять, тем і розділів навчальної програми, ступінь оволодіння уміннями, навичками тощо, а не констатацією наявності в учнів певної сукупності засвоєних знань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Стандартизована форма оцінки , що використовується в тестах досягнень, дозволяє співвіднести рівень досягнення учня з предмета в цілому або окремих його розділів із середнім рівнем досягнень учнів у класі, рівнями досягнень кожного з них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На відміну від традиційних методів атестації учнів тестування психологічно є більш м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яким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інструментом, оскільки всі учні перебувають у рівних умовах, використовуючи єдині критерії оцінки та процедуру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ласифікація тестів за принципом ієрархічної підпорядкованості ознак 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(за І.Була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4"/>
          <p:cNvSpPr/>
          <p:nvPr/>
        </p:nvSpPr>
        <p:spPr>
          <a:xfrm>
            <a:off x="304920" y="2438280"/>
            <a:ext cx="2514600" cy="99072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 визначення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що вимірює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5"/>
          <p:cNvSpPr/>
          <p:nvPr/>
        </p:nvSpPr>
        <p:spPr>
          <a:xfrm>
            <a:off x="3809880" y="2057400"/>
            <a:ext cx="2590920" cy="99072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 формо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ест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6"/>
          <p:cNvSpPr/>
          <p:nvPr/>
        </p:nvSpPr>
        <p:spPr>
          <a:xfrm>
            <a:off x="6324480" y="1828800"/>
            <a:ext cx="2514600" cy="99072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 психологічно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знак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7"/>
          <p:cNvSpPr/>
          <p:nvPr/>
        </p:nvSpPr>
        <p:spPr>
          <a:xfrm>
            <a:off x="6019920" y="3124080"/>
            <a:ext cx="2514600" cy="99072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 вид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нтро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8"/>
          <p:cNvSpPr/>
          <p:nvPr/>
        </p:nvSpPr>
        <p:spPr>
          <a:xfrm>
            <a:off x="304920" y="3429000"/>
            <a:ext cx="2514600" cy="99072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 мето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стос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9"/>
          <p:cNvSpPr/>
          <p:nvPr/>
        </p:nvSpPr>
        <p:spPr>
          <a:xfrm>
            <a:off x="3352680" y="3809880"/>
            <a:ext cx="2514600" cy="99072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ласифікаці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ес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0"/>
          <p:cNvSpPr/>
          <p:nvPr/>
        </p:nvSpPr>
        <p:spPr>
          <a:xfrm>
            <a:off x="6400800" y="4114800"/>
            <a:ext cx="2514600" cy="99072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 статус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провадж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1"/>
          <p:cNvSpPr/>
          <p:nvPr/>
        </p:nvSpPr>
        <p:spPr>
          <a:xfrm>
            <a:off x="762120" y="4419720"/>
            <a:ext cx="2514600" cy="99036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 рівн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ніфікова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2"/>
          <p:cNvSpPr/>
          <p:nvPr/>
        </p:nvSpPr>
        <p:spPr>
          <a:xfrm>
            <a:off x="3352680" y="5410080"/>
            <a:ext cx="2819520" cy="99072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 видом тестов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вд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3"/>
          <p:cNvSpPr/>
          <p:nvPr/>
        </p:nvSpPr>
        <p:spPr>
          <a:xfrm>
            <a:off x="304920" y="5410080"/>
            <a:ext cx="3047760" cy="121932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Щодо застосува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ехнічних засоб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4"/>
          <p:cNvSpPr/>
          <p:nvPr/>
        </p:nvSpPr>
        <p:spPr>
          <a:xfrm>
            <a:off x="6019920" y="5105520"/>
            <a:ext cx="3124080" cy="121896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 співвідношення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 нормами 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ритері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5"/>
          <p:cNvSpPr/>
          <p:nvPr/>
        </p:nvSpPr>
        <p:spPr>
          <a:xfrm>
            <a:off x="1676520" y="1600200"/>
            <a:ext cx="2514600" cy="99072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 однорідніст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естових завд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6"/>
          <p:cNvSpPr/>
          <p:nvPr/>
        </p:nvSpPr>
        <p:spPr>
          <a:xfrm>
            <a:off x="464832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7"/>
          <p:cNvSpPr/>
          <p:nvPr/>
        </p:nvSpPr>
        <p:spPr>
          <a:xfrm flipH="1">
            <a:off x="3048120" y="47242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8"/>
          <p:cNvSpPr/>
          <p:nvPr/>
        </p:nvSpPr>
        <p:spPr>
          <a:xfrm flipH="1">
            <a:off x="3123720" y="44956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9"/>
          <p:cNvSpPr/>
          <p:nvPr/>
        </p:nvSpPr>
        <p:spPr>
          <a:xfrm flipH="1" flipV="1">
            <a:off x="2819160" y="396216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30"/>
          <p:cNvSpPr/>
          <p:nvPr/>
        </p:nvSpPr>
        <p:spPr>
          <a:xfrm flipH="1" flipV="1">
            <a:off x="2666880" y="320004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31"/>
          <p:cNvSpPr/>
          <p:nvPr/>
        </p:nvSpPr>
        <p:spPr>
          <a:xfrm flipH="1" flipV="1">
            <a:off x="3352680" y="2590920"/>
            <a:ext cx="914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32"/>
          <p:cNvSpPr/>
          <p:nvPr/>
        </p:nvSpPr>
        <p:spPr>
          <a:xfrm flipV="1">
            <a:off x="4648320" y="3048120"/>
            <a:ext cx="152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33"/>
          <p:cNvSpPr/>
          <p:nvPr/>
        </p:nvSpPr>
        <p:spPr>
          <a:xfrm flipV="1">
            <a:off x="5257800" y="2666520"/>
            <a:ext cx="13716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4"/>
          <p:cNvSpPr/>
          <p:nvPr/>
        </p:nvSpPr>
        <p:spPr>
          <a:xfrm flipV="1">
            <a:off x="5715000" y="3885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5"/>
          <p:cNvSpPr/>
          <p:nvPr/>
        </p:nvSpPr>
        <p:spPr>
          <a:xfrm>
            <a:off x="5867280" y="441972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6"/>
          <p:cNvSpPr/>
          <p:nvPr/>
        </p:nvSpPr>
        <p:spPr>
          <a:xfrm>
            <a:off x="5562720" y="46483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асифікація за формою тестув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876920" y="3045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и для групового тестуванн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и для індивідуального тест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962160" y="3659040"/>
            <a:ext cx="472428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и спеціальних здібност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и характерологічні (особистісні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и на визначення окремих психічних функцій (па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яті, мислення, уваги тощ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457200" y="24382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асифікація за визначенням “що вимірюється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533520" y="3657600"/>
            <a:ext cx="3962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и знань та навич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и інтелек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и інтерес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асифікація за психологічною ознако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76680" indent="-33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Тести досягнень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76680" indent="-335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ести розвитку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76680" indent="-335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ести інтелекту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76680" indent="-335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ести загальної результативності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76680" indent="-335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ести успішності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76680" indent="-335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Соціальні тести, які вивчають професійну здатність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76680" indent="-33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Психометричні тести особистості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Мета та завдання заняття № 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Визначити поняття: педагогічний контроль, педагогічні вимірювання, засоби педагогічного контролю, тестові технології, тестування, тести, формати тестових завд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Розглянути форми контролю за якістю навчальних досягнень учнів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Познайомити з класифікацією тестів за принципом ієрархічної підпорядкованості ознак (за І. Булах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Висвітлити етапи конструювання педагогічного тесту, підходи до формування його змісту й умови досягнення високої якості тестів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Формувати теоретико-методологічну базу та стійке розуміння педагогічними працівниками науково-методичного підґрунтя впровадження тестових технологі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Оволодіння педагогічними працівниками сучасними методами оцінювання на основі тестуванн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ласифікація групових тестів, які використовуються в педагогіці для визначення навчальної успіш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ласифікаці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а метою застос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и констатуючі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и діагностуючі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и прогнозуючі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ласифікаці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а видом контрол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и вхідного контролю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и поточного або проміжного контролю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и заключного (вихідного) контрол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асифікація за рівнем уніфікованості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ести стандартизовані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ести не стандартизовані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Стандартизований тест – це комплексна характеристика, яка визначається властивостями тесту, процедурою вимірювання та процедурою оцінювання, а також чіткою регламентацією у вигляді інструкцій стосовно характеристик усіх категорій процесу вимірюван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ЗНО проводиться за допомогою стандартизованих тест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тандартизації тесту передує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Verdana"/>
              </a:rPr>
              <a:t>пілотне тестува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оно проводиться на репрезентативній вибірці з метою визначення параметрів тесту та уточнення процедури тестування і є обов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язковим етапом процесу стандартизації тест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Verdana"/>
              </a:rPr>
              <a:t>Репрезентативна вибірка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вибірка, що надає можливість отримання статистично вірогідних результаті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ривалість процесу стандартизації для загальнонаціональних тестів коливається від 5 до 10 рокі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асифікація за статусом впровадже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Загальнонаціональні тест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ести відомчі або міністерські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ести рівня навчального закладу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ести кафедральні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ести особисті або неформальні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асифікація за співвідношенням із нормами або критері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363760"/>
            <a:ext cx="822960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ести, орієнтовані на норму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ести, орієнтовані на групу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ести, орієнтовані на критері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Тести, орієнтовані на нор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Використовують стратегію “мета досягнута – мета не досягнута”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Дають можливість, порівнюючи результати з деякою нормою, застосовувати їх на заліках та інших випробуваннях, де приймаються рішення: зарахований – не зарахований, прийнятий – не прийнятий, тобто альтернативного характер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Тести, орієнтовані на критері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Тести, які визначають індивідуальні результати та передбачають оцінювання їх зв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язку з наперед встановленими критеріями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асифікація за видом тестового завд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ести з відкритими тестовими завданнями (завдання з відкритою відповіддю, мікро-есе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ести з напіввідкритими тестовими завданнями (з пропусками, на доповнення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ести із закритими тестовими завданнями (альтернативні та вибіркові тестовізавдання)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асифікація за однорідністю тестових завдань у тест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ести однорідні, тобто складаються з тестових завдань одного виду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ести неоднорідні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асифікація щодо застосування технічних засобі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Безмашинні тести: бланкові з ручною обробкою результатів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Бланкові тести з комп`ютерною обробкою результатів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Комп`ютерні тест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Якість осві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Парадигма сучасної освіти робить акцент не на процесі навчання, на його результаті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Якість освіти безпосередньо пов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язан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з системою оцінювання учня, учителя, навчального заклад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Чим о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єктивнішою буде оцінка, тим якіснішою стане освіт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едагогічний тест має три тісно п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язаних складові елемен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система завдань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документально зафіксована технологія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відпрацьована система перевірки, обробки та аналізу результаті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Зміст і конструювання тесту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(за М.Б. Челишковою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Визначення мети тестування, вибір виду тесту і підходу до його створенн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Аналіз змісту навчальної дисципліни (або певного розділу навчального курсу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Визначення структури тесту і стратегії розташування завдан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Розробка специфікації тесту, апріорний вибір довжини тесту і часу його виконанн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Створення тестових завдан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Зміст і конструювання тесту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(за М.Б. Челишковою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6. Відбір завдань в тест і їх ранжування згідно з вибраною стратегією пре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явлення на підставі апріорних авторських оцінок складності завдан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7. Експертиза змісту тестових завдань і тес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8. Експертиза форми тестових завдан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9. Переробка змісту і форми завдань за результатами експертиз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10. Розробка методики апробаційного тест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11. Розробка інструкцій для учнів і викладачів, які проводять апробацію тес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12. Проведення апробаційного тест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Зміст і конструювання тесту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(за М.Б. Челишковою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13. Збір емпіричних результаті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14. Статистична обробка результатів виконання тес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15. Інтерпретація результатів обробки в цілях поліпшення якості тесту. Перевірка відповідності характеристик тесту науково обґрунтованим критеріям якості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16. Корекція змісту і форми завдань на підставі даних попереднього етапу. Чистка тесту і додавання нових завдань для оптимізації параметра трудності і покращення системоутворюючих властивостей завдань тесту. Оптимізація довжини тесту і часу його виконання на підставі апостеріорних оцінок характеристик тесту. Оптимізація порядку розташування завдань в тесті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Зміст і конструювання тесту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(за М.Б. Челишковою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17. Повторення етапу апробації для виконання чергових кроків щодо підвищення якості тес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18. Інтерпретація даних обробки, встановлення норм тесту і створення шкали для оцінки отриманих результаті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Стандартизованим вимогам повною мірою повинні відповідати тести підсумкового контролю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Поточні та тематичні тести не вимагають дотримання всіх ум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Експертиза тестових матеріалів – найважливіший етап конструювання те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Аналіз змісту окремих завдань за такими параметрами (за А.М. Майоровим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Доцільні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Застосування мов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Інформаці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Питання і відповіді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Варіанти відповіді (для закритих завдань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Застосування контекст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ідготовка узагальнюючих висновків та рекомендацій з покращення змісту те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Експертизу тестових завдань і тестів в навчальному закладі можуть виконувати методист та керівники ШМО, завідувачі кафедр тощо  відповідно до тематики тестів, після якої тестові завдання можуть бути включені в загальну базу тестів навчального закла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Без експертизи до неї можуть бути включені лише тестові завдання, рекомендовані центрами тестування, оскільки вони вже пройшли апробацію та експертиз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оцільні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Чи можна зрозуміти з завдання, який предмет, навички або уміння перевіряються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Чи можна відповісти на питання, застосовуючи інші навички на відміну від того, який потрібний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Чи є в завданні якась пастка або головоломка, тобто чи являє він собою неістотну проблему? Чи зможуть учні легко відповісти правильно на завдання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Чи має завдання достатній ступінь складності для даного типу школ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Чи не збільшується ступінь складності завдань зайвою інформацією? Чи відповідає тип завдання меті тесту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Чи прийнятий ступінь складності тесту в цілому для даного типу школ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Чи відповідає тест в цілому цілям тестування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Застосування мов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Чи сформульовано завдання відповідно до граматичних правил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Чи містить завдання ускладнений синтаксис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Чи містить завдання подвійне заперечення? Чи містить завдання слова, що важко сприймаютьс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Чи містить завдання потрібні позиції в дужках? Чи є необхідність формулювати завдання негативно? Чи не може виклад завдання призвести до утруднення розумінн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Чи є небезпека значного спотворення сенсу через зміщення наголос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Інформаці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Чи містить завдання достатній обсяг інформації для правильної відповіді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Чи достатньо інформації в завданні для отримання відповіді тієї довжини і форми, які вимагаютьс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Чи чітко викладені питання та їх підпункти? Чи зрозуміло і чи послідовно представлений цифровий порядок питань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Чи дотримуються правила, що діють, при використанні символів, пунктуації тощ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Чи перевірені таблиці, графіки, діаграми, малюнки тощо на наявність помилок? Чи правильні виноски в завданнях до текстів, креслень, таблиць тощ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едагогічна діагностика та внутрішньошкільний контроль навчальних досягнень учн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Педагогічна діагностика – єдина дидактична та методична система перевірочної діяльності, спрямованої на виявлення результатів навчального процесу й на підвищення його ефективності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Бали – числові аналоги оціночних суджень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итання і відповід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Прочитайте і дайте відповідь на питання бз використання альтернативних варіанті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Чи відповідає ваша відповідь ключу, даному до питанн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Чи є ваша правильна відповідь серед варіантів відповідей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Чи немає більше однієї правильної відповіді серед варіантів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Чи є інші правильні відповіді, крім тих, що наведено серед альтернатив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аріанти відповіді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(для закритих завдань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и вірогідна кожна з альтернатив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и вільний ключ від повторення, взятого з питання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и використовується в завданні такі слова, як “завжди” або “ніколи”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и вільне поєднання питання і альтернативних відповідей від подвійного заперечення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и немає варіантів, що взаємно включають одне одного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и є варіанти відповіді приблизно однієї довжин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и є варіанти відповіді граматично і схематично прийнятими продовженнями питання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и можна зрозуміти варіант відповіді без читання інших варіантів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и розміщені варіанти відповіді в алфавітній або логічній послідовності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и достатньо відрізняються один від одного наявні варіанти відповіді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астосування контекст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Чи є функціональним використання малюнків, діаграм тощо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Чи зрозумілі малюнки, діаграми, креслення тощо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Чи акуратно зроблені кресленн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Чи всі підписи (пояснення) до малюнків, діаграм, креслень тощо є чіткими, відповідними і зрозумілим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Чи не містить доданий текст зайву інформацію або натяк на правильну відповідь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Аналіз якості змісту всього тесту, його декількох паралельних варіант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М.Б. Челишкова формулює три критерії, яким повинен відповідати якісний тест, а сам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Повнота охоплювання вимог до рівня підготовки учнів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Правильність пропорцій змісту тесту відповідно до обсягу кожного розділу навчального матеріал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Відповідність змісту системи завдань складеній специфіці тес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ритерії якості методу вимірюв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"/>
          <p:cNvSpPr/>
          <p:nvPr/>
        </p:nvSpPr>
        <p:spPr>
          <a:xfrm flipH="1">
            <a:off x="1828440" y="1371600"/>
            <a:ext cx="15238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5"/>
          <p:cNvSpPr/>
          <p:nvPr/>
        </p:nvSpPr>
        <p:spPr>
          <a:xfrm flipH="1">
            <a:off x="3124080" y="1447920"/>
            <a:ext cx="99072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6"/>
          <p:cNvSpPr/>
          <p:nvPr/>
        </p:nvSpPr>
        <p:spPr>
          <a:xfrm>
            <a:off x="4876920" y="1371600"/>
            <a:ext cx="76176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7"/>
          <p:cNvSpPr/>
          <p:nvPr/>
        </p:nvSpPr>
        <p:spPr>
          <a:xfrm>
            <a:off x="5715000" y="1447920"/>
            <a:ext cx="9144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8"/>
          <p:cNvSpPr/>
          <p:nvPr/>
        </p:nvSpPr>
        <p:spPr>
          <a:xfrm>
            <a:off x="152280" y="3124080"/>
            <a:ext cx="2819520" cy="137160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алід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927080" y="4631040"/>
            <a:ext cx="2317320" cy="1024200"/>
          </a:xfrm>
          <a:prstGeom prst="rect">
            <a:avLst/>
          </a:prstGeom>
          <a:solidFill>
            <a:srgbClr val="eaebe9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б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єктивні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Oval 10"/>
          <p:cNvSpPr/>
          <p:nvPr/>
        </p:nvSpPr>
        <p:spPr>
          <a:xfrm>
            <a:off x="5029200" y="4419720"/>
            <a:ext cx="2819520" cy="137160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дій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1"/>
          <p:cNvSpPr/>
          <p:nvPr/>
        </p:nvSpPr>
        <p:spPr>
          <a:xfrm>
            <a:off x="6019920" y="2895480"/>
            <a:ext cx="2819160" cy="137160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оч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Валідні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алідність тесту  - це поняття, яке визначає, що вимірює тест і наскільки якісно це здійснюється (А.Анастазі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оняття валідність використовується для загальної характеристики тесту в аспекті відповідності одержаних результатів меті та вимогам оціню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алідність – це комплексна характеристика, що визначається як параметрами засобу та процедури вимірювання, так і властивостями досліджуваної озна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Валідні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7152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Валідність методу – це відповідність того, що вимірюється цим методом, тому, що він має вимірюва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37152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Валідність методу при вимірюванні успішності навчання можна класифікувати за такими критеріям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995480" indent="-285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алідність зміст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995480" indent="-285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алідність відповідності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995480" indent="-285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алідність прогноз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Валідні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Валідність змісту – це відповідність вимог до зміс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Валідність відповідності – це відповідність результатів вимірювання та оцінювання, одержаним метод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Коефіцієнт валідності дорівнює коефіцієнту кореляції між результатами, одержаними різними методами за однакових умов, і показує, наскільки збігаються результати вимірі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єктивні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Цей критерій показує, наскільки мінімізований вплив су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єктивних факторі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О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єктивність досягається шляхо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тандартизації умов проведення вимірювання, умов оцінювання, умов аналізу результатів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абезпечується за допомогою об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єктивності проведення вимірювання, обєктивності обробки даних та об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єктивності інтерпретації результаті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Надійні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Надійність методу вимірювання визначається ступенем стійкості результаті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Цей показник впливає на точність, з якою можна виміряти ту ч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шу конкретну ознак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Надійність методу залежить від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б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єктивності методу (об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єктивності процедур тестуванн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араметрів інструменту вимірювання (якості тесту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табільності характеристики, що вимірюєть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едагогічна діагностика та внутрішньошкільний контроль навчальних досягнень учн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На відміну від суб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єктивного оцінювання педагогічне вимірювання передбачає проведення об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єктивного кількісного співставлення певної властивості учня, що оцінюється, з деяким еталоном (відповідно до загальноприйнятих критеріїв оцінювання, виключаючи судження особи, що оцінює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едагогічне вимірювання – це процес виявлення відповідності між характеристиками учнів, що оцінюються, і точками емпіричної шкали, в якій відношення між різними оцінками характеристик виражені властивостями числового ряд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Точніст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Коефіцієнт надійності тісно пов’язаний з помилкою вимірювання, яка визначається точністю мето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очність методу визначає мінімальну або систематичну похибку, з якою можна провести вимірювання даним метод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Чим вища точність методу, тим менша помилка під час вимірювання, тим більша надійність цього мето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асифікація навчальних цілей (таксономі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Чіткому визначенню цілей навчання сприяє їх класифікаці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Американські педагоги та психологи з кінця 50-х років ХХ століття упродовж 20-ти років працювали над створенням таксономії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Системи класифікації цілей навчання вимагали розробки цілей у трьох сферах (доменах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ізнавальній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Емоційній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сихомоторні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ізнавальна сфера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(або когнітивний доме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4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Пізнавальна сфера містить цілі, що описують знання та інтелектуальні здібності екзаменованих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609480" y="6094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ксономія цілей навчання являє собою опис цілей навчання у термінах професійної діяльності (поведін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Класифікація навчальних цілей пізнавальної сфери включає шість цілей, розміщених відповідно до складності (розроблено Блумом у 1956 р.)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знання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розуміння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застосування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аналіз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синтез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оцінювання знан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Diagram 5"/>
          <p:cNvGrpSpPr/>
          <p:nvPr/>
        </p:nvGrpSpPr>
        <p:grpSpPr>
          <a:xfrm>
            <a:off x="2400480" y="1983600"/>
            <a:ext cx="4343400" cy="3760920"/>
            <a:chOff x="2400480" y="1983600"/>
            <a:chExt cx="4343400" cy="3760920"/>
          </a:xfrm>
        </p:grpSpPr>
        <p:sp>
          <p:nvSpPr>
            <p:cNvPr id="475" name="_s1028"/>
            <p:cNvSpPr/>
            <p:nvPr/>
          </p:nvSpPr>
          <p:spPr>
            <a:xfrm flipV="1">
              <a:off x="4210200" y="1983240"/>
              <a:ext cx="723600" cy="626760"/>
            </a:xfrm>
            <a:custGeom>
              <a:avLst/>
              <a:gdLst>
                <a:gd name="textAreaLeft" fmla="*/ 259560 w 723600"/>
                <a:gd name="textAreaRight" fmla="*/ 464040 w 723600"/>
                <a:gd name="textAreaTop" fmla="*/ 225000 h 626760"/>
                <a:gd name="textAreaBottom" fmla="*/ 401760 h 62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_s1029"/>
            <p:cNvSpPr/>
            <p:nvPr/>
          </p:nvSpPr>
          <p:spPr>
            <a:xfrm flipV="1">
              <a:off x="3848040" y="2610360"/>
              <a:ext cx="1447920" cy="626760"/>
            </a:xfrm>
            <a:custGeom>
              <a:avLst/>
              <a:gdLst>
                <a:gd name="textAreaLeft" fmla="*/ 318240 w 1447920"/>
                <a:gd name="textAreaRight" fmla="*/ 1129680 w 1447920"/>
                <a:gd name="textAreaTop" fmla="*/ 137880 h 626760"/>
                <a:gd name="textAreaBottom" fmla="*/ 488880 h 62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c33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_s1030"/>
            <p:cNvSpPr/>
            <p:nvPr/>
          </p:nvSpPr>
          <p:spPr>
            <a:xfrm flipV="1">
              <a:off x="3486240" y="3237480"/>
              <a:ext cx="2171520" cy="626760"/>
            </a:xfrm>
            <a:custGeom>
              <a:avLst/>
              <a:gdLst>
                <a:gd name="textAreaLeft" fmla="*/ 376920 w 2171520"/>
                <a:gd name="textAreaRight" fmla="*/ 1794600 w 2171520"/>
                <a:gd name="textAreaTop" fmla="*/ 108720 h 626760"/>
                <a:gd name="textAreaBottom" fmla="*/ 518040 h 62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99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_s1031"/>
            <p:cNvSpPr/>
            <p:nvPr/>
          </p:nvSpPr>
          <p:spPr>
            <a:xfrm flipV="1">
              <a:off x="3124080" y="3864600"/>
              <a:ext cx="2895840" cy="626760"/>
            </a:xfrm>
            <a:custGeom>
              <a:avLst/>
              <a:gdLst>
                <a:gd name="textAreaLeft" fmla="*/ 435600 w 2895840"/>
                <a:gd name="textAreaRight" fmla="*/ 2460240 w 2895840"/>
                <a:gd name="textAreaTop" fmla="*/ 94320 h 626760"/>
                <a:gd name="textAreaBottom" fmla="*/ 532440 h 62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Застосуван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_s1032"/>
            <p:cNvSpPr/>
            <p:nvPr/>
          </p:nvSpPr>
          <p:spPr>
            <a:xfrm flipV="1">
              <a:off x="2762280" y="4491720"/>
              <a:ext cx="3619440" cy="626760"/>
            </a:xfrm>
            <a:custGeom>
              <a:avLst/>
              <a:gdLst>
                <a:gd name="textAreaLeft" fmla="*/ 494280 w 3619440"/>
                <a:gd name="textAreaRight" fmla="*/ 3125160 w 3619440"/>
                <a:gd name="textAreaTop" fmla="*/ 85320 h 626760"/>
                <a:gd name="textAreaBottom" fmla="*/ 541440 h 62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Розумін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_s1033"/>
            <p:cNvSpPr/>
            <p:nvPr/>
          </p:nvSpPr>
          <p:spPr>
            <a:xfrm flipV="1">
              <a:off x="2400480" y="5119560"/>
              <a:ext cx="4343400" cy="624960"/>
            </a:xfrm>
            <a:custGeom>
              <a:avLst/>
              <a:gdLst>
                <a:gd name="textAreaLeft" fmla="*/ 552960 w 4343400"/>
                <a:gd name="textAreaRight" fmla="*/ 3790440 w 4343400"/>
                <a:gd name="textAreaTop" fmla="*/ 79560 h 624960"/>
                <a:gd name="textAreaBottom" fmla="*/ 545400 h 62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0099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Знан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Rectangle 14"/>
          <p:cNvSpPr/>
          <p:nvPr/>
        </p:nvSpPr>
        <p:spPr>
          <a:xfrm>
            <a:off x="5793120" y="3203640"/>
            <a:ext cx="11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налі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5"/>
          <p:cNvSpPr/>
          <p:nvPr/>
        </p:nvSpPr>
        <p:spPr>
          <a:xfrm>
            <a:off x="5564880" y="259380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инт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6"/>
          <p:cNvSpPr/>
          <p:nvPr/>
        </p:nvSpPr>
        <p:spPr>
          <a:xfrm>
            <a:off x="5105520" y="2060640"/>
            <a:ext cx="20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ціню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7"/>
          <p:cNvSpPr/>
          <p:nvPr/>
        </p:nvSpPr>
        <p:spPr>
          <a:xfrm>
            <a:off x="457200" y="457200"/>
            <a:ext cx="5029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івні засвоєння зна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ізнавальна сф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om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956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Verdana"/>
              </a:rPr>
              <a:t>Знання (найпростіший клас)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це здатність запа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ятовувати факти, принципи, процеси в різних предметних галузя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Verdana"/>
              </a:rPr>
              <a:t>Розуміння –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здатність розуміти матеріал, що вивчає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астосування –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атність використання навчального  матеріалу для вірного вирішення аналогічних завдан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Verdana"/>
              </a:rPr>
              <a:t>Аналіз –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здатність структуризувати навчальний матеріал так, щоб була зрозумілою загальна організаційна структу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Verdana"/>
              </a:rPr>
              <a:t>Синтез –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здатність поєднати окремі частини знань з метою отримання цілого, що набуває нової якості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Verdana"/>
              </a:rPr>
              <a:t>Оцінювання –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здатність давати оцінку даному навчальному матеріалу в рамках поставленої ме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собистісна або емоційна сф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Включає цілі, що стосуються емоцій, почуттів, цінностей, позицій та п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зані зі змінами, які відбуваються в ни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Ця сфера поділяється на п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ть основних класів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прийм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реагув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ереконаність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елективність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дивідуальність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Verdana"/>
              </a:rPr>
              <a:t>Сприймання 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– здатність бути уважни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Verdana"/>
              </a:rPr>
              <a:t>Реагування 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– ступінь активності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Verdana"/>
              </a:rPr>
              <a:t>Переконаність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– готовність відстоювати точку зору, вміння вибирати цінності та ідеї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Verdana"/>
              </a:rPr>
              <a:t>Селективність 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– здатність виділяти головн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Verdana"/>
              </a:rPr>
              <a:t>Індивідуальність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– вищий рівень сформованості особистості, що визначається лінією поведін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сихомоторний домен (сфер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Психомоторна сфера п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зан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з рухами, маніпуляціями з матеріалом або о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єктом, а також координацією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Ця сфера є найскладнішою для класифікації, оскільки, за винятком найпростіших рефлексів, усіф інші дії включають пізнавальні та емоційні компоненти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Поділяється на 5 класів відповідно до рівня психомоторних здібност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Перший клас: повторення дії внаслідок спостереження та наслідування – імітаці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Другий клас: дія за інструкцією, що зафіксована в усвідомленому вмінні, – маніпуляці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ретій клас: повноцінне, впевнене (без інструкцій) виконання дії, що контролюється свідомістю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Четвертий клас: вмінн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виконувати сукупність дій з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відомленим контроле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тий клас: вміння виконувати сукупність дій автоматично з повним засвоєнням знан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асифікація форм педагогічного контрол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5"/>
          <p:cNvSpPr/>
          <p:nvPr/>
        </p:nvSpPr>
        <p:spPr>
          <a:xfrm>
            <a:off x="380880" y="1447920"/>
            <a:ext cx="2819520" cy="129528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точ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6"/>
          <p:cNvSpPr/>
          <p:nvPr/>
        </p:nvSpPr>
        <p:spPr>
          <a:xfrm>
            <a:off x="1143000" y="4648320"/>
            <a:ext cx="2819520" cy="129528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убіж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або поетап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7"/>
          <p:cNvSpPr/>
          <p:nvPr/>
        </p:nvSpPr>
        <p:spPr>
          <a:xfrm>
            <a:off x="5943600" y="1600200"/>
            <a:ext cx="2819520" cy="129528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ематич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8"/>
          <p:cNvSpPr/>
          <p:nvPr/>
        </p:nvSpPr>
        <p:spPr>
          <a:xfrm>
            <a:off x="5334120" y="4648320"/>
            <a:ext cx="2819160" cy="129528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сумко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або вихід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9"/>
          <p:cNvSpPr/>
          <p:nvPr/>
        </p:nvSpPr>
        <p:spPr>
          <a:xfrm rot="8567400">
            <a:off x="3200040" y="20570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1"/>
          <p:cNvSpPr/>
          <p:nvPr/>
        </p:nvSpPr>
        <p:spPr>
          <a:xfrm rot="13411800">
            <a:off x="5351400" y="21157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2"/>
          <p:cNvSpPr/>
          <p:nvPr/>
        </p:nvSpPr>
        <p:spPr>
          <a:xfrm rot="2727600">
            <a:off x="2845800" y="3714840"/>
            <a:ext cx="486000" cy="1111320"/>
          </a:xfrm>
          <a:prstGeom prst="downArrow">
            <a:avLst>
              <a:gd name="adj1" fmla="val 50000"/>
              <a:gd name="adj2" fmla="val 57167"/>
            </a:avLst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3"/>
          <p:cNvSpPr/>
          <p:nvPr/>
        </p:nvSpPr>
        <p:spPr>
          <a:xfrm rot="19303200">
            <a:off x="5817960" y="3722400"/>
            <a:ext cx="485640" cy="1066680"/>
          </a:xfrm>
          <a:prstGeom prst="downArrow">
            <a:avLst>
              <a:gd name="adj1" fmla="val 50000"/>
              <a:gd name="adj2" fmla="val 54911"/>
            </a:avLst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4"/>
          <p:cNvSpPr/>
          <p:nvPr/>
        </p:nvSpPr>
        <p:spPr>
          <a:xfrm>
            <a:off x="2819520" y="2819520"/>
            <a:ext cx="3429000" cy="144756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едагогічний 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3" descr=""/>
          <p:cNvPicPr/>
          <p:nvPr/>
        </p:nvPicPr>
        <p:blipFill>
          <a:blip r:embed="rId1"/>
          <a:srcRect l="27779" t="25230" r="6482" b="12546"/>
          <a:stretch/>
        </p:blipFill>
        <p:spPr>
          <a:xfrm>
            <a:off x="380880" y="1447920"/>
            <a:ext cx="8458200" cy="5105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3" descr=""/>
          <p:cNvPicPr/>
          <p:nvPr/>
        </p:nvPicPr>
        <p:blipFill>
          <a:blip r:embed="rId1"/>
          <a:srcRect l="28705" t="25230" r="6482" b="22636"/>
          <a:stretch/>
        </p:blipFill>
        <p:spPr>
          <a:xfrm>
            <a:off x="914400" y="228600"/>
            <a:ext cx="7848720" cy="38862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"/>
          <p:cNvPicPr/>
          <p:nvPr/>
        </p:nvPicPr>
        <p:blipFill>
          <a:blip r:embed="rId2"/>
          <a:srcRect l="28750" t="31250" r="7032" b="32643"/>
          <a:stretch/>
        </p:blipFill>
        <p:spPr>
          <a:xfrm>
            <a:off x="914400" y="4038480"/>
            <a:ext cx="7848720" cy="2438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4" descr=""/>
          <p:cNvPicPr/>
          <p:nvPr/>
        </p:nvPicPr>
        <p:blipFill>
          <a:blip r:embed="rId1"/>
          <a:srcRect l="28126" t="64960" r="7032" b="14584"/>
          <a:stretch/>
        </p:blipFill>
        <p:spPr>
          <a:xfrm>
            <a:off x="304920" y="2057400"/>
            <a:ext cx="8458200" cy="2244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Формати тестових завдань, рекомендовані до застосування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457200" y="1600200"/>
          <a:ext cx="8229600" cy="4802040"/>
        </p:xfrm>
        <a:graphic>
          <a:graphicData uri="http://schemas.openxmlformats.org/drawingml/2006/table">
            <a:tbl>
              <a:tblPr/>
              <a:tblGrid>
                <a:gridCol w="1752480"/>
                <a:gridCol w="6477120"/>
              </a:tblGrid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пис завда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стові завдання з однією найкращою відповідд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стові завдання множинного вибору “правильно-неправильно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стові завдання з декількома найкращими відповідя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стові завдання розширеного вибор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стові завдання логічних пар або визначення відповідност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3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Формат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3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Формат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Форма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3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авдання відкритого тип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333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Лі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Булах І.Є., Мруга М.Р. Створюємо якісний тест: Навч. посіб. - К.: Майстер-клас, - 2006 – 160 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аращенко Л.І. Тестові технології у навчальному закладі: Метод. Посібник/ Л.І. Паращенко, В.Д. Леонський, Г.І. Леонська, Наук. ред. О.І. Ляшенко – К.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ОВ “Майстерня книги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2006 – 217 с. іл. 2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Методичні рекомендації для вчителів та керівників освіти/ Автори упорядники ГУОН ХОДА: В.М. Єжелий, Г.В. Михайленко, ХДПУ ім. Сковороди: С.А. Раков, Л.Є. Гендештейнт, Є.Н. Нелін, Хонмібо: Л.Д. Покроєва, Л.П. Ампілогова, О.О. Байназарова// За ред. І.Ф. Прокопенка, О.Л. Сидоренка, Х.-2001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оточний контр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ійснюється за допомогою усного опитування, письмових контрольних робіт, а також педагогічних тесті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Мета – відслідковувати перебіг процесу навч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Ця форма контролю є найпростішим засобом отримання оперативної інформації про відповідність знань учнів щодо еталонів засвоєння, які планують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озволяє своєчасно здійснити корекцію засвоєння знань, умінь та навичок учнями, надає можливість педагогу правильно побудувати навчальний проце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Тематичний контр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Виявляє ступінь засвоєння розділу чи теми навчальної програ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Мета – отримання достовірної інформації щодо результативності засвоєння учнями фактичного навчального матеріал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Дозволяє педагогу прийняти рішення про необхідність додаткового опрацювання даної теми або про перехід до вивчення наступної те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убіжний (або поетапний) контро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Мета – виявлення результатів певного етапу навчанн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Оцінювання рівня підготовки учнів у такому випадку відбувається у формі заліків за розділами програми, іспитів або тестуванн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3-09T15:34:50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